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63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64.jpeg" ContentType="image/jpeg"/>
  <Override PartName="/ppt/media/image76.wmf" ContentType="image/x-wmf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91.jpeg" ContentType="image/jpeg"/>
  <Override PartName="/ppt/media/image11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112.jpeg" ContentType="image/jpeg"/>
  <Override PartName="/ppt/media/image92.jpeg" ContentType="image/jpeg"/>
  <Override PartName="/ppt/media/image71.wmf" ContentType="image/x-wmf"/>
  <Override PartName="/ppt/media/image65.jpeg" ContentType="image/jpeg"/>
  <Override PartName="/ppt/media/image66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118.wmf" ContentType="image/x-wmf"/>
  <Override PartName="/ppt/media/image77.jpeg" ContentType="image/jpeg"/>
  <Override PartName="/ppt/media/image60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55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ED8-9E3C-47F7-8BDA-598F2C49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3F3-8820-4058-BB4D-6D97DA80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663-FF05-41CE-835C-C6B083E5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409-EE1A-40C3-8543-7B4BC0BE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C9A-69F7-4DFD-AE63-F1BFF3F0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4C3-2C73-4840-B7BA-8E0EFE2F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E91-15BB-44C7-AFFF-9ABB4238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046-592A-4414-BBED-0D535713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DF7-53B5-4AE7-A55C-374C41FA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724-494E-4922-84B9-97D279C9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E60-C5D1-4394-AF29-88937A6A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893-CF90-456C-9D57-89BBA069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8EAB-5DD2-4093-BA83-6A793B5FB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wmf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4D0A-74B1-4C38-9A14-2E85D1C2C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3" name="Freeform 6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бли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лад  директора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итога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010-2011 уч.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эмблема"/>
          <p:cNvPicPr/>
          <p:nvPr/>
        </p:nvPicPr>
        <p:blipFill>
          <a:blip r:embed="rId1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эмблема"/>
          <p:cNvPicPr/>
          <p:nvPr/>
        </p:nvPicPr>
        <p:blipFill>
          <a:blip r:embed="rId2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FC56-00F1-45CB-B601-791FDF7A4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ённое изучение предмет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10-2011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Diagram 7"/>
          <p:cNvGrpSpPr/>
          <p:nvPr/>
        </p:nvGrpSpPr>
        <p:grpSpPr>
          <a:xfrm>
            <a:off x="2354400" y="1916280"/>
            <a:ext cx="6181560" cy="3868920"/>
            <a:chOff x="2354400" y="1916280"/>
            <a:chExt cx="6181560" cy="3868920"/>
          </a:xfrm>
        </p:grpSpPr>
        <p:sp>
          <p:nvSpPr>
            <p:cNvPr id="84" name="_s1028"/>
            <p:cNvSpPr/>
            <p:nvPr/>
          </p:nvSpPr>
          <p:spPr>
            <a:xfrm flipV="1">
              <a:off x="4017960" y="1943280"/>
              <a:ext cx="1108080" cy="960480"/>
            </a:xfrm>
            <a:custGeom>
              <a:avLst/>
              <a:gdLst>
                <a:gd name="textAreaLeft" fmla="*/ 397440 w 1108080"/>
                <a:gd name="textAreaRight" fmla="*/ 710640 w 1108080"/>
                <a:gd name="textAreaTop" fmla="*/ 344520 h 960480"/>
                <a:gd name="textAreaBottom" fmla="*/ 6159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9"/>
            <p:cNvSpPr/>
            <p:nvPr/>
          </p:nvSpPr>
          <p:spPr>
            <a:xfrm flipV="1">
              <a:off x="3463920" y="2903760"/>
              <a:ext cx="2216160" cy="960480"/>
            </a:xfrm>
            <a:custGeom>
              <a:avLst/>
              <a:gdLst>
                <a:gd name="textAreaLeft" fmla="*/ 487080 w 2216160"/>
                <a:gd name="textAreaRight" fmla="*/ 1729080 w 2216160"/>
                <a:gd name="textAreaTop" fmla="*/ 210960 h 960480"/>
                <a:gd name="textAreaBottom" fmla="*/ 7495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0"/>
            <p:cNvSpPr/>
            <p:nvPr/>
          </p:nvSpPr>
          <p:spPr>
            <a:xfrm flipV="1">
              <a:off x="2908440" y="3864240"/>
              <a:ext cx="3327120" cy="960480"/>
            </a:xfrm>
            <a:custGeom>
              <a:avLst/>
              <a:gdLst>
                <a:gd name="textAreaLeft" fmla="*/ 577440 w 3327120"/>
                <a:gd name="textAreaRight" fmla="*/ 2749680 w 3327120"/>
                <a:gd name="textAreaTop" fmla="*/ 166680 h 960480"/>
                <a:gd name="textAreaBottom" fmla="*/ 79380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усски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 чел. (1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1"/>
            <p:cNvSpPr/>
            <p:nvPr/>
          </p:nvSpPr>
          <p:spPr>
            <a:xfrm flipV="1">
              <a:off x="2354400" y="4824720"/>
              <a:ext cx="4435200" cy="960480"/>
            </a:xfrm>
            <a:custGeom>
              <a:avLst/>
              <a:gdLst>
                <a:gd name="textAreaLeft" fmla="*/ 667080 w 4435200"/>
                <a:gd name="textAreaRight" fmla="*/ 3768120 w 4435200"/>
                <a:gd name="textAreaTop" fmla="*/ 144360 h 960480"/>
                <a:gd name="textAreaBottom" fmla="*/ 8161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остранны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23 чел. (78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20" descr=""/>
            <p:cNvPicPr/>
            <p:nvPr/>
          </p:nvPicPr>
          <p:blipFill>
            <a:blip r:embed="rId1"/>
            <a:stretch/>
          </p:blipFill>
          <p:spPr>
            <a:xfrm>
              <a:off x="7020000" y="1916280"/>
              <a:ext cx="1515960" cy="122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D2F9-A00C-40FD-8BD4-B9EB55CF7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ингент обучающихся в 2010-2011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45 человек (+9 че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3 класса-компле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2 мальчика       313 дев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3 %)                 (5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771280" y="3789360"/>
            <a:ext cx="863640" cy="8636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5867280" y="3860640"/>
            <a:ext cx="792360" cy="71928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26FE-7C38-470B-A967-9336F5F2B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до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SDC10846 - копия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SDC10844"/>
          <p:cNvPicPr/>
          <p:nvPr/>
        </p:nvPicPr>
        <p:blipFill>
          <a:blip r:embed="rId2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SDC10848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G_1003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E520-1471-4E93-960D-287616990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SDC11061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SDC1106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BFC7-5370-4293-B9B6-424CF04F6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IMG_0841"/>
          <p:cNvPicPr/>
          <p:nvPr/>
        </p:nvPicPr>
        <p:blipFill>
          <a:blip r:embed="rId1"/>
          <a:stretch/>
        </p:blipFill>
        <p:spPr>
          <a:xfrm>
            <a:off x="179280" y="2133720"/>
            <a:ext cx="4256280" cy="319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MG_0842"/>
          <p:cNvPicPr/>
          <p:nvPr/>
        </p:nvPicPr>
        <p:blipFill>
          <a:blip r:embed="rId2"/>
          <a:stretch/>
        </p:blipFill>
        <p:spPr>
          <a:xfrm>
            <a:off x="4643280" y="2133720"/>
            <a:ext cx="40388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F3A1-3653-4D1B-AF61-6161F0BDF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IMG_092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IMG_0928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0488-071F-42C8-B52F-2AB2F464F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IMG_0929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MG_0930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5B87-8A78-4F81-9F9F-564F0C8EA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IMG_0933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IMG_093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6932-70BF-4595-BA2A-AD07A20ED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активное обору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DSCN6182"/>
          <p:cNvPicPr/>
          <p:nvPr/>
        </p:nvPicPr>
        <p:blipFill>
          <a:blip r:embed="rId1"/>
          <a:stretch/>
        </p:blipFill>
        <p:spPr>
          <a:xfrm>
            <a:off x="457200" y="2557440"/>
            <a:ext cx="4038480" cy="261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DSCN6188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E135-EBEA-49A0-9C06-873F1D6418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ые 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SDC1080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SDC107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SDC10789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SDC1079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23DB-B458-45BB-92E1-0E69E017A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бличный докла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 обеспечения информационной открытости гимназии для участников образовательного процесса, населения города, учредителя (админис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Слободск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эмблема"/>
          <p:cNvPicPr/>
          <p:nvPr/>
        </p:nvPicPr>
        <p:blipFill>
          <a:blip r:embed="rId1"/>
          <a:stretch/>
        </p:blipFill>
        <p:spPr>
          <a:xfrm>
            <a:off x="6732720" y="4869000"/>
            <a:ext cx="18046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7FB5-7999-4190-A094-1DC2AF2D4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IMG_094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IMG_0705"/>
          <p:cNvPicPr/>
          <p:nvPr/>
        </p:nvPicPr>
        <p:blipFill>
          <a:blip r:embed="rId2"/>
          <a:stretch/>
        </p:blipFill>
        <p:spPr>
          <a:xfrm>
            <a:off x="4648320" y="2859120"/>
            <a:ext cx="4038480" cy="20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D881-B308-4373-88D0-370804C54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IMG_0848"/>
          <p:cNvPicPr/>
          <p:nvPr/>
        </p:nvPicPr>
        <p:blipFill>
          <a:blip r:embed="rId1"/>
          <a:stretch/>
        </p:blipFill>
        <p:spPr>
          <a:xfrm>
            <a:off x="1274760" y="1600200"/>
            <a:ext cx="240336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IMG_0850"/>
          <p:cNvPicPr/>
          <p:nvPr/>
        </p:nvPicPr>
        <p:blipFill>
          <a:blip r:embed="rId2"/>
          <a:stretch/>
        </p:blipFill>
        <p:spPr>
          <a:xfrm>
            <a:off x="4648320" y="2900520"/>
            <a:ext cx="40384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3039-5C64-4A55-BC68-A164293F2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IMG_0830"/>
          <p:cNvPicPr/>
          <p:nvPr/>
        </p:nvPicPr>
        <p:blipFill>
          <a:blip r:embed="rId1"/>
          <a:stretch/>
        </p:blipFill>
        <p:spPr>
          <a:xfrm>
            <a:off x="900000" y="765000"/>
            <a:ext cx="2287800" cy="3049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IMG_0832"/>
          <p:cNvPicPr/>
          <p:nvPr/>
        </p:nvPicPr>
        <p:blipFill>
          <a:blip r:embed="rId2"/>
          <a:stretch/>
        </p:blipFill>
        <p:spPr>
          <a:xfrm>
            <a:off x="4896000" y="333360"/>
            <a:ext cx="2611440" cy="348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IMG_0831"/>
          <p:cNvPicPr/>
          <p:nvPr/>
        </p:nvPicPr>
        <p:blipFill>
          <a:blip r:embed="rId3"/>
          <a:stretch/>
        </p:blipFill>
        <p:spPr>
          <a:xfrm>
            <a:off x="2195640" y="3662280"/>
            <a:ext cx="2396880" cy="3195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IMG_0833"/>
          <p:cNvPicPr/>
          <p:nvPr/>
        </p:nvPicPr>
        <p:blipFill>
          <a:blip r:embed="rId4"/>
          <a:stretch/>
        </p:blipFill>
        <p:spPr>
          <a:xfrm>
            <a:off x="5148360" y="393372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F461-647D-43E1-8FB7-6B5472A05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IMG_083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IMG_0853"/>
          <p:cNvPicPr/>
          <p:nvPr/>
        </p:nvPicPr>
        <p:blipFill>
          <a:blip r:embed="rId2"/>
          <a:stretch/>
        </p:blipFill>
        <p:spPr>
          <a:xfrm>
            <a:off x="1282680" y="3938760"/>
            <a:ext cx="2387520" cy="2187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IMG_0847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F356-8BA1-4BA6-97D2-A4F11468C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IMG_0846"/>
          <p:cNvPicPr/>
          <p:nvPr/>
        </p:nvPicPr>
        <p:blipFill>
          <a:blip r:embed="rId1"/>
          <a:stretch/>
        </p:blipFill>
        <p:spPr>
          <a:xfrm>
            <a:off x="457200" y="1623960"/>
            <a:ext cx="4038480" cy="2136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IMG_0852"/>
          <p:cNvPicPr/>
          <p:nvPr/>
        </p:nvPicPr>
        <p:blipFill>
          <a:blip r:embed="rId2"/>
          <a:stretch/>
        </p:blipFill>
        <p:spPr>
          <a:xfrm>
            <a:off x="4716360" y="1628640"/>
            <a:ext cx="3346560" cy="250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IMG_0845"/>
          <p:cNvPicPr/>
          <p:nvPr/>
        </p:nvPicPr>
        <p:blipFill>
          <a:blip r:embed="rId3"/>
          <a:stretch/>
        </p:blipFill>
        <p:spPr>
          <a:xfrm>
            <a:off x="324000" y="3417840"/>
            <a:ext cx="3609720" cy="270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IMG_0849"/>
          <p:cNvPicPr/>
          <p:nvPr/>
        </p:nvPicPr>
        <p:blipFill>
          <a:blip r:embed="rId4"/>
          <a:stretch/>
        </p:blipFill>
        <p:spPr>
          <a:xfrm>
            <a:off x="4788000" y="4076640"/>
            <a:ext cx="2252520" cy="25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33C9-DBF1-498A-8350-B2516559D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IMG_0854"/>
          <p:cNvPicPr/>
          <p:nvPr/>
        </p:nvPicPr>
        <p:blipFill>
          <a:blip r:embed="rId1"/>
          <a:stretch/>
        </p:blipFill>
        <p:spPr>
          <a:xfrm>
            <a:off x="468360" y="260280"/>
            <a:ext cx="3957480" cy="2968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IMG_0855"/>
          <p:cNvPicPr/>
          <p:nvPr/>
        </p:nvPicPr>
        <p:blipFill>
          <a:blip r:embed="rId2"/>
          <a:stretch/>
        </p:blipFill>
        <p:spPr>
          <a:xfrm>
            <a:off x="3780000" y="981000"/>
            <a:ext cx="5076720" cy="2811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IMG_0858"/>
          <p:cNvPicPr/>
          <p:nvPr/>
        </p:nvPicPr>
        <p:blipFill>
          <a:blip r:embed="rId3"/>
          <a:stretch/>
        </p:blipFill>
        <p:spPr>
          <a:xfrm>
            <a:off x="5148360" y="39337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IMG_0861"/>
          <p:cNvPicPr/>
          <p:nvPr/>
        </p:nvPicPr>
        <p:blipFill>
          <a:blip r:embed="rId4"/>
          <a:stretch/>
        </p:blipFill>
        <p:spPr>
          <a:xfrm>
            <a:off x="539640" y="355608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0872-B74D-4B80-ABA6-70BB32185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IMG_074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0255-9A76-48B9-A5C3-97D3221F5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мер по модернизации системы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вная страте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ставленная перед системой образования области, заключается в обеспечении возможност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ждому жител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не зависимости от места проживания, социального и имущественного статуса и состояния здоровья получит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чественное и доступное 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любом уровне, которое соответствует потребностям современного общества и требованиям развития эконо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D5AB-F820-49E9-92C8-9A38AAF211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мер по модернизации системы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вышение заработной платы уч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крепление материально-технической базы школ (учебники, мебель, компьютеры, спортивное оборуд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F435-B092-407E-B9DA-2C964E66F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рмативы финанс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42920" y="1827360"/>
          <a:ext cx="7640640" cy="4462200"/>
        </p:xfrm>
        <a:graphic>
          <a:graphicData uri="http://schemas.openxmlformats.org/drawingml/2006/table">
            <a:tbl>
              <a:tblPr/>
              <a:tblGrid>
                <a:gridCol w="1657440"/>
                <a:gridCol w="2808360"/>
                <a:gridCol w="31748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о с 1 сентября 2011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56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0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 4244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69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68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4699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27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99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5772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7AF3-C60C-400D-BBE4-1C038AA01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54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610920" y="0"/>
            <a:ext cx="7272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я г. Слобо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эмблема"/>
          <p:cNvPicPr/>
          <p:nvPr/>
        </p:nvPicPr>
        <p:blipFill>
          <a:blip r:embed="rId1"/>
          <a:stretch/>
        </p:blipFill>
        <p:spPr>
          <a:xfrm>
            <a:off x="6227640" y="4406760"/>
            <a:ext cx="2524320" cy="245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МОУ Гимназия г"/>
          <p:cNvPicPr/>
          <p:nvPr/>
        </p:nvPicPr>
        <p:blipFill>
          <a:blip r:embed="rId2"/>
          <a:stretch/>
        </p:blipFill>
        <p:spPr>
          <a:xfrm>
            <a:off x="250920" y="1413000"/>
            <a:ext cx="619272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9A76-DA3C-4391-9437-BCE1E570A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тивы финансирования 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сентября 2011 года. Ф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370160" y="1827360"/>
          <a:ext cx="7313400" cy="514332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13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226 ру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810 ру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85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77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4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69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938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534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287E-F0A8-474E-A9CE-1E542C3ED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 на 2011-2013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ссия гимназ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в процессе обучения, воспитания, развития, социализации ученика (выпускника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ЧНОГО ЧЕЛОВЕКА, ГРАЖДАНИНА РОССИИ, кото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естен, законопослушен, имеет активную гражданскую пози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ладает совестью, состраданием, толерант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ладеет ключевыми компетентностями, необходимыми для жизни и профессиональной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ладеет современными знаниями, умениями и навы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нкурентоспособ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является патриотом гимн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эмблема"/>
          <p:cNvPicPr/>
          <p:nvPr/>
        </p:nvPicPr>
        <p:blipFill>
          <a:blip r:embed="rId1"/>
          <a:stretch/>
        </p:blipFill>
        <p:spPr>
          <a:xfrm>
            <a:off x="6300720" y="4838760"/>
            <a:ext cx="173196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AE58-43BF-4C06-A107-75E24DC6A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дровы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коллектив – 6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% имеют высше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вое учатся в педагогическом вузе заочно, высшее образование по специальности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рь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6BF6-71D7-42AD-A547-C21730ECB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ов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Organization Chart 10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87" name="_s2052"/>
            <p:cNvCxnSpPr>
              <a:stCxn id="188" idx="0"/>
              <a:endCxn id="189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053"/>
            <p:cNvCxnSpPr>
              <a:stCxn id="191" idx="0"/>
              <a:endCxn id="189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2054"/>
            <p:cNvCxnSpPr>
              <a:stCxn id="193" idx="0"/>
              <a:endCxn id="189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9" name="_s2055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7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едагог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90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сш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3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8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57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рв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58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тор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9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E8DA-518F-4CB1-A425-44C56D111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ж работы педагого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468360" y="162864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75AB-5696-416F-9FC1-909BDA062F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200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служенные учите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Сергеева"/>
          <p:cNvPicPr/>
          <p:nvPr/>
        </p:nvPicPr>
        <p:blipFill>
          <a:blip r:embed="rId2"/>
          <a:stretch/>
        </p:blipFill>
        <p:spPr>
          <a:xfrm>
            <a:off x="826920" y="170028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Копысова - копия"/>
          <p:cNvPicPr/>
          <p:nvPr/>
        </p:nvPicPr>
        <p:blipFill>
          <a:blip r:embed="rId3"/>
          <a:stretch/>
        </p:blipFill>
        <p:spPr>
          <a:xfrm>
            <a:off x="3276720" y="1700280"/>
            <a:ext cx="1582560" cy="2016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IMG 043"/>
          <p:cNvPicPr/>
          <p:nvPr/>
        </p:nvPicPr>
        <p:blipFill>
          <a:blip r:embed="rId4"/>
          <a:stretch/>
        </p:blipFill>
        <p:spPr>
          <a:xfrm>
            <a:off x="5292720" y="162864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" descr="1Двоеглазова ТЛ"/>
          <p:cNvPicPr/>
          <p:nvPr/>
        </p:nvPicPr>
        <p:blipFill>
          <a:blip r:embed="rId5"/>
          <a:stretch/>
        </p:blipFill>
        <p:spPr>
          <a:xfrm>
            <a:off x="1476360" y="4365720"/>
            <a:ext cx="158436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Фото Мурина"/>
          <p:cNvPicPr/>
          <p:nvPr/>
        </p:nvPicPr>
        <p:blipFill>
          <a:blip r:embed="rId6"/>
          <a:stretch/>
        </p:blipFill>
        <p:spPr>
          <a:xfrm>
            <a:off x="4643280" y="436572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8"/>
          <p:cNvSpPr/>
          <p:nvPr/>
        </p:nvSpPr>
        <p:spPr>
          <a:xfrm>
            <a:off x="755640" y="39337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П. Сергеева           Л.А. Копысова       Н.А. Сит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 flipH="1" flipV="1" rot="10800000">
            <a:off x="1114920" y="6307560"/>
            <a:ext cx="532764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Л. Двоеглазова                 Т. Л. М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D597-0DEA-475C-B171-288174C17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курс лучших учителей Кировской области –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PC120057"/>
          <p:cNvPicPr/>
          <p:nvPr/>
        </p:nvPicPr>
        <p:blipFill>
          <a:blip r:embed="rId1"/>
          <a:stretch/>
        </p:blipFill>
        <p:spPr>
          <a:xfrm>
            <a:off x="762120" y="1600200"/>
            <a:ext cx="34272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_Перминова1_1"/>
          <p:cNvPicPr/>
          <p:nvPr/>
        </p:nvPicPr>
        <p:blipFill>
          <a:blip r:embed="rId2"/>
          <a:stretch/>
        </p:blipFill>
        <p:spPr>
          <a:xfrm>
            <a:off x="5076720" y="160020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9"/>
          <p:cNvSpPr/>
          <p:nvPr/>
        </p:nvSpPr>
        <p:spPr>
          <a:xfrm>
            <a:off x="468360" y="6093000"/>
            <a:ext cx="38876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сник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281480" y="6165720"/>
            <a:ext cx="39625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и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мил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4769-D13C-4C39-B141-180929FD13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грудный зна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едагогическая слава» -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эмблема"/>
          <p:cNvPicPr/>
          <p:nvPr/>
        </p:nvPicPr>
        <p:blipFill>
          <a:blip r:embed="rId1"/>
          <a:stretch/>
        </p:blipFill>
        <p:spPr>
          <a:xfrm>
            <a:off x="7236000" y="5084640"/>
            <a:ext cx="1515960" cy="1516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DSC06152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FF6D-1421-431D-B5C5-879748D59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тникова Нина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едитель областного этапа Всероссийского конкурса в области педагогики, воспитания и работы с детьми школьного возраста на соискание премии «За нравственный подвиг учителя» (август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ер  областного конкурса публикаций репортажей, содействующих формированию позитивного образа уч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2" descr="IMG 043"/>
          <p:cNvPicPr/>
          <p:nvPr/>
        </p:nvPicPr>
        <p:blipFill>
          <a:blip r:embed="rId1"/>
          <a:stretch/>
        </p:blipFill>
        <p:spPr>
          <a:xfrm>
            <a:off x="757080" y="1628640"/>
            <a:ext cx="33814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67DD-8593-4C59-84BB-A6B7DFF68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оеглазова Тамара Леонид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 премии Правительства Кировской области для педагогических работников ОУ, подготовивших победителей и призёров заключительного этапа Всероссийской олимпиады школьников в 2011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1" descr="1Двоеглазова ТЛ"/>
          <p:cNvPicPr/>
          <p:nvPr/>
        </p:nvPicPr>
        <p:blipFill>
          <a:blip r:embed="rId1"/>
          <a:stretch/>
        </p:blipFill>
        <p:spPr>
          <a:xfrm>
            <a:off x="746280" y="1268280"/>
            <a:ext cx="30733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0D5D-A0A5-4386-AF07-6404A4FB2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ензия на право осуществления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лицензия новая"/>
          <p:cNvPicPr/>
          <p:nvPr/>
        </p:nvPicPr>
        <p:blipFill>
          <a:blip r:embed="rId1"/>
          <a:stretch/>
        </p:blipFill>
        <p:spPr>
          <a:xfrm>
            <a:off x="920880" y="160020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 действия лицензии – до 21 июня 2016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B159-6EDC-4D12-A3C1-1797A4468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одкина Вера Борис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едитель муниципального этапа конкурса «Учитель года  -201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PC178729"/>
          <p:cNvPicPr/>
          <p:nvPr/>
        </p:nvPicPr>
        <p:blipFill>
          <a:blip r:embed="rId1"/>
          <a:stretch/>
        </p:blipFill>
        <p:spPr>
          <a:xfrm>
            <a:off x="782640" y="1600200"/>
            <a:ext cx="3386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EBD5-4A59-4D41-902A-E4B542E44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рина Тамара Леонид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еда в городском конкурсе «Лучший по профессии» - 2011 в номинации «Лучший педагог общего образова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DSCN0828"/>
          <p:cNvPicPr/>
          <p:nvPr/>
        </p:nvPicPr>
        <p:blipFill>
          <a:blip r:embed="rId1"/>
          <a:stretch/>
        </p:blipFill>
        <p:spPr>
          <a:xfrm>
            <a:off x="457200" y="1620720"/>
            <a:ext cx="4038480" cy="44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9074-DE11-4227-8007-AD480C13C1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бедители городских конкурсов в 2011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DSCN0916 - копия"/>
          <p:cNvPicPr/>
          <p:nvPr/>
        </p:nvPicPr>
        <p:blipFill>
          <a:blip r:embed="rId1"/>
          <a:stretch/>
        </p:blipFill>
        <p:spPr>
          <a:xfrm>
            <a:off x="468360" y="1557360"/>
            <a:ext cx="1839960" cy="2185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P9010086"/>
          <p:cNvPicPr/>
          <p:nvPr/>
        </p:nvPicPr>
        <p:blipFill>
          <a:blip r:embed="rId2"/>
          <a:stretch/>
        </p:blipFill>
        <p:spPr>
          <a:xfrm>
            <a:off x="4978440" y="1628640"/>
            <a:ext cx="1609560" cy="2521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3"/>
          <a:stretch/>
        </p:blipFill>
        <p:spPr>
          <a:xfrm>
            <a:off x="2411280" y="3573360"/>
            <a:ext cx="2181240" cy="328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P9010060"/>
          <p:cNvPicPr/>
          <p:nvPr/>
        </p:nvPicPr>
        <p:blipFill>
          <a:blip r:embed="rId4"/>
          <a:stretch/>
        </p:blipFill>
        <p:spPr>
          <a:xfrm>
            <a:off x="5292720" y="3933720"/>
            <a:ext cx="1935000" cy="25462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3"/>
          <p:cNvSpPr/>
          <p:nvPr/>
        </p:nvSpPr>
        <p:spPr>
          <a:xfrm>
            <a:off x="2751120" y="172080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335320" y="1792440"/>
            <a:ext cx="20383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д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та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7608600" y="1647720"/>
            <a:ext cx="12294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х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525240" y="3952800"/>
            <a:ext cx="15433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аре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7370640" y="3881520"/>
            <a:ext cx="14670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и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4D34-E721-4F68-84C5-567B150F6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врюкова Елена Виктор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плом 1 степени  в областном конкурсе  «Противодействие коррупции через образовани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IMG_7137лена"/>
          <p:cNvPicPr/>
          <p:nvPr/>
        </p:nvPicPr>
        <p:blipFill>
          <a:blip r:embed="rId1"/>
          <a:stretch/>
        </p:blipFill>
        <p:spPr>
          <a:xfrm>
            <a:off x="932040" y="1600200"/>
            <a:ext cx="3087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95A0-6B8D-4A77-A9C9-ABAF75082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ной конкурс школьных газ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зета «Гимназист» - призёр в номинации «Лучший дизайн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DSC06152"/>
          <p:cNvPicPr/>
          <p:nvPr/>
        </p:nvPicPr>
        <p:blipFill>
          <a:blip r:embed="rId1"/>
          <a:stretch/>
        </p:blipFill>
        <p:spPr>
          <a:xfrm>
            <a:off x="611280" y="1628640"/>
            <a:ext cx="2376360" cy="194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P9010094"/>
          <p:cNvPicPr/>
          <p:nvPr/>
        </p:nvPicPr>
        <p:blipFill>
          <a:blip r:embed="rId2"/>
          <a:stretch/>
        </p:blipFill>
        <p:spPr>
          <a:xfrm>
            <a:off x="611280" y="3933720"/>
            <a:ext cx="1295280" cy="2187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0"/>
          <p:cNvSpPr/>
          <p:nvPr/>
        </p:nvSpPr>
        <p:spPr>
          <a:xfrm>
            <a:off x="2927520" y="3952800"/>
            <a:ext cx="14472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3168720" y="1576440"/>
            <a:ext cx="12049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DEDB-07AA-403C-86B1-5F743D9AB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тоусова Татьяна Валер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я в журнале «Английский язык в школе» №2 2011.   (российский уровень) статьи«Использование информационно-коммуникационных технологий в преподавании английского язык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830160" y="1341360"/>
            <a:ext cx="300996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E72D-890D-49A8-AFA3-8D9730D11D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и городских методических объеди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банова Н.Л.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ей 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.П.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ей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хтусова Н.Г. – учителей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рёва Т.Ю. – заместителей директоров по воспитате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анова З.А. – директоров школ и УД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111C-3C9E-407E-A584-A5F6DBB3E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270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ые 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9280" y="155736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математи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льг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русского языка и литерату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эмблема"/>
          <p:cNvPicPr/>
          <p:nvPr/>
        </p:nvPicPr>
        <p:blipFill>
          <a:blip r:embed="rId1"/>
          <a:stretch/>
        </p:blipFill>
        <p:spPr>
          <a:xfrm>
            <a:off x="716436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1" descr="DSC_4325"/>
          <p:cNvPicPr/>
          <p:nvPr/>
        </p:nvPicPr>
        <p:blipFill>
          <a:blip r:embed="rId2"/>
          <a:stretch/>
        </p:blipFill>
        <p:spPr>
          <a:xfrm rot="719400">
            <a:off x="611280" y="1341000"/>
            <a:ext cx="2089080" cy="230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3" descr="DSC06152"/>
          <p:cNvPicPr/>
          <p:nvPr/>
        </p:nvPicPr>
        <p:blipFill>
          <a:blip r:embed="rId3"/>
          <a:stretch/>
        </p:blipFill>
        <p:spPr>
          <a:xfrm>
            <a:off x="971640" y="3933720"/>
            <a:ext cx="2376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5A49-C699-4AA2-BD39-853F90B39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КС для гимназий и лицеев Приволжского федерального окру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дагогическая поддержка одаренности гимназиста на разных ступенях обучения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рель 201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IMG_0144"/>
          <p:cNvPicPr/>
          <p:nvPr/>
        </p:nvPicPr>
        <p:blipFill>
          <a:blip r:embed="rId1"/>
          <a:stretch/>
        </p:blipFill>
        <p:spPr>
          <a:xfrm>
            <a:off x="468360" y="1197000"/>
            <a:ext cx="3489120" cy="261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IMG_0622"/>
          <p:cNvPicPr/>
          <p:nvPr/>
        </p:nvPicPr>
        <p:blipFill>
          <a:blip r:embed="rId2"/>
          <a:stretch/>
        </p:blipFill>
        <p:spPr>
          <a:xfrm>
            <a:off x="4500720" y="1305000"/>
            <a:ext cx="389700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5903-E463-49AF-84C2-3281DC3FD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PA12000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PA120011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PA120005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3A81-155F-41FF-9446-23429C2C9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детельство о государственной аккреди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свидеьельство"/>
          <p:cNvPicPr/>
          <p:nvPr/>
        </p:nvPicPr>
        <p:blipFill>
          <a:blip r:embed="rId1"/>
          <a:stretch/>
        </p:blipFill>
        <p:spPr>
          <a:xfrm>
            <a:off x="905040" y="162864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свидеьельство2"/>
          <p:cNvPicPr/>
          <p:nvPr/>
        </p:nvPicPr>
        <p:blipFill>
          <a:blip r:embed="rId2"/>
          <a:stretch/>
        </p:blipFill>
        <p:spPr>
          <a:xfrm>
            <a:off x="5068800" y="162864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2219-6736-4D56-966B-492238FFC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8" descr="DSCN341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P5120053"/>
          <p:cNvPicPr/>
          <p:nvPr/>
        </p:nvPicPr>
        <p:blipFill>
          <a:blip r:embed="rId2"/>
          <a:stretch/>
        </p:blipFill>
        <p:spPr>
          <a:xfrm>
            <a:off x="5316480" y="1600200"/>
            <a:ext cx="2700360" cy="2185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DSCN3384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16F9-EB46-4C5E-BCDF-12D10E10E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IMG_064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IMG_0660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MG_0678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68D0-10DE-4CF0-BC06-322B54B6D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IMG_0029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DSCN6235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DSCN6241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2B64-380D-48FE-AB7B-FFBE8719C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учеб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-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ваемость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знаний (на «4» и «5»)- 71,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A424-3D24-45EA-81E6-0F735E858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вае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1 класс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6% (+2%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%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 (+10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1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%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% (-2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45F5-5F98-4F58-8851-0744A58B9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ие результаты по качеству зн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а класс, выпуск (тьютор О.Ю. Михеева) – 10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б класс (тьютор Н.Н. Фетисова) – 96 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б класс (тьютор О.А. Ячменникова) – 96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б класс (тьютор В.Б. Колодкина) – 92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а класс (тьютор Н.В. Аботурова) – 88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а класс (тьютор Т.А. Колесникова) – 85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а  класс (тьютор М.Ю. Жукова)  - 79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а класс (тьютор И.В. Емельянова) – 79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ом высокие результаты в начальной школе – от 76% до 96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356C-D0B2-43D5-B6E9-B9E1F9CD1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ие результа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качеству знаний  при хорошем учебном потенциал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б классе (тьютор А.В. Зверева) – 46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а классе (тьютор Н.А. Старикова) – 46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а классе (тьютор С.Е. Волоскова) – 40%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7C9E-A2A5-4474-B831-D2D572355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шие результаты по качеству знаний по предмету, изучаемому углублен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8б класс, учитель З.П. Сергеева – 8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остранный язы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5б класс, учителя М.Ю. Жукова, Т.В. Криницына, А.А. Рысева – 92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0а класс, учителя Т.В. Чистоусова, Р.А. Быкова, И.Ю. Сухотина – 90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6а класс, учителя М.Ю. Жукова, Т.В. Криницына, Н.Л. Лобанова – 88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5а класс, учителя М.Ю. Жукова, Т.В. Криницына, А.А. Рысева – 7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7а класс, учителя Г.Н. Шкаредная, Н.Л. Лобанова – 79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AD49-5F46-4591-AC91-E39D6EB9E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целом по  иностранному языку, изучаемому углубленно, индекс качества знаний по предмету – 74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по профилирующему предмету в 8ав классах индекс качества знаний только 46% и 48% соответ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B838-0B63-4E86-B5BB-B10847868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49 выпускников получили аттестаты, 1 из них с отлич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 (63%) – только с отметками «4» и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3B31-5556-4CAC-9E82-1F1960156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SDC10888"/>
          <p:cNvPicPr/>
          <p:nvPr/>
        </p:nvPicPr>
        <p:blipFill>
          <a:blip r:embed="rId1"/>
          <a:stretch/>
        </p:blipFill>
        <p:spPr>
          <a:xfrm>
            <a:off x="457200" y="1693800"/>
            <a:ext cx="4038480" cy="433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IMG_0853"/>
          <p:cNvPicPr/>
          <p:nvPr/>
        </p:nvPicPr>
        <p:blipFill>
          <a:blip r:embed="rId2"/>
          <a:stretch/>
        </p:blipFill>
        <p:spPr>
          <a:xfrm>
            <a:off x="4500720" y="1660680"/>
            <a:ext cx="4181400" cy="43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C222-291F-46B8-B628-63DAAA242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класса 201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ые экзам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й язык –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 (бланковая технология)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«4» и «5» - 70,8 % (1 место в городе), из них только на «5» - 23 человека (48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ыполнении экзамена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твердили годовые отметки – 27 чел. (56,25%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ысили годовые отметки – 17 чел. (35,5%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лучили отметку ниже годовой – 4 чел. (8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6ADB-32AE-40A7-A847-0A72C5C7B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 – единый государственный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– математика,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3E57-0C1D-4F7D-B8E0-194830A46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востребованы как предметы по выбо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ознание – 20 чел. (43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ка – 15 чел. (3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– 13 чел. (28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я – 12 чел. (24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а – 10 чел. (2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EB27-916C-4573-8563-8801E3976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1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ыпускники гимназии сдали обязательный экзамен по математике (учителя И.К. Падерина, Е.В. Соловьева)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балл по гимназии – 5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ервое место среди школ города Слобод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ель гимназии выше среднегородского (49,6 б.), среднего по Северному образовательному округу (48,73 б.), среднеобластного (49,61 б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4E78-63B3-4D27-9D57-B17623106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1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ий балл по гимназии – 74,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009-2010 уч. год - 70,2 балл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место среди школ города Слободского. Показатель гимназии выше среднегородского (65,9 б.), среднего по Северному образовательному округу (64,3 б.), среднеобластного (65,76 б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6F37-8BA3-472F-BBBD-3012385AC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сты – 2011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ыпускников (25,5%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 золо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- серебря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ты с отметками «4» и «5» получили 37 из 47 выпускников (79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2552-12B9-4E4A-B1AF-A79A09B21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Organization Chart 6"/>
          <p:cNvGrpSpPr/>
          <p:nvPr/>
        </p:nvGrpSpPr>
        <p:grpSpPr>
          <a:xfrm>
            <a:off x="442800" y="1614600"/>
            <a:ext cx="8208360" cy="4462560"/>
            <a:chOff x="442800" y="1614600"/>
            <a:chExt cx="8208360" cy="4462560"/>
          </a:xfrm>
        </p:grpSpPr>
        <p:cxnSp>
          <p:nvCxnSpPr>
            <p:cNvPr id="346" name="_s4100"/>
            <p:cNvCxnSpPr>
              <a:stCxn id="347" idx="0"/>
              <a:endCxn id="348" idx="2"/>
            </p:cNvCxnSpPr>
            <p:nvPr/>
          </p:nvCxnSpPr>
          <p:spPr>
            <a:xfrm flipV="1" rot="16200000">
              <a:off x="5536800" y="24084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9" name="_s4101"/>
            <p:cNvCxnSpPr>
              <a:stCxn id="350" idx="0"/>
              <a:endCxn id="348" idx="2"/>
            </p:cNvCxnSpPr>
            <p:nvPr/>
          </p:nvCxnSpPr>
          <p:spPr>
            <a:xfrm flipV="1">
              <a:off x="4547160" y="33987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1" name="_s4102"/>
            <p:cNvCxnSpPr>
              <a:stCxn id="352" idx="0"/>
              <a:endCxn id="348" idx="2"/>
            </p:cNvCxnSpPr>
            <p:nvPr/>
          </p:nvCxnSpPr>
          <p:spPr>
            <a:xfrm flipH="1" flipV="1" rot="5400000">
              <a:off x="2664000" y="24087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8" name="_s4103"/>
            <p:cNvSpPr/>
            <p:nvPr/>
          </p:nvSpPr>
          <p:spPr>
            <a:xfrm>
              <a:off x="3315600" y="16146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7 выпускн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4104"/>
            <p:cNvSpPr/>
            <p:nvPr/>
          </p:nvSpPr>
          <p:spPr>
            <a:xfrm>
              <a:off x="4428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3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 УЗ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4105"/>
            <p:cNvSpPr/>
            <p:nvPr/>
          </p:nvSpPr>
          <p:spPr>
            <a:xfrm>
              <a:off x="33156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лледж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4106"/>
            <p:cNvSpPr/>
            <p:nvPr/>
          </p:nvSpPr>
          <p:spPr>
            <a:xfrm>
              <a:off x="618876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рм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6"/>
          <p:cNvSpPr/>
          <p:nvPr/>
        </p:nvSpPr>
        <p:spPr>
          <a:xfrm>
            <a:off x="3079440" y="6184800"/>
            <a:ext cx="453312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упление в ВУЗы, колледжи – 9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6C6C-40A7-4325-9CD1-E29C670773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иональный этап Всероссийской олимпиады школьников -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призовых мест на областном уров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пылов К., учитель Т.Л. Двоегла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опылов К., учитель Н.Г. Пахтус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Х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ентина Е., учитель Н.В. Аботу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е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орсенюк А., учитель Т.Ю. Пушка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ы православной куль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нисимов Е., учитель Л.Г. Кайс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831F-6781-4375-87B0-585720082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лючительный этап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ключительном (всероссийском)  этапе олимпиады приняли участие 3 гимназиста (Копылов К., Анисимов Е., Пентина Е.), два из них - Копылов К. (химия), Анисимов Е. (Основы православной культуры) – призё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гимназии Н. Иванькович участвовала в олимпиаде школьников по праву Московской государтсвенной юридической академии им. О.Е. Кутафина, где заняла 8 место (вошла в число победителей) из 625 участников из школ России. Именно по итогам олимпиады Наталья Иванькович была зачислена в число студентов академии на бюджетное место в 2011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7447-7761-4EED-81C5-2DABFC250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работы  по 6 позиц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общест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знан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екрасн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81F9-A8DF-4147-A936-6A36D4026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ство к действию для педагогического коллектива гимназии на 2011-2013 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стратегические и тактические цели, а также задачи развития гимназии на данный период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основные направления политики гимназии в связи с социальным заказом и прогнозом его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эмблема"/>
          <p:cNvPicPr/>
          <p:nvPr/>
        </p:nvPicPr>
        <p:blipFill>
          <a:blip r:embed="rId1"/>
          <a:stretch/>
        </p:blipFill>
        <p:spPr>
          <a:xfrm>
            <a:off x="7308720" y="5157720"/>
            <a:ext cx="14432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C506-AB3D-48F2-9C28-45A26BC83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1" descr="5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1024"/>
          <p:cNvPicPr/>
          <p:nvPr/>
        </p:nvPicPr>
        <p:blipFill>
          <a:blip r:embed="rId2"/>
          <a:stretch/>
        </p:blipFill>
        <p:spPr>
          <a:xfrm>
            <a:off x="1019160" y="3938760"/>
            <a:ext cx="2914560" cy="21873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8" descr="7"/>
          <p:cNvPicPr/>
          <p:nvPr/>
        </p:nvPicPr>
        <p:blipFill>
          <a:blip r:embed="rId3"/>
          <a:stretch/>
        </p:blipFill>
        <p:spPr>
          <a:xfrm>
            <a:off x="457200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D9FD-218C-4EF5-AE81-15F1FA63E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апреля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9" descr="IMG_060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IMG_0612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3" descr="IMG_0603"/>
          <p:cNvPicPr/>
          <p:nvPr/>
        </p:nvPicPr>
        <p:blipFill>
          <a:blip r:embed="rId3"/>
          <a:stretch/>
        </p:blipFill>
        <p:spPr>
          <a:xfrm>
            <a:off x="4938840" y="1600200"/>
            <a:ext cx="3456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E6AA-6358-4EA9-89C4-ACADCF76F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" descr="3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D9A7-1D0A-4CE3-A101-86917A394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7" descr="DSC_0009"/>
          <p:cNvPicPr/>
          <p:nvPr/>
        </p:nvPicPr>
        <p:blipFill>
          <a:blip r:embed="rId1"/>
          <a:stretch/>
        </p:blipFill>
        <p:spPr>
          <a:xfrm>
            <a:off x="755640" y="1197000"/>
            <a:ext cx="2076480" cy="3095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8" descr="PA060005"/>
          <p:cNvPicPr/>
          <p:nvPr/>
        </p:nvPicPr>
        <p:blipFill>
          <a:blip r:embed="rId2"/>
          <a:stretch/>
        </p:blipFill>
        <p:spPr>
          <a:xfrm>
            <a:off x="53964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9" descr="посвящение в читатели2"/>
          <p:cNvPicPr/>
          <p:nvPr/>
        </p:nvPicPr>
        <p:blipFill>
          <a:blip r:embed="rId3"/>
          <a:stretch/>
        </p:blipFill>
        <p:spPr>
          <a:xfrm>
            <a:off x="5254560" y="1341360"/>
            <a:ext cx="3889440" cy="2755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1" descr="PA060007"/>
          <p:cNvPicPr/>
          <p:nvPr/>
        </p:nvPicPr>
        <p:blipFill>
          <a:blip r:embed="rId4"/>
          <a:stretch/>
        </p:blipFill>
        <p:spPr>
          <a:xfrm>
            <a:off x="3635280" y="3706920"/>
            <a:ext cx="345600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598A-EC1A-40CA-8B4D-77C03421A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IMG_0756"/>
          <p:cNvPicPr/>
          <p:nvPr/>
        </p:nvPicPr>
        <p:blipFill>
          <a:blip r:embed="rId1"/>
          <a:stretch/>
        </p:blipFill>
        <p:spPr>
          <a:xfrm>
            <a:off x="395280" y="1628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IMG_0703"/>
          <p:cNvPicPr/>
          <p:nvPr/>
        </p:nvPicPr>
        <p:blipFill>
          <a:blip r:embed="rId2"/>
          <a:stretch/>
        </p:blipFill>
        <p:spPr>
          <a:xfrm>
            <a:off x="4716360" y="3213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DCF9-3E36-4BA8-AEAE-FEBE96C59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3" descr="IMG_0501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IMG_0502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IMG_0522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F707-D820-4D02-8043-22239D474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Изображение 019"/>
          <p:cNvPicPr/>
          <p:nvPr/>
        </p:nvPicPr>
        <p:blipFill>
          <a:blip r:embed="rId1"/>
          <a:stretch/>
        </p:blipFill>
        <p:spPr>
          <a:xfrm>
            <a:off x="622440" y="1600200"/>
            <a:ext cx="3706560" cy="2185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P1030198"/>
          <p:cNvPicPr/>
          <p:nvPr/>
        </p:nvPicPr>
        <p:blipFill>
          <a:blip r:embed="rId2"/>
          <a:stretch/>
        </p:blipFill>
        <p:spPr>
          <a:xfrm>
            <a:off x="5254560" y="1600200"/>
            <a:ext cx="2825640" cy="2185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P5210076"/>
          <p:cNvPicPr/>
          <p:nvPr/>
        </p:nvPicPr>
        <p:blipFill>
          <a:blip r:embed="rId3"/>
          <a:stretch/>
        </p:blipFill>
        <p:spPr>
          <a:xfrm>
            <a:off x="563400" y="3938760"/>
            <a:ext cx="3824280" cy="2187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DSCN4089"/>
          <p:cNvPicPr/>
          <p:nvPr/>
        </p:nvPicPr>
        <p:blipFill>
          <a:blip r:embed="rId4"/>
          <a:stretch/>
        </p:blipFill>
        <p:spPr>
          <a:xfrm>
            <a:off x="4648320" y="4021200"/>
            <a:ext cx="403848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9A59-AA33-4BE7-BABD-066B88007E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1" descr="DSCN3943"/>
          <p:cNvPicPr/>
          <p:nvPr/>
        </p:nvPicPr>
        <p:blipFill>
          <a:blip r:embed="rId1"/>
          <a:stretch/>
        </p:blipFill>
        <p:spPr>
          <a:xfrm>
            <a:off x="2484360" y="148428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DSCN4000"/>
          <p:cNvPicPr/>
          <p:nvPr/>
        </p:nvPicPr>
        <p:blipFill>
          <a:blip r:embed="rId2"/>
          <a:stretch/>
        </p:blipFill>
        <p:spPr>
          <a:xfrm>
            <a:off x="830160" y="3938760"/>
            <a:ext cx="3292560" cy="218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DSCN4038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DSCN4074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A24A-9E8F-4DE7-8939-0377F21C4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трибу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9"/>
          <p:cNvGraphicFramePr/>
          <p:nvPr/>
        </p:nvGraphicFramePr>
        <p:xfrm>
          <a:off x="773280" y="3938760"/>
          <a:ext cx="340488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3938760"/>
                    <a:ext cx="34048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дев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читесь, дерзайте, шагайте впере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мназия к цели нас твердо ведет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1" descr="P9010014"/>
          <p:cNvPicPr/>
          <p:nvPr/>
        </p:nvPicPr>
        <p:blipFill>
          <a:blip r:embed="rId3"/>
          <a:stretch/>
        </p:blipFill>
        <p:spPr>
          <a:xfrm>
            <a:off x="611280" y="907920"/>
            <a:ext cx="273672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FDEF-5660-458A-A91E-7AF0B08102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уппы здоровь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1413000"/>
          <a:ext cx="8229600" cy="5456160"/>
        </p:xfrm>
        <a:graphic>
          <a:graphicData uri="http://schemas.openxmlformats.org/drawingml/2006/table">
            <a:tbl>
              <a:tblPr/>
              <a:tblGrid>
                <a:gridCol w="2602080"/>
                <a:gridCol w="1944360"/>
                <a:gridCol w="1800360"/>
                <a:gridCol w="18828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 учен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 уче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уче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доровые д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4 чел. (14,2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9 чел. (17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8 чел. (16,1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ые отклонения в 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 чел. (44,6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6 чел. (40,7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5 чел. (43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ие заболе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 чел. (40,8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4 чел. (40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 (39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ие заболе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чел. (0,6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чел. (1,3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чел. (1,1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-инвал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чел. (0,4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чел. (0,9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ел. (0,6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38B3-BC47-416A-A7F8-31F577AD8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вные задачи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общей культуры личности обучающихся на основе усвоения обязательного минимума содержания основных общеобразовательных программ, федеральных государственных образовательных стандартов,  их адаптация к жизни в общ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основы для осознанного выбора и последующего освоения профессиональных образовате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гражданственности, трудолюбия, уважения к правам и свободам человека, любви к окружающей природе, Родине, 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BC63-50F7-4BCF-9875-614CB1832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урные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530440"/>
                <a:gridCol w="1800360"/>
                <a:gridCol w="2089080"/>
                <a:gridCol w="1809720"/>
              </a:tblGrid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 учен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 учени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ученико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 чел. (84,1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 (84,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6 чел. (8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пециализирован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 чел. (14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чел. (13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 чел. (15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бождение от практической части физической культур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чел. (1,9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чел. (2,8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чел. (3,1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0793-ADB8-4150-81E9-91C2A49D2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Обеспечение высокого качества гимназического образования на основе системно деятельностного подхода, вариативности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звитие творческой образовательной среды гимназии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 выявления и раскрытия способностей каждого гимнази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2. выявления особо одарённых обучающихся и организация их индивидуального сопровождения, развитие одарё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3. поддержки мотивации личности к познанию, творчеству и тру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4. успешной социализац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FA7F-E0EA-4AF0-9CE8-C6DA9E17D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оздание необходимых условий для сохранения и укрепления здоровья участников образовательного процесса посредством реализации комплексно-целевой программы «Школа здоровья», здоровьесберегающих технологий в образовательном процессе, а также обеспечения здоровых и безопасных условий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Содействие повышению уровня информационно-коммуникационной культуры участников образовательного процесса посредством развития информатизации образовательной среды гимн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Усиление воспитательного потенциала образования через формирование идентичности гражданина России, через  воспитание доверия, толерантности, миролюбия, диалога культур и психологического комфорта, предупреждения и профилактики социальных рис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FC88-291B-49DD-917F-721387335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Развитие общественной составляющей в управлении гимназ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Обеспечение введения федеральных государственных стандартов общего образования второго поко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719F-2C8F-4756-BC27-1BED53A18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28" name="Freeform 5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WordArt 7"/>
          <p:cNvSpPr txBox="1"/>
          <p:nvPr/>
        </p:nvSpPr>
        <p:spPr>
          <a:xfrm>
            <a:off x="1979640" y="2349360"/>
            <a:ext cx="6767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Спасибо за внимание!</a:t>
            </a:r>
            <a:endParaRPr b="1" lang="en-US" sz="1800" spc="1" strike="noStrike">
              <a:ln w="324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96CD-682B-48C9-B095-8DFEEA0AE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Обеспечение высокого качества гимназического образования на основе системно-деятельностного подхода, вариативности обра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Развитие творческой образовательной среды гимназии д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1. выявления и раскрытия способностей каждого гимназис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2. выявления особо одарённых обучающихся и организация их индивидуального сопровождения, развитие одарён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3. поддержки мотивации личности к познанию, творчеству и тру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4. успешной социализации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Создание необходимых условий для сохранения и укрепления здоровья участников образовательного процесса посредством разработки и реализации комплексно-целевой программы «Школа здоровья», здоровьесберегающих технологий в образовательном процессе, а также обеспечения здоровых и безопасных условий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Содействие повышению уровня информационно-коммуникационной культуры участников образовательного процесса посредством развития информатизации образовательной среды гимна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Усиление воспитательного потенциала образования через формирование идентичности гражданина России, через  воспитание доверия, толерантности, миролюбия, диалога культур и психологического комфорта, предупреждения и профилактики социальных рис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Взаимодействие педагогического коллектива с внешним социумом, расширение внешних связей гимназии. Развитие общественной составляющей в управлении гимназ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Оптимизация системы  менеджмента гимна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Обеспечение введения федеральных государственных стандартов общего образования втор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8:53:03Z</dcterms:created>
  <dc:creator>user1</dc:creator>
  <dc:description/>
  <dc:language>en-US</dc:language>
  <cp:lastModifiedBy>Рабочий</cp:lastModifiedBy>
  <dcterms:modified xsi:type="dcterms:W3CDTF">2011-10-24T12:15:28Z</dcterms:modified>
  <cp:revision>48</cp:revision>
  <dc:subject/>
  <dc:title>Слайд 1</dc:title>
</cp:coreProperties>
</file>