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4.jpeg" ContentType="image/jpeg"/>
  <Override PartName="/ppt/media/image76.wmf" ContentType="image/x-wmf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71.wmf" ContentType="image/x-wmf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118.wmf" ContentType="image/x-wmf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990-5A70-4EAF-996C-A46AE265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DD0-1C89-4D46-8F1B-F6DB1D4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925-43F7-4219-9853-3905A941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0C3-8867-4BCE-B57F-92C958A1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ED1-FCF5-4B55-8EEB-5B7C1946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667-4688-4144-B368-0C5872AA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283-7E6E-4C74-AEFE-7A86E56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78-0E92-40C5-903F-5857ACD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385-1197-46A8-B250-EB1786D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21F-4ADC-4B89-876A-F076331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B9F-B8E6-4AC7-BEAE-EBDC585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BF-68CA-4416-AE6D-5B6432C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7EA-9DBF-46C5-98C4-6729D7368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D50-C90F-4ABA-83F6-738280D62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10-2011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эмблема"/>
          <p:cNvPicPr/>
          <p:nvPr/>
        </p:nvPicPr>
        <p:blipFill>
          <a:blip r:embed="rId1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34B8-C2DC-4AF1-9EF5-7EE867873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84" name="_s1028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3 чел. (78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6DB-8936-45E4-B6EC-A8A2D1B21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5 человек (+9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2 мальчика       313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 %)                 (5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CD7-1055-4239-B1FC-C42606E40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до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DC1084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_100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3C3-868F-4338-88F0-E54661575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SDC1106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DC110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66F0-DB67-418A-B58F-11903E13D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0841"/>
          <p:cNvPicPr/>
          <p:nvPr/>
        </p:nvPicPr>
        <p:blipFill>
          <a:blip r:embed="rId1"/>
          <a:stretch/>
        </p:blipFill>
        <p:spPr>
          <a:xfrm>
            <a:off x="179280" y="2133720"/>
            <a:ext cx="425628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G_0842"/>
          <p:cNvPicPr/>
          <p:nvPr/>
        </p:nvPicPr>
        <p:blipFill>
          <a:blip r:embed="rId2"/>
          <a:stretch/>
        </p:blipFill>
        <p:spPr>
          <a:xfrm>
            <a:off x="4643280" y="2133720"/>
            <a:ext cx="40388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5500-5875-47D8-AEBA-A21FF9C41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092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MG_092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E30-0EC8-4A7D-874A-C40412B71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09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0930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E381-8D72-4118-A4B2-5E53C2FF9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IMG_093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9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6A20-5BFC-4742-B2F0-79C66C793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N6182"/>
          <p:cNvPicPr/>
          <p:nvPr/>
        </p:nvPicPr>
        <p:blipFill>
          <a:blip r:embed="rId1"/>
          <a:stretch/>
        </p:blipFill>
        <p:spPr>
          <a:xfrm>
            <a:off x="457200" y="255744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N618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9A2-BCDA-4E47-AA9C-5FC2C628D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20D-497A-402E-8611-9D8609765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C7B0-3FF0-4B40-93CF-36E76C501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_094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705"/>
          <p:cNvPicPr/>
          <p:nvPr/>
        </p:nvPicPr>
        <p:blipFill>
          <a:blip r:embed="rId2"/>
          <a:stretch/>
        </p:blipFill>
        <p:spPr>
          <a:xfrm>
            <a:off x="4648320" y="2859120"/>
            <a:ext cx="40384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B47-3259-471A-8C62-C018830C7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0848"/>
          <p:cNvPicPr/>
          <p:nvPr/>
        </p:nvPicPr>
        <p:blipFill>
          <a:blip r:embed="rId1"/>
          <a:stretch/>
        </p:blipFill>
        <p:spPr>
          <a:xfrm>
            <a:off x="1274760" y="1600200"/>
            <a:ext cx="240336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0850"/>
          <p:cNvPicPr/>
          <p:nvPr/>
        </p:nvPicPr>
        <p:blipFill>
          <a:blip r:embed="rId2"/>
          <a:stretch/>
        </p:blipFill>
        <p:spPr>
          <a:xfrm>
            <a:off x="4648320" y="2900520"/>
            <a:ext cx="40384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0BD-5AC1-4F2F-AB3D-856FC3E81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_0830"/>
          <p:cNvPicPr/>
          <p:nvPr/>
        </p:nvPicPr>
        <p:blipFill>
          <a:blip r:embed="rId1"/>
          <a:stretch/>
        </p:blipFill>
        <p:spPr>
          <a:xfrm>
            <a:off x="900000" y="765000"/>
            <a:ext cx="2287800" cy="304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0832"/>
          <p:cNvPicPr/>
          <p:nvPr/>
        </p:nvPicPr>
        <p:blipFill>
          <a:blip r:embed="rId2"/>
          <a:stretch/>
        </p:blipFill>
        <p:spPr>
          <a:xfrm>
            <a:off x="4896000" y="333360"/>
            <a:ext cx="261144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MG_0831"/>
          <p:cNvPicPr/>
          <p:nvPr/>
        </p:nvPicPr>
        <p:blipFill>
          <a:blip r:embed="rId3"/>
          <a:stretch/>
        </p:blipFill>
        <p:spPr>
          <a:xfrm>
            <a:off x="2195640" y="3662280"/>
            <a:ext cx="239688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0833"/>
          <p:cNvPicPr/>
          <p:nvPr/>
        </p:nvPicPr>
        <p:blipFill>
          <a:blip r:embed="rId4"/>
          <a:stretch/>
        </p:blipFill>
        <p:spPr>
          <a:xfrm>
            <a:off x="5148360" y="3933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AD4-02FB-4C14-B3E3-FD0D297D4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MG_083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0853"/>
          <p:cNvPicPr/>
          <p:nvPr/>
        </p:nvPicPr>
        <p:blipFill>
          <a:blip r:embed="rId2"/>
          <a:stretch/>
        </p:blipFill>
        <p:spPr>
          <a:xfrm>
            <a:off x="1282680" y="3938760"/>
            <a:ext cx="2387520" cy="218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IMG_084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B588-A4BA-4786-B0D3-0C7F73DA7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IMG_0846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213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0852"/>
          <p:cNvPicPr/>
          <p:nvPr/>
        </p:nvPicPr>
        <p:blipFill>
          <a:blip r:embed="rId2"/>
          <a:stretch/>
        </p:blipFill>
        <p:spPr>
          <a:xfrm>
            <a:off x="4716360" y="162864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G_0845"/>
          <p:cNvPicPr/>
          <p:nvPr/>
        </p:nvPicPr>
        <p:blipFill>
          <a:blip r:embed="rId3"/>
          <a:stretch/>
        </p:blipFill>
        <p:spPr>
          <a:xfrm>
            <a:off x="324000" y="341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_0849"/>
          <p:cNvPicPr/>
          <p:nvPr/>
        </p:nvPicPr>
        <p:blipFill>
          <a:blip r:embed="rId4"/>
          <a:stretch/>
        </p:blipFill>
        <p:spPr>
          <a:xfrm>
            <a:off x="4788000" y="4076640"/>
            <a:ext cx="225252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139A-3BCC-45CF-A128-F15B78FB9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MG_0854"/>
          <p:cNvPicPr/>
          <p:nvPr/>
        </p:nvPicPr>
        <p:blipFill>
          <a:blip r:embed="rId1"/>
          <a:stretch/>
        </p:blipFill>
        <p:spPr>
          <a:xfrm>
            <a:off x="468360" y="26028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855"/>
          <p:cNvPicPr/>
          <p:nvPr/>
        </p:nvPicPr>
        <p:blipFill>
          <a:blip r:embed="rId2"/>
          <a:stretch/>
        </p:blipFill>
        <p:spPr>
          <a:xfrm>
            <a:off x="3780000" y="981000"/>
            <a:ext cx="5076720" cy="281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IMG_0858"/>
          <p:cNvPicPr/>
          <p:nvPr/>
        </p:nvPicPr>
        <p:blipFill>
          <a:blip r:embed="rId3"/>
          <a:stretch/>
        </p:blipFill>
        <p:spPr>
          <a:xfrm>
            <a:off x="5148360" y="3933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IMG_0861"/>
          <p:cNvPicPr/>
          <p:nvPr/>
        </p:nvPicPr>
        <p:blipFill>
          <a:blip r:embed="rId4"/>
          <a:stretch/>
        </p:blipFill>
        <p:spPr>
          <a:xfrm>
            <a:off x="539640" y="35560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6B1-6E74-472E-87BA-CE52FDC24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IMG_074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9202-EC5A-4589-B554-E2240CB69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страте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ая перед системой образования области, заключается в обеспечении возможно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ому жит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 зависимости от места проживания, социального и имущественного статуса и состояния здоровья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чественное и доступно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любом уровне, которое соответствует потребностям современного общества и требованиям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139-2B10-46C5-AA84-268FE307D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ышение заработной платы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репление материально-технической базы школ (учебники, мебель, компьютеры, спортивное обору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A8A-6BCA-44F2-9399-0F641313A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1827360"/>
          <a:ext cx="7640640" cy="4462200"/>
        </p:xfrm>
        <a:graphic>
          <a:graphicData uri="http://schemas.openxmlformats.org/drawingml/2006/table">
            <a:tbl>
              <a:tblPr/>
              <a:tblGrid>
                <a:gridCol w="1657440"/>
                <a:gridCol w="2808360"/>
                <a:gridCol w="3174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с 1 сентября 2011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6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 4244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6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4699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7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9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5772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FAD-B6B1-402A-A8BB-1D1188492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4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эмблема"/>
          <p:cNvPicPr/>
          <p:nvPr/>
        </p:nvPicPr>
        <p:blipFill>
          <a:blip r:embed="rId1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МОУ Гимназия г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9B7-2DC8-4591-B153-C8C72FCC8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финансирования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сентября 2011 года. Ф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0160" y="1827360"/>
          <a:ext cx="7313400" cy="51433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3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226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810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5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7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4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69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938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534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55B-3A53-4FB3-BCAF-C76E3B751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гимна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в процессе обучения, воспитания, развития, социализации ученика (выпускник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ЧНОГО ЧЕЛОВЕКА, ГРАЖДАНИНА РОССИИ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стен, законопослушен, имеет активную гражданскую пози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ет совестью, состраданием, толерант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ключевыми компетентностями, необходимыми для жизни и профессиональной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современными знаниями, умениями и навы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урентоспособ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является патриотом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эмблема"/>
          <p:cNvPicPr/>
          <p:nvPr/>
        </p:nvPicPr>
        <p:blipFill>
          <a:blip r:embed="rId1"/>
          <a:stretch/>
        </p:blipFill>
        <p:spPr>
          <a:xfrm>
            <a:off x="6300720" y="4838760"/>
            <a:ext cx="17319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86F-57E7-4C48-964B-7E616FA41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15C-5229-420D-9BFA-7EC3049BF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7" name="_s2052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4"/>
            <p:cNvCxnSpPr>
              <a:stCxn id="193" idx="0"/>
              <a:endCxn id="18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9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7CC6-3129-47FD-965A-06BE35850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6836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5347-2458-478D-BD87-9F11227E3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0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Сергеева"/>
          <p:cNvPicPr/>
          <p:nvPr/>
        </p:nvPicPr>
        <p:blipFill>
          <a:blip r:embed="rId2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опысова - копия"/>
          <p:cNvPicPr/>
          <p:nvPr/>
        </p:nvPicPr>
        <p:blipFill>
          <a:blip r:embed="rId3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MG 043"/>
          <p:cNvPicPr/>
          <p:nvPr/>
        </p:nvPicPr>
        <p:blipFill>
          <a:blip r:embed="rId4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1Двоеглазова ТЛ"/>
          <p:cNvPicPr/>
          <p:nvPr/>
        </p:nvPicPr>
        <p:blipFill>
          <a:blip r:embed="rId5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Фото Мурина"/>
          <p:cNvPicPr/>
          <p:nvPr/>
        </p:nvPicPr>
        <p:blipFill>
          <a:blip r:embed="rId6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B4E-0853-4DBF-B668-D2F6B26B9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лучших учителей Кировской области –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C120057"/>
          <p:cNvPicPr/>
          <p:nvPr/>
        </p:nvPicPr>
        <p:blipFill>
          <a:blip r:embed="rId1"/>
          <a:stretch/>
        </p:blipFill>
        <p:spPr>
          <a:xfrm>
            <a:off x="762120" y="1600200"/>
            <a:ext cx="34272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_Перминова1_1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468360" y="609300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281480" y="616572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0793-AD61-47B2-962B-136220178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удный зна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дагогическая слава»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084640"/>
            <a:ext cx="1515960" cy="151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SC0615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A811-A8AC-45FB-9C94-6B8FC6662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ь областного этапа Всероссийского конкурса в области педагогики, воспитания и работы с детьми школьного возраста на соискание премии «За нравственный подвиг учителя» (август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ер  областного конкурса публикаций репортажей, содействующих формированию позитивного образа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IMG 043"/>
          <p:cNvPicPr/>
          <p:nvPr/>
        </p:nvPicPr>
        <p:blipFill>
          <a:blip r:embed="rId1"/>
          <a:stretch/>
        </p:blipFill>
        <p:spPr>
          <a:xfrm>
            <a:off x="757080" y="1628640"/>
            <a:ext cx="3381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330-057D-4751-BD70-7567E3913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глазова Тамара Леонид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премии Правительства Кировской области для педагогических работников ОУ, подготовивших победителей и призёров заключительного этапа Всероссийской олимпиады школьников в 2011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746280" y="1268280"/>
            <a:ext cx="3073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3D28-A020-432D-97CC-6082D1048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231B-2E35-41A5-B3DF-B37F5B0C9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одкина Вера 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муниципального этапа конкурса «Учитель года  -20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PC178729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4D7-C7A3-4984-AB2F-09D5AC4D1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а в городском конкурсе «Лучший по профессии» - 2011 в номинации «Лучший педагог общего образова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SCN0828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44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488-B1C7-4FB4-B1CB-CF6DF9217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дители городских конкурсов в 2011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DSCN0916 - копия"/>
          <p:cNvPicPr/>
          <p:nvPr/>
        </p:nvPicPr>
        <p:blipFill>
          <a:blip r:embed="rId1"/>
          <a:stretch/>
        </p:blipFill>
        <p:spPr>
          <a:xfrm>
            <a:off x="468360" y="1557360"/>
            <a:ext cx="183996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9010086"/>
          <p:cNvPicPr/>
          <p:nvPr/>
        </p:nvPicPr>
        <p:blipFill>
          <a:blip r:embed="rId2"/>
          <a:stretch/>
        </p:blipFill>
        <p:spPr>
          <a:xfrm>
            <a:off x="4978440" y="1628640"/>
            <a:ext cx="1609560" cy="252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P9010060"/>
          <p:cNvPicPr/>
          <p:nvPr/>
        </p:nvPicPr>
        <p:blipFill>
          <a:blip r:embed="rId4"/>
          <a:stretch/>
        </p:blipFill>
        <p:spPr>
          <a:xfrm>
            <a:off x="5292720" y="3933720"/>
            <a:ext cx="1935000" cy="2546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75112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35320" y="1792440"/>
            <a:ext cx="2038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608600" y="1647720"/>
            <a:ext cx="12294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25240" y="3952800"/>
            <a:ext cx="1543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аре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370640" y="3881520"/>
            <a:ext cx="146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0213-52D9-4BC8-82E2-B33BF8FF2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рюкова Елен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 1 степени  в областном конкурсе  «Противодействие коррупции через образ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IMG_7137лена"/>
          <p:cNvPicPr/>
          <p:nvPr/>
        </p:nvPicPr>
        <p:blipFill>
          <a:blip r:embed="rId1"/>
          <a:stretch/>
        </p:blipFill>
        <p:spPr>
          <a:xfrm>
            <a:off x="932040" y="1600200"/>
            <a:ext cx="3087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416-2DBC-4942-B8B0-4D70DDC9A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ой конкурс школьных газ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ета «Гимназист» - призёр в номинации «Лучший диз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DSC06152"/>
          <p:cNvPicPr/>
          <p:nvPr/>
        </p:nvPicPr>
        <p:blipFill>
          <a:blip r:embed="rId1"/>
          <a:stretch/>
        </p:blipFill>
        <p:spPr>
          <a:xfrm>
            <a:off x="611280" y="1628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P9010094"/>
          <p:cNvPicPr/>
          <p:nvPr/>
        </p:nvPicPr>
        <p:blipFill>
          <a:blip r:embed="rId2"/>
          <a:stretch/>
        </p:blipFill>
        <p:spPr>
          <a:xfrm>
            <a:off x="611280" y="3933720"/>
            <a:ext cx="1295280" cy="218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2927520" y="3952800"/>
            <a:ext cx="1447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168720" y="1576440"/>
            <a:ext cx="1204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2C0-9A06-4FC2-BFE6-FEB3E0C90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усова Татья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 журнале «Английский язык в школе» №2 2011.   (российский уровень) статьи«Использование информационно-коммуникационных технологий в преподавании английского язы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830160" y="1341360"/>
            <a:ext cx="30099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4F2E-7098-4AE5-BF25-9F07FF8BF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хтусова Н.Г. – учителей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F88-5139-4BCB-81EA-E8CC819BD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7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эмблема"/>
          <p:cNvPicPr/>
          <p:nvPr/>
        </p:nvPicPr>
        <p:blipFill>
          <a:blip r:embed="rId1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DSC_4325"/>
          <p:cNvPicPr/>
          <p:nvPr/>
        </p:nvPicPr>
        <p:blipFill>
          <a:blip r:embed="rId2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DSC06152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CEA-5446-46D1-B841-36D89B382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С для гимназий и лицеев Приволжского федерального о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дагогическая поддержка одаренности гимназиста на разных ступенях обучени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рель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IMG_0144"/>
          <p:cNvPicPr/>
          <p:nvPr/>
        </p:nvPicPr>
        <p:blipFill>
          <a:blip r:embed="rId1"/>
          <a:stretch/>
        </p:blipFill>
        <p:spPr>
          <a:xfrm>
            <a:off x="468360" y="119700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0622"/>
          <p:cNvPicPr/>
          <p:nvPr/>
        </p:nvPicPr>
        <p:blipFill>
          <a:blip r:embed="rId2"/>
          <a:stretch/>
        </p:blipFill>
        <p:spPr>
          <a:xfrm>
            <a:off x="4500720" y="1305000"/>
            <a:ext cx="3897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DAC-2A85-48DD-ABE5-7EA633D38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PA1200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A120011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A120005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4CF-8CDF-4EFF-96D0-1F5443E45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48C-C36A-450B-BC8F-253CBF731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341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5120053"/>
          <p:cNvPicPr/>
          <p:nvPr/>
        </p:nvPicPr>
        <p:blipFill>
          <a:blip r:embed="rId2"/>
          <a:stretch/>
        </p:blipFill>
        <p:spPr>
          <a:xfrm>
            <a:off x="5316480" y="160020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338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804-1E6A-490B-8021-7F4F09E70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IMG_064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MG_066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_067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5D80-F5B6-41D9-A719-7B3F3CED0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IMG_00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DSCN62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N624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871-45AA-4DC3-831E-2BC7D5055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7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994A-CB27-4196-A0E6-44D901168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1 класс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% (+2%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 (+10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 (-2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BDD-9B4E-4254-B9C1-F67926356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а класс, выпуск (тьютор О.Ю. Михеева) – 10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б класс (тьютор Н.Н. Фетисова) – 96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 класс (тьютор О.А. Ячменникова) –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б класс (тьютор В.Б. Колодкина) – 9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а класс (тьютор Н.В. Аботурова) – 88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 класс (тьютор Т.А. Колесникова) – 8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а  класс (тьютор М.Ю. Жукова)  -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 класс (тьютор И.В. Емельянова) – 7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высокие результаты в начальной школе – от 76% до 9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5FA4-751B-4337-AF71-ADDF4CA32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качеству знаний  при хорошем учебном потенциал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б классе (тьютор А.В. Звере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 классе (тьютор Н.А. Старико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а классе (тьютор С.Е. Волоскова) – 4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510-36C1-4692-A086-6A79521B7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 по предмету, изучаемому углубл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б класс, учитель З.П. Сергеева –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б класс, учителя М.Ю. Жукова, Т.В. Криницына, А.А. Рысева – 9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0а класс, учителя Т.В. Чистоусова, Р.А. Быкова, И.Ю. Сухотина – 9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6а класс, учителя М.Ю. Жукова, Т.В. Криницына, Н.Л. Лобанова – 8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а класс, учителя М.Ю. Жукова, Т.В. Криницына, А.А. Рысева – 7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7а класс, учителя Г.Н. Шкаредная, Н.Л. Лобанова –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4EA-9410-4EF9-AE2B-892F8935E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 по  иностранному языку, изучаемому углубленно, индекс качества знаний по предмету – 74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о профилирующему предмету в 8ав классах индекс качества знаний только 46% и 48%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338-ABE7-4326-9931-4CC7FF85E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9 выпускников получили аттестаты, 1 из них с от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(63%)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649-2136-48DD-8764-7B570A436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DC10888"/>
          <p:cNvPicPr/>
          <p:nvPr/>
        </p:nvPicPr>
        <p:blipFill>
          <a:blip r:embed="rId1"/>
          <a:stretch/>
        </p:blipFill>
        <p:spPr>
          <a:xfrm>
            <a:off x="457200" y="1693800"/>
            <a:ext cx="4038480" cy="433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0853"/>
          <p:cNvPicPr/>
          <p:nvPr/>
        </p:nvPicPr>
        <p:blipFill>
          <a:blip r:embed="rId2"/>
          <a:stretch/>
        </p:blipFill>
        <p:spPr>
          <a:xfrm>
            <a:off x="4500720" y="1660680"/>
            <a:ext cx="418140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4B6-F1CF-4DAD-90A9-7E1957FB6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класса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экзам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(бланковая технология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 и «5» - 70,8 % (1 место в городе), из них только на «5» - 23 человека (48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твердили годовые отметки – 27 чел. (56,2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ысили годовые отметки – 17 чел. (35,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учили отметку ниже годовой – 4 чел. (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EF5-F1E9-41A6-8851-5FCE841CE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DE7-3E44-4A2F-BBA7-6E3C05DBE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ознание – 20 чел. (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– 15 чел. 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– 13 чел. (2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12 чел. (2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 – 10 чел. (2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29B3-8160-4C01-8D4A-7479DB068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пускники гимназии сдали обязательный экзамен по математике (учителя И.К. Падерина, Е.В. Соловьева)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балл по гимназии – 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место среди школ города Слобод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гимназии выше среднегородского (49,6 б.), среднего по Северному образовательному округу (48,73 б.), среднеобластного (49,61 б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48E4-6118-4AFD-85FB-8420D88E1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балл по гимназии – 74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9-2010 уч. год - 70,2 балл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место среди школ города Слободского. Показатель гимназии выше среднегородского (65,9 б.), среднего по Северному образовательному округу (64,3 б.), среднеобластного (65,76 б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274D-FBE3-497B-AD3E-F735FE678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25,5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ты с отметками «4» и «5» получили 37 из 47 выпускников (7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BE53-3C4B-43B4-A9FF-22B005BE4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Organization Chart 6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346" name="_s4100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4101"/>
            <p:cNvCxnSpPr>
              <a:stCxn id="350" idx="0"/>
              <a:endCxn id="348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4102"/>
            <p:cNvCxnSpPr>
              <a:stCxn id="352" idx="0"/>
              <a:endCxn id="348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410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7 выпуск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10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3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У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410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ледж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410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рм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079440" y="6184800"/>
            <a:ext cx="45331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в ВУЗы, колледжи – 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DE1B-39E5-4F11-A4D6-4D7E20F5F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ый этап Всероссийской олимпиады школьников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областн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ылов К., учитель Т.Л. Двоегла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пылов К., учитель Н.Г. Пахту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Х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нтина Е., учитель Н.В. Аботу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рсенюк А., учитель Т.Ю. Пушка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нисимов Е., учитель Л.Г. Кай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955E-B15F-40EF-B83C-D9718107B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м (всероссийском)  этапе олимпиады приняли участие 3 гимназиста (Копылов К., Анисимов Е., Пентина Е.), два из них - Копылов К. (химия), Анисимов Е. (Основы православной культуры) – призё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гимназии Н. Иванькович участвовала в олимпиаде школьников по праву Московской государтсвенной юридической академии им. О.Е. Кутафина, где заняла 8 место (вошла в число победителей) из 625 участников из школ России. Именно по итогам олимпиады Наталья Иванькович была зачислена в число студентов академии на бюджетное место в 201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71A-E046-4AD7-BED1-EA3CAC5DA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572-244C-4B0B-8109-A03E86125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11-2013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C78-F5EF-4836-84A6-A0F82B3AE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1024"/>
          <p:cNvPicPr/>
          <p:nvPr/>
        </p:nvPicPr>
        <p:blipFill>
          <a:blip r:embed="rId2"/>
          <a:stretch/>
        </p:blipFill>
        <p:spPr>
          <a:xfrm>
            <a:off x="1019160" y="3938760"/>
            <a:ext cx="2914560" cy="2187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8" descr="7"/>
          <p:cNvPicPr/>
          <p:nvPr/>
        </p:nvPicPr>
        <p:blipFill>
          <a:blip r:embed="rId3"/>
          <a:stretch/>
        </p:blipFill>
        <p:spPr>
          <a:xfrm>
            <a:off x="457200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27E7-66F7-4A8A-9D5A-0B81A5C68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апреля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IMG_06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IMG_061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IMG_0603"/>
          <p:cNvPicPr/>
          <p:nvPr/>
        </p:nvPicPr>
        <p:blipFill>
          <a:blip r:embed="rId3"/>
          <a:stretch/>
        </p:blipFill>
        <p:spPr>
          <a:xfrm>
            <a:off x="4938840" y="1600200"/>
            <a:ext cx="3456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125-1178-4584-A388-F41941A57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6C6-DC07-49CB-A030-19928D472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DSC_0009"/>
          <p:cNvPicPr/>
          <p:nvPr/>
        </p:nvPicPr>
        <p:blipFill>
          <a:blip r:embed="rId1"/>
          <a:stretch/>
        </p:blipFill>
        <p:spPr>
          <a:xfrm>
            <a:off x="755640" y="1197000"/>
            <a:ext cx="2076480" cy="309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PA060005"/>
          <p:cNvPicPr/>
          <p:nvPr/>
        </p:nvPicPr>
        <p:blipFill>
          <a:blip r:embed="rId2"/>
          <a:stretch/>
        </p:blipFill>
        <p:spPr>
          <a:xfrm>
            <a:off x="53964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посвящение в читатели2"/>
          <p:cNvPicPr/>
          <p:nvPr/>
        </p:nvPicPr>
        <p:blipFill>
          <a:blip r:embed="rId3"/>
          <a:stretch/>
        </p:blipFill>
        <p:spPr>
          <a:xfrm>
            <a:off x="5254560" y="1341360"/>
            <a:ext cx="3889440" cy="275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1" descr="PA060007"/>
          <p:cNvPicPr/>
          <p:nvPr/>
        </p:nvPicPr>
        <p:blipFill>
          <a:blip r:embed="rId4"/>
          <a:stretch/>
        </p:blipFill>
        <p:spPr>
          <a:xfrm>
            <a:off x="3635280" y="3706920"/>
            <a:ext cx="34560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1CC-8F16-424B-8AD8-5F9D12EA5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IMG_075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IMG_0703"/>
          <p:cNvPicPr/>
          <p:nvPr/>
        </p:nvPicPr>
        <p:blipFill>
          <a:blip r:embed="rId2"/>
          <a:stretch/>
        </p:blipFill>
        <p:spPr>
          <a:xfrm>
            <a:off x="471636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FD6-B40A-442A-A7A5-7C933A280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IMG_050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IMG_050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MG_0522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C22-59EE-493B-A11C-DD8264548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Изображение 019"/>
          <p:cNvPicPr/>
          <p:nvPr/>
        </p:nvPicPr>
        <p:blipFill>
          <a:blip r:embed="rId1"/>
          <a:stretch/>
        </p:blipFill>
        <p:spPr>
          <a:xfrm>
            <a:off x="622440" y="1600200"/>
            <a:ext cx="3706560" cy="21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P1030198"/>
          <p:cNvPicPr/>
          <p:nvPr/>
        </p:nvPicPr>
        <p:blipFill>
          <a:blip r:embed="rId2"/>
          <a:stretch/>
        </p:blipFill>
        <p:spPr>
          <a:xfrm>
            <a:off x="5254560" y="1600200"/>
            <a:ext cx="2825640" cy="2185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P5210076"/>
          <p:cNvPicPr/>
          <p:nvPr/>
        </p:nvPicPr>
        <p:blipFill>
          <a:blip r:embed="rId3"/>
          <a:stretch/>
        </p:blipFill>
        <p:spPr>
          <a:xfrm>
            <a:off x="563400" y="3938760"/>
            <a:ext cx="3824280" cy="2187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DSCN4089"/>
          <p:cNvPicPr/>
          <p:nvPr/>
        </p:nvPicPr>
        <p:blipFill>
          <a:blip r:embed="rId4"/>
          <a:stretch/>
        </p:blipFill>
        <p:spPr>
          <a:xfrm>
            <a:off x="4648320" y="4021200"/>
            <a:ext cx="4038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0ED-51CC-4007-AEC9-4E26C4F57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DSCN3943"/>
          <p:cNvPicPr/>
          <p:nvPr/>
        </p:nvPicPr>
        <p:blipFill>
          <a:blip r:embed="rId1"/>
          <a:stretch/>
        </p:blipFill>
        <p:spPr>
          <a:xfrm>
            <a:off x="2484360" y="148428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DSCN4000"/>
          <p:cNvPicPr/>
          <p:nvPr/>
        </p:nvPicPr>
        <p:blipFill>
          <a:blip r:embed="rId2"/>
          <a:stretch/>
        </p:blipFill>
        <p:spPr>
          <a:xfrm>
            <a:off x="830160" y="39387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N403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SCN4074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088-FB42-4657-8884-7401903D8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773280" y="3938760"/>
          <a:ext cx="3404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3938760"/>
                    <a:ext cx="3404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читесь, дерзайте, шагайте впер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мназия к цели нас твердо вед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P9010014"/>
          <p:cNvPicPr/>
          <p:nvPr/>
        </p:nvPicPr>
        <p:blipFill>
          <a:blip r:embed="rId3"/>
          <a:stretch/>
        </p:blipFill>
        <p:spPr>
          <a:xfrm>
            <a:off x="611280" y="90792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585-0CC6-4A08-937F-E81E40DC2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413000"/>
          <a:ext cx="8229600" cy="5456160"/>
        </p:xfrm>
        <a:graphic>
          <a:graphicData uri="http://schemas.openxmlformats.org/drawingml/2006/table">
            <a:tbl>
              <a:tblPr/>
              <a:tblGrid>
                <a:gridCol w="2602080"/>
                <a:gridCol w="1944360"/>
                <a:gridCol w="1800360"/>
                <a:gridCol w="1882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доровые 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 чел. (14,2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9 чел. (17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 чел. (16,1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ые отклонения в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 чел. (44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 чел. (40,7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 чел. (43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чел. (40,8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 чел. (40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(39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 (0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чел. (1,3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. (1,1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ел. (0,4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чел. (0,9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. (0,6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A36C-3F61-4DC1-BBBB-98EE47B6C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бщей культуры личности обучающихся на основе усвоения обязательного минимума содержания основных общеобразовательных программ, федеральных государственных образовательных стандартов,  их адаптация к жизни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ы для осознанного выбора и последующего освоения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трудолюбия, уважения к правам и свободам человека, любви к окружающей природе, Родине,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FD7-BDE0-45FA-A486-DEE1AACE7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ур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530440"/>
                <a:gridCol w="1800360"/>
                <a:gridCol w="2089080"/>
                <a:gridCol w="1809720"/>
              </a:tblGrid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чел. (84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84,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 чел. (8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циализирова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чел. (14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чел. (13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чел. (15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от практической части физической куль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. (1,9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чел. (2,8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чел. (3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E472-BFD7-4BC1-82E1-AABFEF286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беспечение высокого качества гимназического образования на основе системно деятельностного подхода, вариативност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тие творческой образовательной среды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A22-11D3-44CD-801D-E668F6E5D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8A41-1DEA-4622-89AF-B4F6B8CFC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азвитие общественной составляющей в управлении гимна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еспечение введения федеральных государственных стандартов общего образования второго поко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B01-9448-4218-8AA2-0A51AC6BD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28" name="Freeform 5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0DC-8B99-416B-A849-7BF15E98C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Обеспечение высокого качества гимназического образования на основе системно-деятельностного подхода, вариативност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тие творческой образовательной среды гимназии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азработки и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заимодействие педагогического коллектива с внешним социумом, расширение внешних связей гимназии. Развитие общественной составляющей в управлении гимназ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Оптимизация системы  менеджмента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Обеспечение введения федеральных государственных стандартов общего образования втор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Рабочий</cp:lastModifiedBy>
  <dcterms:modified xsi:type="dcterms:W3CDTF">2011-10-24T12:15:28Z</dcterms:modified>
  <cp:revision>48</cp:revision>
  <dc:subject/>
  <dc:title>Слайд 1</dc:title>
</cp:coreProperties>
</file>