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63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4.jpeg" ContentType="image/jpeg"/>
  <Override PartName="/ppt/media/image76.wmf" ContentType="image/x-wmf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71.wmf" ContentType="image/x-wmf"/>
  <Override PartName="/ppt/media/image65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118.wmf" ContentType="image/x-wmf"/>
  <Override PartName="/ppt/media/image77.jpeg" ContentType="image/jpeg"/>
  <Override PartName="/ppt/media/image60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55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0F1-4116-4C67-9A8F-C3209AE5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904-8CC0-401D-8238-EEB9A38F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387-BF64-482B-8F1D-63944E16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347-AC9D-479C-A4A8-EC528DA3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286-9557-4EFC-89A0-E66B3A6D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DA7-ADF4-4751-9C38-39E9E93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E19-AE6D-43DB-853D-B99E8249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6DE-F07E-4EB3-AC88-A6DF4F50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04E-E516-4452-B021-A41993DA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74F-BF21-4F86-9099-8943E1C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ED5-2BD3-49A3-92C9-4D888DBB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584-84D9-41B9-B786-CB043113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D040-10F1-4F9B-9540-FD81CE38C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wmf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7E3E-1336-4CB7-A52D-D82BD3C01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10-2011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эмблема"/>
          <p:cNvPicPr/>
          <p:nvPr/>
        </p:nvPicPr>
        <p:blipFill>
          <a:blip r:embed="rId1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C2E6-C372-416C-8B9D-2B5669E21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10-2011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84" name="_s1028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9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0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1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23 чел. (78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0638-7BCF-4813-98E8-E2436D530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10-2011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45 человек (+9 че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2 мальчика       313 дев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 %)                 (5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C324-D635-407C-8984-5DD184F24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до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SDC10848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G_1003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3A62-25FF-4CE6-BA24-EFF7F6F675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SDC11061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SDC1106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1461-004C-4539-A089-B354F7D2B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MG_0841"/>
          <p:cNvPicPr/>
          <p:nvPr/>
        </p:nvPicPr>
        <p:blipFill>
          <a:blip r:embed="rId1"/>
          <a:stretch/>
        </p:blipFill>
        <p:spPr>
          <a:xfrm>
            <a:off x="179280" y="2133720"/>
            <a:ext cx="4256280" cy="319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MG_0842"/>
          <p:cNvPicPr/>
          <p:nvPr/>
        </p:nvPicPr>
        <p:blipFill>
          <a:blip r:embed="rId2"/>
          <a:stretch/>
        </p:blipFill>
        <p:spPr>
          <a:xfrm>
            <a:off x="4643280" y="2133720"/>
            <a:ext cx="40388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9C86-9B51-486B-BE8A-17334942A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IMG_092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IMG_0928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31B4-80B3-414A-B4EA-F0C844FDB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IMG_0929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MG_0930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9E25-FC73-4A0E-8CD3-CD1FBC126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IMG_0933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G_093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2C92-69F7-4560-90F9-983B935291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активное 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DSCN6182"/>
          <p:cNvPicPr/>
          <p:nvPr/>
        </p:nvPicPr>
        <p:blipFill>
          <a:blip r:embed="rId1"/>
          <a:stretch/>
        </p:blipFill>
        <p:spPr>
          <a:xfrm>
            <a:off x="457200" y="2557440"/>
            <a:ext cx="4038480" cy="261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DSCN6188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1B6E-5F19-4C64-B1F7-75752738F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0E89-6B12-4E16-AD70-F7B83E9FA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49B5-ED09-4EAE-A805-C517804DA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IMG_094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IMG_0705"/>
          <p:cNvPicPr/>
          <p:nvPr/>
        </p:nvPicPr>
        <p:blipFill>
          <a:blip r:embed="rId2"/>
          <a:stretch/>
        </p:blipFill>
        <p:spPr>
          <a:xfrm>
            <a:off x="4648320" y="2859120"/>
            <a:ext cx="4038480" cy="20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2E12-3878-4504-BB76-FEC5F7031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IMG_0848"/>
          <p:cNvPicPr/>
          <p:nvPr/>
        </p:nvPicPr>
        <p:blipFill>
          <a:blip r:embed="rId1"/>
          <a:stretch/>
        </p:blipFill>
        <p:spPr>
          <a:xfrm>
            <a:off x="1274760" y="1600200"/>
            <a:ext cx="240336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IMG_0850"/>
          <p:cNvPicPr/>
          <p:nvPr/>
        </p:nvPicPr>
        <p:blipFill>
          <a:blip r:embed="rId2"/>
          <a:stretch/>
        </p:blipFill>
        <p:spPr>
          <a:xfrm>
            <a:off x="4648320" y="2900520"/>
            <a:ext cx="40384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60A7-CE7D-447D-BDDA-EE9B85924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IMG_0830"/>
          <p:cNvPicPr/>
          <p:nvPr/>
        </p:nvPicPr>
        <p:blipFill>
          <a:blip r:embed="rId1"/>
          <a:stretch/>
        </p:blipFill>
        <p:spPr>
          <a:xfrm>
            <a:off x="900000" y="765000"/>
            <a:ext cx="2287800" cy="304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IMG_0832"/>
          <p:cNvPicPr/>
          <p:nvPr/>
        </p:nvPicPr>
        <p:blipFill>
          <a:blip r:embed="rId2"/>
          <a:stretch/>
        </p:blipFill>
        <p:spPr>
          <a:xfrm>
            <a:off x="4896000" y="333360"/>
            <a:ext cx="2611440" cy="348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IMG_0831"/>
          <p:cNvPicPr/>
          <p:nvPr/>
        </p:nvPicPr>
        <p:blipFill>
          <a:blip r:embed="rId3"/>
          <a:stretch/>
        </p:blipFill>
        <p:spPr>
          <a:xfrm>
            <a:off x="2195640" y="3662280"/>
            <a:ext cx="2396880" cy="3195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IMG_0833"/>
          <p:cNvPicPr/>
          <p:nvPr/>
        </p:nvPicPr>
        <p:blipFill>
          <a:blip r:embed="rId4"/>
          <a:stretch/>
        </p:blipFill>
        <p:spPr>
          <a:xfrm>
            <a:off x="5148360" y="393372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F924-489D-4672-BD8A-5E9C4A9D3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IMG_083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IMG_0853"/>
          <p:cNvPicPr/>
          <p:nvPr/>
        </p:nvPicPr>
        <p:blipFill>
          <a:blip r:embed="rId2"/>
          <a:stretch/>
        </p:blipFill>
        <p:spPr>
          <a:xfrm>
            <a:off x="1282680" y="3938760"/>
            <a:ext cx="2387520" cy="2187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IMG_0847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72BC-9067-4F95-9068-F728B11FC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IMG_0846"/>
          <p:cNvPicPr/>
          <p:nvPr/>
        </p:nvPicPr>
        <p:blipFill>
          <a:blip r:embed="rId1"/>
          <a:stretch/>
        </p:blipFill>
        <p:spPr>
          <a:xfrm>
            <a:off x="457200" y="1623960"/>
            <a:ext cx="4038480" cy="2136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MG_0852"/>
          <p:cNvPicPr/>
          <p:nvPr/>
        </p:nvPicPr>
        <p:blipFill>
          <a:blip r:embed="rId2"/>
          <a:stretch/>
        </p:blipFill>
        <p:spPr>
          <a:xfrm>
            <a:off x="4716360" y="1628640"/>
            <a:ext cx="3346560" cy="250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IMG_0845"/>
          <p:cNvPicPr/>
          <p:nvPr/>
        </p:nvPicPr>
        <p:blipFill>
          <a:blip r:embed="rId3"/>
          <a:stretch/>
        </p:blipFill>
        <p:spPr>
          <a:xfrm>
            <a:off x="324000" y="3417840"/>
            <a:ext cx="3609720" cy="270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IMG_0849"/>
          <p:cNvPicPr/>
          <p:nvPr/>
        </p:nvPicPr>
        <p:blipFill>
          <a:blip r:embed="rId4"/>
          <a:stretch/>
        </p:blipFill>
        <p:spPr>
          <a:xfrm>
            <a:off x="4788000" y="4076640"/>
            <a:ext cx="225252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AF6F-7381-4C7D-9FA3-C54340EFA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IMG_0854"/>
          <p:cNvPicPr/>
          <p:nvPr/>
        </p:nvPicPr>
        <p:blipFill>
          <a:blip r:embed="rId1"/>
          <a:stretch/>
        </p:blipFill>
        <p:spPr>
          <a:xfrm>
            <a:off x="468360" y="260280"/>
            <a:ext cx="3957480" cy="2968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IMG_0855"/>
          <p:cNvPicPr/>
          <p:nvPr/>
        </p:nvPicPr>
        <p:blipFill>
          <a:blip r:embed="rId2"/>
          <a:stretch/>
        </p:blipFill>
        <p:spPr>
          <a:xfrm>
            <a:off x="3780000" y="981000"/>
            <a:ext cx="5076720" cy="2811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IMG_0858"/>
          <p:cNvPicPr/>
          <p:nvPr/>
        </p:nvPicPr>
        <p:blipFill>
          <a:blip r:embed="rId3"/>
          <a:stretch/>
        </p:blipFill>
        <p:spPr>
          <a:xfrm>
            <a:off x="5148360" y="39337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IMG_0861"/>
          <p:cNvPicPr/>
          <p:nvPr/>
        </p:nvPicPr>
        <p:blipFill>
          <a:blip r:embed="rId4"/>
          <a:stretch/>
        </p:blipFill>
        <p:spPr>
          <a:xfrm>
            <a:off x="539640" y="355608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3C12-3A9A-4972-BEC1-8B8F808B1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IMG_074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B13F-878E-4E3C-9F4C-92889910B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ер по модернизации системы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ая страте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ставленная перед системой образования области, заключается в обеспечении возможност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ждому жител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не зависимости от места проживания, социального и имущественного статуса и состояния здоровья получи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чественное и доступное 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любом уровне, которое соответствует потребностям современного общества и требованиям развития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81FF-C5B1-4DC7-ABFA-24F2ABB98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ер по модернизации системы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вышение заработной платы уч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крепление материально-технической базы школ (учебники, мебель, компьютеры, спортивное обору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9A9C-7B04-4758-BC7C-3B5CD081C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рмативы финанс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42920" y="1827360"/>
          <a:ext cx="7640640" cy="4462200"/>
        </p:xfrm>
        <a:graphic>
          <a:graphicData uri="http://schemas.openxmlformats.org/drawingml/2006/table">
            <a:tbl>
              <a:tblPr/>
              <a:tblGrid>
                <a:gridCol w="1657440"/>
                <a:gridCol w="2808360"/>
                <a:gridCol w="3174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о с 1 сентября 2011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56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0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 4244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69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68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4699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27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99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5772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C18B-F0D3-432D-95E1-3FAA3A021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4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эмблема"/>
          <p:cNvPicPr/>
          <p:nvPr/>
        </p:nvPicPr>
        <p:blipFill>
          <a:blip r:embed="rId1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МОУ Гимназия г"/>
          <p:cNvPicPr/>
          <p:nvPr/>
        </p:nvPicPr>
        <p:blipFill>
          <a:blip r:embed="rId2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B9BE-25FF-45EC-A609-BE68251E0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тивы финансирования 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сентября 2011 года. Ф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70160" y="1827360"/>
          <a:ext cx="7313400" cy="514332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13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226 ру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810 ру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85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77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4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69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938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534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7C20-377C-423A-B083-6BD5B6197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 на 2011-2013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сия гимназ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в процессе обучения, воспитания, развития, социализации ученика (выпускника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ЧНОГО ЧЕЛОВЕКА, ГРАЖДАНИНА РОССИИ, кото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естен, законопослушен, имеет активную гражданскую пози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ладает совестью, состраданием, толерант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ладеет ключевыми компетентностями, необходимыми для жизни и профессиональной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ладеет современными знаниями, умениями и навы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нкурентоспособ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является патриотом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эмблема"/>
          <p:cNvPicPr/>
          <p:nvPr/>
        </p:nvPicPr>
        <p:blipFill>
          <a:blip r:embed="rId1"/>
          <a:stretch/>
        </p:blipFill>
        <p:spPr>
          <a:xfrm>
            <a:off x="6300720" y="4838760"/>
            <a:ext cx="173196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80D7-0986-477D-8BAC-2BC20C470C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8161-5D19-4614-BCED-288BF1087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87" name="_s2052"/>
            <p:cNvCxnSpPr>
              <a:stCxn id="188" idx="0"/>
              <a:endCxn id="189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53"/>
            <p:cNvCxnSpPr>
              <a:stCxn id="191" idx="0"/>
              <a:endCxn id="189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2054"/>
            <p:cNvCxnSpPr>
              <a:stCxn id="193" idx="0"/>
              <a:endCxn id="189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9" name="_s2055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7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3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8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7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58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9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A347-5C7E-4352-9041-0F651DB07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46836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AF0-AD1D-4CE9-8779-1285AA4F57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200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Сергеева"/>
          <p:cNvPicPr/>
          <p:nvPr/>
        </p:nvPicPr>
        <p:blipFill>
          <a:blip r:embed="rId2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Копысова - копия"/>
          <p:cNvPicPr/>
          <p:nvPr/>
        </p:nvPicPr>
        <p:blipFill>
          <a:blip r:embed="rId3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IMG 043"/>
          <p:cNvPicPr/>
          <p:nvPr/>
        </p:nvPicPr>
        <p:blipFill>
          <a:blip r:embed="rId4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" descr="1Двоеглазова ТЛ"/>
          <p:cNvPicPr/>
          <p:nvPr/>
        </p:nvPicPr>
        <p:blipFill>
          <a:blip r:embed="rId5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Фото Мурина"/>
          <p:cNvPicPr/>
          <p:nvPr/>
        </p:nvPicPr>
        <p:blipFill>
          <a:blip r:embed="rId6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C3B6-7CD7-4D1A-8A42-30087714C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лучших учителей Кировской области –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PC120057"/>
          <p:cNvPicPr/>
          <p:nvPr/>
        </p:nvPicPr>
        <p:blipFill>
          <a:blip r:embed="rId1"/>
          <a:stretch/>
        </p:blipFill>
        <p:spPr>
          <a:xfrm>
            <a:off x="762120" y="1600200"/>
            <a:ext cx="34272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_Перминова1_1"/>
          <p:cNvPicPr/>
          <p:nvPr/>
        </p:nvPicPr>
        <p:blipFill>
          <a:blip r:embed="rId2"/>
          <a:stretch/>
        </p:blipFill>
        <p:spPr>
          <a:xfrm>
            <a:off x="507672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9"/>
          <p:cNvSpPr/>
          <p:nvPr/>
        </p:nvSpPr>
        <p:spPr>
          <a:xfrm>
            <a:off x="468360" y="6093000"/>
            <a:ext cx="38876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281480" y="6165720"/>
            <a:ext cx="39625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и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мил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6A62-584F-401C-8477-A22215017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грудный зна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едагогическая слава» -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эмблема"/>
          <p:cNvPicPr/>
          <p:nvPr/>
        </p:nvPicPr>
        <p:blipFill>
          <a:blip r:embed="rId1"/>
          <a:stretch/>
        </p:blipFill>
        <p:spPr>
          <a:xfrm>
            <a:off x="7236000" y="5084640"/>
            <a:ext cx="1515960" cy="1516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DSC06152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6EBA-43A5-43E7-A70F-62D3CBEF70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дитель областного этапа Всероссийского конкурса в области педагогики, воспитания и работы с детьми школьного возраста на соискание премии «За нравственный подвиг учителя» (август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ер  областного конкурса публикаций репортажей, содействующих формированию позитивного образа уч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2" descr="IMG 043"/>
          <p:cNvPicPr/>
          <p:nvPr/>
        </p:nvPicPr>
        <p:blipFill>
          <a:blip r:embed="rId1"/>
          <a:stretch/>
        </p:blipFill>
        <p:spPr>
          <a:xfrm>
            <a:off x="757080" y="1628640"/>
            <a:ext cx="33814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F2BF-1FA4-4C7D-93B5-F91B98F2F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оеглазова Тамара Леонид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премии Правительства Кировской области для педагогических работников ОУ, подготовивших победителей и призёров заключительного этапа Всероссийской олимпиады школьников в 2011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746280" y="1268280"/>
            <a:ext cx="30733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0616-58E8-4326-85F7-5017EC1A4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604B-4966-45B9-AB2B-547DE9505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одкина Вера Борис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дитель муниципального этапа конкурса «Учитель года  -201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PC178729"/>
          <p:cNvPicPr/>
          <p:nvPr/>
        </p:nvPicPr>
        <p:blipFill>
          <a:blip r:embed="rId1"/>
          <a:stretch/>
        </p:blipFill>
        <p:spPr>
          <a:xfrm>
            <a:off x="782640" y="1600200"/>
            <a:ext cx="3386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BD5B-6708-4E51-B4F7-03CE137A1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да в городском конкурсе «Лучший по профессии» - 2011 в номинации «Лучший педагог общего образова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DSCN0828"/>
          <p:cNvPicPr/>
          <p:nvPr/>
        </p:nvPicPr>
        <p:blipFill>
          <a:blip r:embed="rId1"/>
          <a:stretch/>
        </p:blipFill>
        <p:spPr>
          <a:xfrm>
            <a:off x="457200" y="1620720"/>
            <a:ext cx="4038480" cy="44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459D-DAFD-47EA-9089-D9AB78448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бедители городских конкурсов в 2011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DSCN0916 - копия"/>
          <p:cNvPicPr/>
          <p:nvPr/>
        </p:nvPicPr>
        <p:blipFill>
          <a:blip r:embed="rId1"/>
          <a:stretch/>
        </p:blipFill>
        <p:spPr>
          <a:xfrm>
            <a:off x="468360" y="1557360"/>
            <a:ext cx="1839960" cy="2185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P9010086"/>
          <p:cNvPicPr/>
          <p:nvPr/>
        </p:nvPicPr>
        <p:blipFill>
          <a:blip r:embed="rId2"/>
          <a:stretch/>
        </p:blipFill>
        <p:spPr>
          <a:xfrm>
            <a:off x="4978440" y="1628640"/>
            <a:ext cx="1609560" cy="2521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3"/>
          <a:stretch/>
        </p:blipFill>
        <p:spPr>
          <a:xfrm>
            <a:off x="2411280" y="3573360"/>
            <a:ext cx="2181240" cy="328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P9010060"/>
          <p:cNvPicPr/>
          <p:nvPr/>
        </p:nvPicPr>
        <p:blipFill>
          <a:blip r:embed="rId4"/>
          <a:stretch/>
        </p:blipFill>
        <p:spPr>
          <a:xfrm>
            <a:off x="5292720" y="3933720"/>
            <a:ext cx="1935000" cy="25462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3"/>
          <p:cNvSpPr/>
          <p:nvPr/>
        </p:nvSpPr>
        <p:spPr>
          <a:xfrm>
            <a:off x="2751120" y="172080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335320" y="1792440"/>
            <a:ext cx="20383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7608600" y="1647720"/>
            <a:ext cx="12294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525240" y="3952800"/>
            <a:ext cx="15433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аре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370640" y="3881520"/>
            <a:ext cx="14670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и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42F7-55C1-45AA-8C9C-F955D12DB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врюкова Елена Викто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 1 степени  в областном конкурсе  «Противодействие коррупции через образовани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IMG_7137лена"/>
          <p:cNvPicPr/>
          <p:nvPr/>
        </p:nvPicPr>
        <p:blipFill>
          <a:blip r:embed="rId1"/>
          <a:stretch/>
        </p:blipFill>
        <p:spPr>
          <a:xfrm>
            <a:off x="932040" y="1600200"/>
            <a:ext cx="3087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BC6E-15EA-4497-9A3A-04DD471EA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ной конкурс школьных газ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зета «Гимназист» - призёр в номинации «Лучший дизай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DSC06152"/>
          <p:cNvPicPr/>
          <p:nvPr/>
        </p:nvPicPr>
        <p:blipFill>
          <a:blip r:embed="rId1"/>
          <a:stretch/>
        </p:blipFill>
        <p:spPr>
          <a:xfrm>
            <a:off x="611280" y="1628640"/>
            <a:ext cx="2376360" cy="194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P9010094"/>
          <p:cNvPicPr/>
          <p:nvPr/>
        </p:nvPicPr>
        <p:blipFill>
          <a:blip r:embed="rId2"/>
          <a:stretch/>
        </p:blipFill>
        <p:spPr>
          <a:xfrm>
            <a:off x="611280" y="3933720"/>
            <a:ext cx="1295280" cy="2187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0"/>
          <p:cNvSpPr/>
          <p:nvPr/>
        </p:nvSpPr>
        <p:spPr>
          <a:xfrm>
            <a:off x="2927520" y="3952800"/>
            <a:ext cx="14472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3168720" y="1576440"/>
            <a:ext cx="12049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966E-703E-47AE-8F02-F6F0D04EF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тоусова Татьяна Валер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в журнале «Английский язык в школе» №2 2011.   (российский уровень) статьи«Использование информационно-коммуникационных технологий в преподавании английского язык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830160" y="1341360"/>
            <a:ext cx="300996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1763-F0A9-4E9B-BD70-E0401B06D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ей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ей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хтусова Н.Г. – учителей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A2DE-76D0-4A39-8FA1-B50E69354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270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эмблема"/>
          <p:cNvPicPr/>
          <p:nvPr/>
        </p:nvPicPr>
        <p:blipFill>
          <a:blip r:embed="rId1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" descr="DSC_4325"/>
          <p:cNvPicPr/>
          <p:nvPr/>
        </p:nvPicPr>
        <p:blipFill>
          <a:blip r:embed="rId2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3" descr="DSC06152"/>
          <p:cNvPicPr/>
          <p:nvPr/>
        </p:nvPicPr>
        <p:blipFill>
          <a:blip r:embed="rId3"/>
          <a:stretch/>
        </p:blipFill>
        <p:spPr>
          <a:xfrm>
            <a:off x="971640" y="393372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0A78-EEBB-4E8D-8BD5-FFBAFC241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С для гимназий и лицеев Приволжского федерального окру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дагогическая поддержка одаренности гимназиста на разных ступенях обучения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рель 201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IMG_0144"/>
          <p:cNvPicPr/>
          <p:nvPr/>
        </p:nvPicPr>
        <p:blipFill>
          <a:blip r:embed="rId1"/>
          <a:stretch/>
        </p:blipFill>
        <p:spPr>
          <a:xfrm>
            <a:off x="468360" y="1197000"/>
            <a:ext cx="3489120" cy="261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IMG_0622"/>
          <p:cNvPicPr/>
          <p:nvPr/>
        </p:nvPicPr>
        <p:blipFill>
          <a:blip r:embed="rId2"/>
          <a:stretch/>
        </p:blipFill>
        <p:spPr>
          <a:xfrm>
            <a:off x="4500720" y="1305000"/>
            <a:ext cx="38970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5ED0-AEA0-42B4-8D7A-E656A4A87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PA12000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PA120011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PA120005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CA91-BF56-4A9C-BB04-10A9F186C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B53E-3F80-4D5E-A4A8-3A9D5D980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8" descr="DSCN341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P5120053"/>
          <p:cNvPicPr/>
          <p:nvPr/>
        </p:nvPicPr>
        <p:blipFill>
          <a:blip r:embed="rId2"/>
          <a:stretch/>
        </p:blipFill>
        <p:spPr>
          <a:xfrm>
            <a:off x="5316480" y="1600200"/>
            <a:ext cx="2700360" cy="2185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DSCN3384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721C-7ED8-4CD4-8DAC-EA7E6C44A3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IMG_064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IMG_0660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_0678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A339-DCEA-44BB-BECB-9B0EC64E1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IMG_0029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DSCN6235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DSCN6241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54AF-4E72-48DF-8909-CDF7DD36F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-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71,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BDA6-C444-4013-815A-D6102180E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ва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1 класс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6% (+2%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 (+10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1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% (-2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03BD-DD44-4451-A299-2619D45BB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ие результаты по качеству з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а класс, выпуск (тьютор О.Ю. Михеева) – 10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б класс (тьютор Н.Н. Фетисова) – 96 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б класс (тьютор О.А. Ячменникова) – 96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б класс (тьютор В.Б. Колодкина) – 92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а класс (тьютор Н.В. Аботурова) – 88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а класс (тьютор Т.А. Колесникова) – 85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а  класс (тьютор М.Ю. Жукова)  - 79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 класс (тьютор И.В. Емельянова) – 79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ом высокие результаты в начальной школе – от 76% до 96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F495-ED89-4A7E-B094-730680D7A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ие результа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качеству знаний  при хорошем учебном потенциал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б классе (тьютор А.В. Зверева) – 46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а классе (тьютор Н.А. Старикова) – 46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а классе (тьютор С.Е. Волоскова) – 40%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97D4-55B7-4536-B7B7-4201200DE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шие результаты по качеству знаний по предмету, изучаемому углублен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8б класс, учитель З.П. Сергеева – 8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5б класс, учителя М.Ю. Жукова, Т.В. Криницына, А.А. Рысева – 92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0а класс, учителя Т.В. Чистоусова, Р.А. Быкова, И.Ю. Сухотина – 90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6а класс, учителя М.Ю. Жукова, Т.В. Криницына, Н.Л. Лобанова – 88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5а класс, учителя М.Ю. Жукова, Т.В. Криницына, А.А. Рысева – 7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7а класс, учителя Г.Н. Шкаредная, Н.Л. Лобанова – 79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B91A-ED32-4BDA-9C47-75E169861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целом по  иностранному языку, изучаемому углубленно, индекс качества знаний по предмету – 74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о профилирующему предмету в 8ав классах индекс качества знаний только 46% и 48% соответ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4830-F66F-48A4-8B57-4F824C60B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9 выпускников получили аттестаты, 1 из них с от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 (63%)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0CE3-D904-46E8-8780-5B65C20ED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SDC10888"/>
          <p:cNvPicPr/>
          <p:nvPr/>
        </p:nvPicPr>
        <p:blipFill>
          <a:blip r:embed="rId1"/>
          <a:stretch/>
        </p:blipFill>
        <p:spPr>
          <a:xfrm>
            <a:off x="457200" y="1693800"/>
            <a:ext cx="4038480" cy="433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MG_0853"/>
          <p:cNvPicPr/>
          <p:nvPr/>
        </p:nvPicPr>
        <p:blipFill>
          <a:blip r:embed="rId2"/>
          <a:stretch/>
        </p:blipFill>
        <p:spPr>
          <a:xfrm>
            <a:off x="4500720" y="1660680"/>
            <a:ext cx="4181400" cy="43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23DD-990F-483B-BC15-F3A56AD3F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класса 201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ые экзам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й язык –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(бланковая технология)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4» и «5» - 70,8 % (1 место в городе), из них только на «5» - 23 человека (48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ыполнении экзамена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твердили годовые отметки – 27 чел. (56,25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ысили годовые отметки – 17 чел. (35,5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лучили отметку ниже годовой – 4 чел. (8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42CD-5E67-4FA6-AE4F-B079EF3CD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3150-56CB-44D8-9A25-67D245507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ознание – 20 чел. (4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ка – 15 чел. (3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– 13 чел. (28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12 чел. (2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а – 10 чел. (2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E3DD-FFDA-4C4A-ACFA-1D4E1B549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1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ыпускники гимназии сдали обязательный экзамен по математике (учителя И.К. Падерина, Е.В. Соловьева)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балл по гимназии – 5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ервое место среди школ города Слобод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ь гимназии выше среднегородского (49,6 б.), среднего по Северному образовательному округу (48,73 б.), среднеобластного (49,61 б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382A-BE2D-4EBD-98A9-F06DCBC5E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1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ий балл по гимназии – 74,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009-2010 уч. год - 70,2 балл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место среди школ города Слободского. Показатель гимназии выше среднегородского (65,9 б.), среднего по Северному образовательному округу (64,3 б.), среднеобластного (65,76 б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FC30-4A5C-4E1F-B45B-D0F35EA75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1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25,5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ты с отметками «4» и «5» получили 37 из 47 выпускников (79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D754-286E-445B-B852-EE73CCD30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Organization Chart 6"/>
          <p:cNvGrpSpPr/>
          <p:nvPr/>
        </p:nvGrpSpPr>
        <p:grpSpPr>
          <a:xfrm>
            <a:off x="442800" y="1614600"/>
            <a:ext cx="8208360" cy="4462560"/>
            <a:chOff x="442800" y="1614600"/>
            <a:chExt cx="8208360" cy="4462560"/>
          </a:xfrm>
        </p:grpSpPr>
        <p:cxnSp>
          <p:nvCxnSpPr>
            <p:cNvPr id="346" name="_s4100"/>
            <p:cNvCxnSpPr>
              <a:stCxn id="347" idx="0"/>
              <a:endCxn id="348" idx="2"/>
            </p:cNvCxnSpPr>
            <p:nvPr/>
          </p:nvCxnSpPr>
          <p:spPr>
            <a:xfrm flipV="1" rot="16200000">
              <a:off x="5536800" y="24084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9" name="_s4101"/>
            <p:cNvCxnSpPr>
              <a:stCxn id="350" idx="0"/>
              <a:endCxn id="348" idx="2"/>
            </p:cNvCxnSpPr>
            <p:nvPr/>
          </p:nvCxnSpPr>
          <p:spPr>
            <a:xfrm flipV="1">
              <a:off x="4547160" y="33987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1" name="_s4102"/>
            <p:cNvCxnSpPr>
              <a:stCxn id="352" idx="0"/>
              <a:endCxn id="348" idx="2"/>
            </p:cNvCxnSpPr>
            <p:nvPr/>
          </p:nvCxnSpPr>
          <p:spPr>
            <a:xfrm flipH="1" flipV="1" rot="5400000">
              <a:off x="2664000" y="24087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8" name="_s4103"/>
            <p:cNvSpPr/>
            <p:nvPr/>
          </p:nvSpPr>
          <p:spPr>
            <a:xfrm>
              <a:off x="3315600" y="16146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7 выпуск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4104"/>
            <p:cNvSpPr/>
            <p:nvPr/>
          </p:nvSpPr>
          <p:spPr>
            <a:xfrm>
              <a:off x="4428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3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УЗ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4105"/>
            <p:cNvSpPr/>
            <p:nvPr/>
          </p:nvSpPr>
          <p:spPr>
            <a:xfrm>
              <a:off x="33156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лледж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4106"/>
            <p:cNvSpPr/>
            <p:nvPr/>
          </p:nvSpPr>
          <p:spPr>
            <a:xfrm>
              <a:off x="618876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рм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6"/>
          <p:cNvSpPr/>
          <p:nvPr/>
        </p:nvSpPr>
        <p:spPr>
          <a:xfrm>
            <a:off x="3079440" y="6184800"/>
            <a:ext cx="453312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упление в ВУЗы, колледжи – 9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7093-97A4-4460-A172-04BB0159E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иональный этап Всероссийской олимпиады школьников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призовых мест на областн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пылов К., учитель Т.Л. Двоегла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опылов К., учитель Н.Г. Пахтус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Х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ентина Е., учитель Н.В. Аботу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е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орсенюк А., учитель Т.Ю. Пушка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ы православной куль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нисимов Е., учитель Л.Г. Кайс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1A92-46C8-4C88-AB41-C0FE390DA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ключительном (всероссийском)  этапе олимпиады приняли участие 3 гимназиста (Копылов К., Анисимов Е., Пентина Е.), два из них - Копылов К. (химия), Анисимов Е. (Основы православной культуры) – призё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гимназии Н. Иванькович участвовала в олимпиаде школьников по праву Московской государтсвенной юридической академии им. О.Е. Кутафина, где заняла 8 место (вошла в число победителей) из 625 участников из школ России. Именно по итогам олимпиады Наталья Иванькович была зачислена в число студентов академии на бюджетное место в 2011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AF3A-7BA6-4C07-BF27-704F1D76A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D9D8-4441-4C12-8000-042E94937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11-2013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820D-5114-4ECE-B9A1-CB6066756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1" descr="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1024"/>
          <p:cNvPicPr/>
          <p:nvPr/>
        </p:nvPicPr>
        <p:blipFill>
          <a:blip r:embed="rId2"/>
          <a:stretch/>
        </p:blipFill>
        <p:spPr>
          <a:xfrm>
            <a:off x="1019160" y="3938760"/>
            <a:ext cx="2914560" cy="21873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8" descr="7"/>
          <p:cNvPicPr/>
          <p:nvPr/>
        </p:nvPicPr>
        <p:blipFill>
          <a:blip r:embed="rId3"/>
          <a:stretch/>
        </p:blipFill>
        <p:spPr>
          <a:xfrm>
            <a:off x="457200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3E8A-2C17-48D8-A14E-736124787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апреля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IMG_060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IMG_0612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IMG_0603"/>
          <p:cNvPicPr/>
          <p:nvPr/>
        </p:nvPicPr>
        <p:blipFill>
          <a:blip r:embed="rId3"/>
          <a:stretch/>
        </p:blipFill>
        <p:spPr>
          <a:xfrm>
            <a:off x="4938840" y="1600200"/>
            <a:ext cx="3456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72BD-EFD7-4EE0-9148-22319DBFD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8284-ED74-4958-93C3-AAACA9BB2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7" descr="DSC_0009"/>
          <p:cNvPicPr/>
          <p:nvPr/>
        </p:nvPicPr>
        <p:blipFill>
          <a:blip r:embed="rId1"/>
          <a:stretch/>
        </p:blipFill>
        <p:spPr>
          <a:xfrm>
            <a:off x="755640" y="1197000"/>
            <a:ext cx="2076480" cy="3095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8" descr="PA060005"/>
          <p:cNvPicPr/>
          <p:nvPr/>
        </p:nvPicPr>
        <p:blipFill>
          <a:blip r:embed="rId2"/>
          <a:stretch/>
        </p:blipFill>
        <p:spPr>
          <a:xfrm>
            <a:off x="53964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9" descr="посвящение в читатели2"/>
          <p:cNvPicPr/>
          <p:nvPr/>
        </p:nvPicPr>
        <p:blipFill>
          <a:blip r:embed="rId3"/>
          <a:stretch/>
        </p:blipFill>
        <p:spPr>
          <a:xfrm>
            <a:off x="5254560" y="1341360"/>
            <a:ext cx="3889440" cy="2755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1" descr="PA060007"/>
          <p:cNvPicPr/>
          <p:nvPr/>
        </p:nvPicPr>
        <p:blipFill>
          <a:blip r:embed="rId4"/>
          <a:stretch/>
        </p:blipFill>
        <p:spPr>
          <a:xfrm>
            <a:off x="3635280" y="3706920"/>
            <a:ext cx="345600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858C-65D7-48DA-A784-1D3CCA2D2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IMG_0756"/>
          <p:cNvPicPr/>
          <p:nvPr/>
        </p:nvPicPr>
        <p:blipFill>
          <a:blip r:embed="rId1"/>
          <a:stretch/>
        </p:blipFill>
        <p:spPr>
          <a:xfrm>
            <a:off x="395280" y="1628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IMG_0703"/>
          <p:cNvPicPr/>
          <p:nvPr/>
        </p:nvPicPr>
        <p:blipFill>
          <a:blip r:embed="rId2"/>
          <a:stretch/>
        </p:blipFill>
        <p:spPr>
          <a:xfrm>
            <a:off x="4716360" y="3213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6765-7962-44AA-B4D8-DA489E40B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3" descr="IMG_0501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IMG_0502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IMG_0522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5354-88AE-4769-ADCF-BF08D9AF5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Изображение 019"/>
          <p:cNvPicPr/>
          <p:nvPr/>
        </p:nvPicPr>
        <p:blipFill>
          <a:blip r:embed="rId1"/>
          <a:stretch/>
        </p:blipFill>
        <p:spPr>
          <a:xfrm>
            <a:off x="622440" y="1600200"/>
            <a:ext cx="3706560" cy="2185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P1030198"/>
          <p:cNvPicPr/>
          <p:nvPr/>
        </p:nvPicPr>
        <p:blipFill>
          <a:blip r:embed="rId2"/>
          <a:stretch/>
        </p:blipFill>
        <p:spPr>
          <a:xfrm>
            <a:off x="5254560" y="1600200"/>
            <a:ext cx="2825640" cy="2185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P5210076"/>
          <p:cNvPicPr/>
          <p:nvPr/>
        </p:nvPicPr>
        <p:blipFill>
          <a:blip r:embed="rId3"/>
          <a:stretch/>
        </p:blipFill>
        <p:spPr>
          <a:xfrm>
            <a:off x="563400" y="3938760"/>
            <a:ext cx="3824280" cy="2187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DSCN4089"/>
          <p:cNvPicPr/>
          <p:nvPr/>
        </p:nvPicPr>
        <p:blipFill>
          <a:blip r:embed="rId4"/>
          <a:stretch/>
        </p:blipFill>
        <p:spPr>
          <a:xfrm>
            <a:off x="4648320" y="4021200"/>
            <a:ext cx="40384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8D05-EADB-4FBC-9C1C-A02ED3ED9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1" descr="DSCN3943"/>
          <p:cNvPicPr/>
          <p:nvPr/>
        </p:nvPicPr>
        <p:blipFill>
          <a:blip r:embed="rId1"/>
          <a:stretch/>
        </p:blipFill>
        <p:spPr>
          <a:xfrm>
            <a:off x="2484360" y="148428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DSCN4000"/>
          <p:cNvPicPr/>
          <p:nvPr/>
        </p:nvPicPr>
        <p:blipFill>
          <a:blip r:embed="rId2"/>
          <a:stretch/>
        </p:blipFill>
        <p:spPr>
          <a:xfrm>
            <a:off x="830160" y="3938760"/>
            <a:ext cx="3292560" cy="218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DSCN4038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DSCN4074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6ACB-B4DE-4517-9E56-6240E087A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рибу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9"/>
          <p:cNvGraphicFramePr/>
          <p:nvPr/>
        </p:nvGraphicFramePr>
        <p:xfrm>
          <a:off x="773280" y="3938760"/>
          <a:ext cx="340488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3938760"/>
                    <a:ext cx="3404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дев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читесь, дерзайте, шагайте впере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мназия к цели нас твердо ведет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1" descr="P9010014"/>
          <p:cNvPicPr/>
          <p:nvPr/>
        </p:nvPicPr>
        <p:blipFill>
          <a:blip r:embed="rId3"/>
          <a:stretch/>
        </p:blipFill>
        <p:spPr>
          <a:xfrm>
            <a:off x="611280" y="907920"/>
            <a:ext cx="273672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C6D8-3FBF-4493-91AF-3A1590B13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уппы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413000"/>
          <a:ext cx="8229600" cy="5456160"/>
        </p:xfrm>
        <a:graphic>
          <a:graphicData uri="http://schemas.openxmlformats.org/drawingml/2006/table">
            <a:tbl>
              <a:tblPr/>
              <a:tblGrid>
                <a:gridCol w="2602080"/>
                <a:gridCol w="1944360"/>
                <a:gridCol w="1800360"/>
                <a:gridCol w="1882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 уче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 уче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уче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доровые д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4 чел. (14,2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9 чел. (17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8 чел. (16,1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ые отклонения в 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 чел. (44,6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6 чел. (40,7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5 чел. (43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ие заболе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чел. (40,8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4 чел. (40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(39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ие заболе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чел. (0,6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чел. (1,3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чел. (1,1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-инвал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чел. (0,4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чел. (0,9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ел. (0,6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4B7B-7E92-42FE-9263-3D276239A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общей культуры личности обучающихся на основе усвоения обязательного минимума содержания основных общеобразовательных программ, федеральных государственных образовательных стандартов,  их адаптация к жизни в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основы для осознанного выбора и последующего освоения профессиональных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гражданственности, трудолюбия, уважения к правам и свободам человека, любви к окружающей природе, Родине,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806D-90C8-4B27-82AE-74AD44C84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урны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530440"/>
                <a:gridCol w="1800360"/>
                <a:gridCol w="2089080"/>
                <a:gridCol w="1809720"/>
              </a:tblGrid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 уче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 учени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ученико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 чел. (84,1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 (84,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6 чел. (8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пециализирован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чел. (14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чел. (13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чел. (15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бождение от практической части физической куль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чел. (1,9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чел. (2,8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чел. (3,1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1979-ADBD-47DB-9F06-362B26012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Обеспечение высокого качества гимназического образования на основе системно деятельностного подхода, вариативности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звитие творческой образовательной среды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выявления и раскрытия способностей каждого гимнази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выявления особо одарённых обучающихся и организация их индивидуального сопровождения, развитие одарё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поддержки мотивации личности к познанию, творчеству и тру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4. успешной социализац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4D44-FF1D-4471-9377-818A05081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здание необходимых условий для сохранения и укрепления здоровья участников образовательного процесса посредством реализации комплексно-целевой программы «Школа здоровья», здоровьесберегающих технологий в образовательном процессе, а также обеспечения здоровых и безопасных условий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Содействие повышению уровня информационно-коммуникационной культуры участников образовательного процесса посредством развития информатизации образовательной среды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Усиление воспитательного потенциала образования через формирование идентичности гражданина России, через  воспитание доверия, толерантности, миролюбия, диалога культур и психологического комфорта, предупреждения и профилактики социальных рис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FDC7-A052-4865-85D4-F5565CDF1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Развитие общественной составляющей в управлении гимназ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Обеспечение введения федеральных государственных стандартов общего образования второго поко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AC9A-7D9B-4CE0-B7E4-A359F82F39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28" name="Freeform 5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7B70-1CD3-4CB9-91E7-AC4EA0E07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Обеспечение высокого качества гимназического образования на основе системно-деятельностного подхода, вариативности обра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Развитие творческой образовательной среды гимназии д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1. выявления и раскрытия способностей каждого гимнази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2. выявления особо одарённых обучающихся и организация их индивидуального сопровождения, развитие одарён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3. поддержки мотивации личности к познанию, творчеству и тру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4. успешной социализации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Создание необходимых условий для сохранения и укрепления здоровья участников образовательного процесса посредством разработки и реализации комплексно-целевой программы «Школа здоровья», здоровьесберегающих технологий в образовательном процессе, а также обеспечения здоровых и безопасных условий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Содействие повышению уровня информационно-коммуникационной культуры участников образовательного процесса посредством развития информатизации образовательной среды гимна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Усиление воспитательного потенциала образования через формирование идентичности гражданина России, через  воспитание доверия, толерантности, миролюбия, диалога культур и психологического комфорта, предупреждения и профилактики социальных рис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Взаимодействие педагогического коллектива с внешним социумом, расширение внешних связей гимназии. Развитие общественной составляющей в управлении гимназ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Оптимизация системы  менеджмента гимна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Обеспечение введения федеральных государственных стандартов общего образования втор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Рабочий</cp:lastModifiedBy>
  <dcterms:modified xsi:type="dcterms:W3CDTF">2011-10-24T12:15:28Z</dcterms:modified>
  <cp:revision>48</cp:revision>
  <dc:subject/>
  <dc:title>Слайд 1</dc:title>
</cp:coreProperties>
</file>