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63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64.jpeg" ContentType="image/jpeg"/>
  <Override PartName="/ppt/media/image76.wmf" ContentType="image/x-wmf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4.jpeg" ContentType="image/jpeg"/>
  <Override PartName="/ppt/media/image91.jpeg" ContentType="image/jpeg"/>
  <Override PartName="/ppt/media/image111.jpeg" ContentType="image/jpeg"/>
  <Override PartName="/ppt/media/image70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95.jpeg" ContentType="image/jpeg"/>
  <Override PartName="/ppt/media/image112.jpeg" ContentType="image/jpeg"/>
  <Override PartName="/ppt/media/image92.jpeg" ContentType="image/jpeg"/>
  <Override PartName="/ppt/media/image71.wmf" ContentType="image/x-wmf"/>
  <Override PartName="/ppt/media/image65.jpeg" ContentType="image/jpeg"/>
  <Override PartName="/ppt/media/image66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118.wmf" ContentType="image/x-wmf"/>
  <Override PartName="/ppt/media/image77.jpeg" ContentType="image/jpeg"/>
  <Override PartName="/ppt/media/image60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55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577-7DC1-4D85-BE1B-B4126344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877-7253-4B0F-A521-E0E1DD2D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58A-9DB4-4514-9CD4-E8143178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CF5-B495-458D-BD82-42208086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B482-C216-4A90-8F5F-D172CCB1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FEA-88C0-4347-9AFE-4C314EB4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B10-002D-4DDA-960E-F7F93179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07A-C591-48CD-A114-469E1EB3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64D-7780-4D7A-8E6E-85C25E5E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D80-96CA-4B6F-AB85-FAC36487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89C-835F-498B-B542-599DBAED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EE2-F57C-4F4E-B486-7B863148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FD29-D859-4494-911E-C0FF907B7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wmf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77.jpe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image" Target="../media/image104.jpe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image" Target="../media/image108.jpeg"/><Relationship Id="rId3" Type="http://schemas.openxmlformats.org/officeDocument/2006/relationships/image" Target="../media/image109.jpe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113.jpe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7208-4306-4F7F-AB40-1D1B3B47FF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10-2011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эмблема"/>
          <p:cNvPicPr/>
          <p:nvPr/>
        </p:nvPicPr>
        <p:blipFill>
          <a:blip r:embed="rId1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8C03-F6E7-4AC0-8278-B612B24FB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2010-2011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84" name="_s1028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29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0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1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23 чел. (78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C49C-1C65-49CC-94FE-C460741A1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10-2011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45 человек (+9 че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2 мальчика       313 дев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 %)                 (57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0FD6-72DE-4659-B554-2D6C21F8F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до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SDC10848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IMG_1003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2579-C8EA-489F-9BE1-81C4E442B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SDC11061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SDC1106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9DC8-5459-4C10-A6C6-E403F6920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MG_0841"/>
          <p:cNvPicPr/>
          <p:nvPr/>
        </p:nvPicPr>
        <p:blipFill>
          <a:blip r:embed="rId1"/>
          <a:stretch/>
        </p:blipFill>
        <p:spPr>
          <a:xfrm>
            <a:off x="179280" y="2133720"/>
            <a:ext cx="4256280" cy="319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IMG_0842"/>
          <p:cNvPicPr/>
          <p:nvPr/>
        </p:nvPicPr>
        <p:blipFill>
          <a:blip r:embed="rId2"/>
          <a:stretch/>
        </p:blipFill>
        <p:spPr>
          <a:xfrm>
            <a:off x="4643280" y="2133720"/>
            <a:ext cx="40388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E4D1-C32A-4276-B961-EB300A1EF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IMG_092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IMG_0928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7232-C02B-4351-9B16-117AD29D0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IMG_092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IMG_0930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9556-9C02-4E5E-ACD1-FE34EFD05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 после ремо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IMG_0933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IMG_093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63AF-F055-4D7F-BA2C-8607B9EDA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активное 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DSCN6182"/>
          <p:cNvPicPr/>
          <p:nvPr/>
        </p:nvPicPr>
        <p:blipFill>
          <a:blip r:embed="rId1"/>
          <a:stretch/>
        </p:blipFill>
        <p:spPr>
          <a:xfrm>
            <a:off x="457200" y="2557440"/>
            <a:ext cx="4038480" cy="2610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DSCN6188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089E-12AC-4170-B11B-627F411DD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AD34-72E3-4680-8786-87ADD8170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71C3-F1BE-4787-9CC2-4BE1B6E83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IMG_094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IMG_0705"/>
          <p:cNvPicPr/>
          <p:nvPr/>
        </p:nvPicPr>
        <p:blipFill>
          <a:blip r:embed="rId2"/>
          <a:stretch/>
        </p:blipFill>
        <p:spPr>
          <a:xfrm>
            <a:off x="4648320" y="2859120"/>
            <a:ext cx="403848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259B-90C2-4CA6-8602-EE788AB53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IMG_0848"/>
          <p:cNvPicPr/>
          <p:nvPr/>
        </p:nvPicPr>
        <p:blipFill>
          <a:blip r:embed="rId1"/>
          <a:stretch/>
        </p:blipFill>
        <p:spPr>
          <a:xfrm>
            <a:off x="1274760" y="1600200"/>
            <a:ext cx="240336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IMG_0850"/>
          <p:cNvPicPr/>
          <p:nvPr/>
        </p:nvPicPr>
        <p:blipFill>
          <a:blip r:embed="rId2"/>
          <a:stretch/>
        </p:blipFill>
        <p:spPr>
          <a:xfrm>
            <a:off x="4648320" y="2900520"/>
            <a:ext cx="40384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55B8-6EBE-4DC8-9846-134205077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IMG_0830"/>
          <p:cNvPicPr/>
          <p:nvPr/>
        </p:nvPicPr>
        <p:blipFill>
          <a:blip r:embed="rId1"/>
          <a:stretch/>
        </p:blipFill>
        <p:spPr>
          <a:xfrm>
            <a:off x="900000" y="765000"/>
            <a:ext cx="2287800" cy="3049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IMG_0832"/>
          <p:cNvPicPr/>
          <p:nvPr/>
        </p:nvPicPr>
        <p:blipFill>
          <a:blip r:embed="rId2"/>
          <a:stretch/>
        </p:blipFill>
        <p:spPr>
          <a:xfrm>
            <a:off x="4896000" y="333360"/>
            <a:ext cx="2611440" cy="3481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IMG_0831"/>
          <p:cNvPicPr/>
          <p:nvPr/>
        </p:nvPicPr>
        <p:blipFill>
          <a:blip r:embed="rId3"/>
          <a:stretch/>
        </p:blipFill>
        <p:spPr>
          <a:xfrm>
            <a:off x="2195640" y="3662280"/>
            <a:ext cx="2396880" cy="3195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IMG_0833"/>
          <p:cNvPicPr/>
          <p:nvPr/>
        </p:nvPicPr>
        <p:blipFill>
          <a:blip r:embed="rId4"/>
          <a:stretch/>
        </p:blipFill>
        <p:spPr>
          <a:xfrm>
            <a:off x="5148360" y="393372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E28A-4680-4735-A7E8-B89F96A69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IMG_083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IMG_0853"/>
          <p:cNvPicPr/>
          <p:nvPr/>
        </p:nvPicPr>
        <p:blipFill>
          <a:blip r:embed="rId2"/>
          <a:stretch/>
        </p:blipFill>
        <p:spPr>
          <a:xfrm>
            <a:off x="1282680" y="3938760"/>
            <a:ext cx="2387520" cy="2187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IMG_0847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CED1-5042-4A14-A62D-F7F904670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IMG_0846"/>
          <p:cNvPicPr/>
          <p:nvPr/>
        </p:nvPicPr>
        <p:blipFill>
          <a:blip r:embed="rId1"/>
          <a:stretch/>
        </p:blipFill>
        <p:spPr>
          <a:xfrm>
            <a:off x="457200" y="1623960"/>
            <a:ext cx="4038480" cy="2136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IMG_0852"/>
          <p:cNvPicPr/>
          <p:nvPr/>
        </p:nvPicPr>
        <p:blipFill>
          <a:blip r:embed="rId2"/>
          <a:stretch/>
        </p:blipFill>
        <p:spPr>
          <a:xfrm>
            <a:off x="4716360" y="1628640"/>
            <a:ext cx="3346560" cy="2509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IMG_0845"/>
          <p:cNvPicPr/>
          <p:nvPr/>
        </p:nvPicPr>
        <p:blipFill>
          <a:blip r:embed="rId3"/>
          <a:stretch/>
        </p:blipFill>
        <p:spPr>
          <a:xfrm>
            <a:off x="324000" y="3417840"/>
            <a:ext cx="3609720" cy="2708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IMG_0849"/>
          <p:cNvPicPr/>
          <p:nvPr/>
        </p:nvPicPr>
        <p:blipFill>
          <a:blip r:embed="rId4"/>
          <a:stretch/>
        </p:blipFill>
        <p:spPr>
          <a:xfrm>
            <a:off x="4788000" y="4076640"/>
            <a:ext cx="225252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5837-A924-48E9-80AD-151D7B1FA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IMG_0854"/>
          <p:cNvPicPr/>
          <p:nvPr/>
        </p:nvPicPr>
        <p:blipFill>
          <a:blip r:embed="rId1"/>
          <a:stretch/>
        </p:blipFill>
        <p:spPr>
          <a:xfrm>
            <a:off x="468360" y="260280"/>
            <a:ext cx="3957480" cy="2968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IMG_0855"/>
          <p:cNvPicPr/>
          <p:nvPr/>
        </p:nvPicPr>
        <p:blipFill>
          <a:blip r:embed="rId2"/>
          <a:stretch/>
        </p:blipFill>
        <p:spPr>
          <a:xfrm>
            <a:off x="3780000" y="981000"/>
            <a:ext cx="5076720" cy="2811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IMG_0858"/>
          <p:cNvPicPr/>
          <p:nvPr/>
        </p:nvPicPr>
        <p:blipFill>
          <a:blip r:embed="rId3"/>
          <a:stretch/>
        </p:blipFill>
        <p:spPr>
          <a:xfrm>
            <a:off x="5148360" y="393372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IMG_0861"/>
          <p:cNvPicPr/>
          <p:nvPr/>
        </p:nvPicPr>
        <p:blipFill>
          <a:blip r:embed="rId4"/>
          <a:stretch/>
        </p:blipFill>
        <p:spPr>
          <a:xfrm>
            <a:off x="539640" y="355608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89C4-EE25-4BEF-AD6A-D6E944CCE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IMG_074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1BBD-FFF3-49AB-B361-D9B6B1B6BD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ер по модернизации системы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лавная стратегическая 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ставленная перед системой образования области, заключается в обеспечении возможности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ждому жител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не зависимости от места проживания, социального и имущественного статуса и состояния здоровья получи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ачественное и доступное 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любом уровне, которое соответствует потребностям современного общества и требованиям развития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B5FB-033C-484C-9916-CAE34ED25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плекс мер по модернизации системы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овышение заработной платы уч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крепление материально-технической базы школ (учебники, мебель, компьютеры, спортивное обору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A6CD-4E23-4B89-8E36-B52CEAC65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рмативы финанс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42920" y="1827360"/>
          <a:ext cx="7640640" cy="4462200"/>
        </p:xfrm>
        <a:graphic>
          <a:graphicData uri="http://schemas.openxmlformats.org/drawingml/2006/table">
            <a:tbl>
              <a:tblPr/>
              <a:tblGrid>
                <a:gridCol w="1657440"/>
                <a:gridCol w="2808360"/>
                <a:gridCol w="31748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о с 1 сентября 2011 г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56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00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 4244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69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68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4699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27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99 рубл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+5772 руб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FBF0-AE65-4983-9E31-297B2DB43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4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эмблема"/>
          <p:cNvPicPr/>
          <p:nvPr/>
        </p:nvPicPr>
        <p:blipFill>
          <a:blip r:embed="rId1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МОУ Гимназия г"/>
          <p:cNvPicPr/>
          <p:nvPr/>
        </p:nvPicPr>
        <p:blipFill>
          <a:blip r:embed="rId2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846A-5AA5-47ED-8429-C7C00EB46A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тивы финансирования 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сентября 2011 года. Ф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70160" y="1827360"/>
          <a:ext cx="7313400" cy="514332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13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226 ру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810 ру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85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770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486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тупень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69х2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938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534 ру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21F2-8DE6-4A34-A85B-A90B394190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 на 2011-2013 г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сия гимназ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в процессе обучения, воспитания, развития, социализации ученика (выпускника)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ЧНОГО ЧЕЛОВЕКА, ГРАЖДАНИНА РОССИИ, кото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честен, законопослушен, имеет активную гражданскую пози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ладает совестью, состраданием, толерант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ладеет ключевыми компетентностями, необходимыми для жизни и профессиональной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ладеет современными знаниями, умениями и навы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онкурентоспособ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является патриотом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эмблема"/>
          <p:cNvPicPr/>
          <p:nvPr/>
        </p:nvPicPr>
        <p:blipFill>
          <a:blip r:embed="rId1"/>
          <a:stretch/>
        </p:blipFill>
        <p:spPr>
          <a:xfrm>
            <a:off x="6300720" y="4838760"/>
            <a:ext cx="173196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33F4-F273-49AF-9DD5-68FB5FD46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3BD0-0569-4C82-AAD6-0A1C895D01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187" name="_s2052"/>
            <p:cNvCxnSpPr>
              <a:stCxn id="188" idx="0"/>
              <a:endCxn id="189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53"/>
            <p:cNvCxnSpPr>
              <a:stCxn id="191" idx="0"/>
              <a:endCxn id="189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2054"/>
            <p:cNvCxnSpPr>
              <a:stCxn id="193" idx="0"/>
              <a:endCxn id="189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9" name="_s2055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7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3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8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7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58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9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9ED2-0D7F-4B95-AFD3-515C6ADE8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46836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55D3-FD25-49D2-B521-0D99136CD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200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Сергеева"/>
          <p:cNvPicPr/>
          <p:nvPr/>
        </p:nvPicPr>
        <p:blipFill>
          <a:blip r:embed="rId2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Копысова - копия"/>
          <p:cNvPicPr/>
          <p:nvPr/>
        </p:nvPicPr>
        <p:blipFill>
          <a:blip r:embed="rId3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" descr="IMG 043"/>
          <p:cNvPicPr/>
          <p:nvPr/>
        </p:nvPicPr>
        <p:blipFill>
          <a:blip r:embed="rId4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" descr="1Двоеглазова ТЛ"/>
          <p:cNvPicPr/>
          <p:nvPr/>
        </p:nvPicPr>
        <p:blipFill>
          <a:blip r:embed="rId5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Фото Мурина"/>
          <p:cNvPicPr/>
          <p:nvPr/>
        </p:nvPicPr>
        <p:blipFill>
          <a:blip r:embed="rId6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DBD7-827B-4976-AF96-A788930D8B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лучших учителей Кировской области –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PC120057"/>
          <p:cNvPicPr/>
          <p:nvPr/>
        </p:nvPicPr>
        <p:blipFill>
          <a:blip r:embed="rId1"/>
          <a:stretch/>
        </p:blipFill>
        <p:spPr>
          <a:xfrm>
            <a:off x="762120" y="1600200"/>
            <a:ext cx="3427200" cy="452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_Перминова1_1"/>
          <p:cNvPicPr/>
          <p:nvPr/>
        </p:nvPicPr>
        <p:blipFill>
          <a:blip r:embed="rId2"/>
          <a:stretch/>
        </p:blipFill>
        <p:spPr>
          <a:xfrm>
            <a:off x="5076720" y="1600200"/>
            <a:ext cx="3181320" cy="45259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9"/>
          <p:cNvSpPr/>
          <p:nvPr/>
        </p:nvSpPr>
        <p:spPr>
          <a:xfrm>
            <a:off x="468360" y="6093000"/>
            <a:ext cx="38876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281480" y="6165720"/>
            <a:ext cx="39625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 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22D6-627D-44F4-9437-B32534B97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грудный зна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Педагогическая слава» -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эмблема"/>
          <p:cNvPicPr/>
          <p:nvPr/>
        </p:nvPicPr>
        <p:blipFill>
          <a:blip r:embed="rId1"/>
          <a:stretch/>
        </p:blipFill>
        <p:spPr>
          <a:xfrm>
            <a:off x="7236000" y="5084640"/>
            <a:ext cx="1515960" cy="1516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DSC06152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E9D8-75D4-4883-97C2-6D284F4DF9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бедитель областного этапа Всероссийского конкурса в области педагогики, воспитания и работы с детьми школьного возраста на соискание премии «За нравственный подвиг учителя» (август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ер  областного конкурса публикаций репортажей, содействующих формированию позитивного образа учите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2" descr="IMG 043"/>
          <p:cNvPicPr/>
          <p:nvPr/>
        </p:nvPicPr>
        <p:blipFill>
          <a:blip r:embed="rId1"/>
          <a:stretch/>
        </p:blipFill>
        <p:spPr>
          <a:xfrm>
            <a:off x="757080" y="1628640"/>
            <a:ext cx="33814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EBB0-4ACC-4C6E-BB00-3B0D383F7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воеглазова Тамара Леонид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премии Правительства Кировской области для педагогических работников ОУ, подготовивших победителей и призёров заключительного этапа Всероссийской олимпиады школьников в 2011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746280" y="1268280"/>
            <a:ext cx="30733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03DC-3FAB-43EF-9FB8-C468FC647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4615-8123-49B4-931B-87251BB8C0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лодкина Вера Борис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итель муниципального этапа конкурса «Учитель года  -2010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PC178729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7707-B9BA-4094-8D67-8D73C8390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еда в городском конкурсе «Лучший по профессии» - 2011 в номинации «Лучший педагог общего образован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DSCN0828"/>
          <p:cNvPicPr/>
          <p:nvPr/>
        </p:nvPicPr>
        <p:blipFill>
          <a:blip r:embed="rId1"/>
          <a:stretch/>
        </p:blipFill>
        <p:spPr>
          <a:xfrm>
            <a:off x="457200" y="1620720"/>
            <a:ext cx="4038480" cy="44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A86B-7DB1-49D7-B2C1-5B9D6C344F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бедители городских конкурсов в 2011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DSCN0916 - копия"/>
          <p:cNvPicPr/>
          <p:nvPr/>
        </p:nvPicPr>
        <p:blipFill>
          <a:blip r:embed="rId1"/>
          <a:stretch/>
        </p:blipFill>
        <p:spPr>
          <a:xfrm>
            <a:off x="468360" y="1557360"/>
            <a:ext cx="1839960" cy="2185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P9010086"/>
          <p:cNvPicPr/>
          <p:nvPr/>
        </p:nvPicPr>
        <p:blipFill>
          <a:blip r:embed="rId2"/>
          <a:stretch/>
        </p:blipFill>
        <p:spPr>
          <a:xfrm>
            <a:off x="4978440" y="1628640"/>
            <a:ext cx="1609560" cy="2521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2411280" y="3573360"/>
            <a:ext cx="2181240" cy="3284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P9010060"/>
          <p:cNvPicPr/>
          <p:nvPr/>
        </p:nvPicPr>
        <p:blipFill>
          <a:blip r:embed="rId4"/>
          <a:stretch/>
        </p:blipFill>
        <p:spPr>
          <a:xfrm>
            <a:off x="5292720" y="3933720"/>
            <a:ext cx="1935000" cy="2546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3"/>
          <p:cNvSpPr/>
          <p:nvPr/>
        </p:nvSpPr>
        <p:spPr>
          <a:xfrm>
            <a:off x="2751120" y="172080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335320" y="1792440"/>
            <a:ext cx="2038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7608600" y="1647720"/>
            <a:ext cx="12294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х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525240" y="3952800"/>
            <a:ext cx="1543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каред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370640" y="3881520"/>
            <a:ext cx="14670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ми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37A3-DF25-49E3-9045-92F5F5AF5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еврюкова Елена Виктор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плом 1 степени  в областном конкурсе  «Противодействие коррупции через образова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IMG_7137лена"/>
          <p:cNvPicPr/>
          <p:nvPr/>
        </p:nvPicPr>
        <p:blipFill>
          <a:blip r:embed="rId1"/>
          <a:stretch/>
        </p:blipFill>
        <p:spPr>
          <a:xfrm>
            <a:off x="932040" y="1600200"/>
            <a:ext cx="3087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443D-D382-49E4-8CBB-90949C120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ной конкурс школьных газ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азета «Гимназист» - призёр в номинации «Лучший дизайн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DSC06152"/>
          <p:cNvPicPr/>
          <p:nvPr/>
        </p:nvPicPr>
        <p:blipFill>
          <a:blip r:embed="rId1"/>
          <a:stretch/>
        </p:blipFill>
        <p:spPr>
          <a:xfrm>
            <a:off x="611280" y="1628640"/>
            <a:ext cx="2376360" cy="194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P9010094"/>
          <p:cNvPicPr/>
          <p:nvPr/>
        </p:nvPicPr>
        <p:blipFill>
          <a:blip r:embed="rId2"/>
          <a:stretch/>
        </p:blipFill>
        <p:spPr>
          <a:xfrm>
            <a:off x="611280" y="3933720"/>
            <a:ext cx="1295280" cy="21877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0"/>
          <p:cNvSpPr/>
          <p:nvPr/>
        </p:nvSpPr>
        <p:spPr>
          <a:xfrm>
            <a:off x="2927520" y="3952800"/>
            <a:ext cx="144720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ь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3168720" y="1576440"/>
            <a:ext cx="12049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095E-2F6C-49BC-B478-17EDCCF8B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тоусова Татьяна Валерь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бликация в журнале «Английский язык в школе» №2 2011.   (российский уровень) статьи«Использование информационно-коммуникационных технологий в преподавании английского язык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830160" y="1341360"/>
            <a:ext cx="300996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A280-B5FB-4941-BE97-2FD4543C0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ей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ей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хтусова Н.Г. – учителей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D4EB-E91F-468D-8E12-2B6F9334C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270" name="Freeform 3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эмблема"/>
          <p:cNvPicPr/>
          <p:nvPr/>
        </p:nvPicPr>
        <p:blipFill>
          <a:blip r:embed="rId1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1" descr="DSC_4325"/>
          <p:cNvPicPr/>
          <p:nvPr/>
        </p:nvPicPr>
        <p:blipFill>
          <a:blip r:embed="rId2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3" descr="DSC06152"/>
          <p:cNvPicPr/>
          <p:nvPr/>
        </p:nvPicPr>
        <p:blipFill>
          <a:blip r:embed="rId3"/>
          <a:stretch/>
        </p:blipFill>
        <p:spPr>
          <a:xfrm>
            <a:off x="971640" y="3933720"/>
            <a:ext cx="2376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E01B-AD0D-4610-B647-FA555E5718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КС для гимназий и лицеев Приволжского федерального окру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дагогическая поддержка одаренности гимназиста на разных ступенях обучения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прель 20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1" descr="IMG_0144"/>
          <p:cNvPicPr/>
          <p:nvPr/>
        </p:nvPicPr>
        <p:blipFill>
          <a:blip r:embed="rId1"/>
          <a:stretch/>
        </p:blipFill>
        <p:spPr>
          <a:xfrm>
            <a:off x="468360" y="1197000"/>
            <a:ext cx="3489120" cy="2617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2" descr="IMG_0622"/>
          <p:cNvPicPr/>
          <p:nvPr/>
        </p:nvPicPr>
        <p:blipFill>
          <a:blip r:embed="rId2"/>
          <a:stretch/>
        </p:blipFill>
        <p:spPr>
          <a:xfrm>
            <a:off x="4500720" y="1305000"/>
            <a:ext cx="389700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C485-3E91-4A7A-8451-51D75C644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PA12000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PA120011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PA120005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7C1A-D4F1-44E5-AB60-DB61CA3DB3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0DBD-D147-4260-A98E-8777A532D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" descr="DSCN341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P5120053"/>
          <p:cNvPicPr/>
          <p:nvPr/>
        </p:nvPicPr>
        <p:blipFill>
          <a:blip r:embed="rId2"/>
          <a:stretch/>
        </p:blipFill>
        <p:spPr>
          <a:xfrm>
            <a:off x="5316480" y="1600200"/>
            <a:ext cx="2700360" cy="2185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DSCN3384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9D4A-24D2-4670-8345-A7F56F952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IMG_0648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IMG_0660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IMG_0678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2CE4-AEB3-4C3C-9874-9E71379AF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IMG_0029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DSCN6235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DSCN6241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C6B1-7D15-4F3E-9E1A-11845F600D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-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71,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1DB0-7E5D-49AE-BDFD-6F0B2CD36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певаем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11 класс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6% (+2%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 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 (+10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1кла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%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% (-2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9BBA-3E2F-4A1F-981C-4D9348CBE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учшие результаты по качеству зн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а класс, выпуск (тьютор О.Ю. Михеева) – 100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б класс (тьютор Н.Н. Фетисова) – 96 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б класс (тьютор О.А. Ячменникова) – 96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б класс (тьютор В.Б. Колодкина) – 92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а класс (тьютор Н.В. Аботурова) – 88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а класс (тьютор Т.А. Колесникова) – 85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а  класс (тьютор М.Ю. Жукова)  - 79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 класс (тьютор И.В. Емельянова) – 79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лом высокие результаты в начальной школе – от 76% до 96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0782-6837-441D-BA73-9F8096075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изкие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качеству знаний  при хорошем учебном потенциале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б классе (тьютор А.В. Зверева) – 4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а классе (тьютор Н.А. Старикова) – 46%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а классе (тьютор С.Е. Волоскова) – 40%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2D85-7235-4282-89DD-97DB22295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чшие результаты по качеству знаний по предмету, изучаемому углублен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8б класс, учитель З.П. Сергеева – 8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5б класс, учителя М.Ю. Жукова, Т.В. Криницына, А.А. Рысева – 92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10а класс, учителя Т.В. Чистоусова, Р.А. Быкова, И.Ю. Сухотина – 90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6а класс, учителя М.Ю. Жукова, Т.В. Криницына, Н.Л. Лобанова – 88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5а класс, учителя М.Ю. Жукова, Т.В. Криницына, А.А. Рысева – 7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7а класс, учителя Г.Н. Шкаредная, Н.Л. Лобанова – 79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25AF-FA33-4E81-B388-E8F9E28EB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10-2011 учебный г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целом по  иностранному языку, изучаемому углубленно, индекс качества знаний по предмету – 74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о профилирующему предмету в 8ав классах индекс качества знаний только 46% и 48% соответствен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D09B-A9BA-4A5A-A9E2-9684D31DB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9 выпускников получили аттестаты, 1 из них с отличи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 (63%)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26A3-50B4-4CFF-8412-577E696FC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SDC10888"/>
          <p:cNvPicPr/>
          <p:nvPr/>
        </p:nvPicPr>
        <p:blipFill>
          <a:blip r:embed="rId1"/>
          <a:stretch/>
        </p:blipFill>
        <p:spPr>
          <a:xfrm>
            <a:off x="457200" y="1693800"/>
            <a:ext cx="4038480" cy="4337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IMG_0853"/>
          <p:cNvPicPr/>
          <p:nvPr/>
        </p:nvPicPr>
        <p:blipFill>
          <a:blip r:embed="rId2"/>
          <a:stretch/>
        </p:blipFill>
        <p:spPr>
          <a:xfrm>
            <a:off x="4500720" y="1660680"/>
            <a:ext cx="4181400" cy="43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526B-CB42-444B-8202-D1AFABD98B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класса 201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ые экзам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й язык –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(бланковая технология)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«4» и «5» - 70,8 % (1 место в городе), из них только на «5» - 23 человека (48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ыполнении экзаменационной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твердили годовые отметки – 27 чел. (56,25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ысили годовые отметки – 17 чел. (35,5%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лучили отметку ниже годовой – 4 чел. (8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DF0A-FC6B-4EC9-8690-8F32D3140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14B6-3AB6-476D-BB4F-D94EABE135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ствознание – 20 чел. (43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ка – 15 чел. (32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– 13 чел. (28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12 чел. (24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а – 10 чел. (21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857E-4018-45D2-8B2C-F0AD63E6C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1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ыпускники гимназии сдали обязательный экзамен по математике (учителя И.К. Падерина, Е.В. Соловьева)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балл по гимназии – 5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ервое место среди школ города Слобод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тель гимназии выше среднегородского (49,6 б.), среднего по Северному образовательному округу (48,73 б.), среднеобластного (49,61 б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9795-1EDE-414D-9545-8CADB40A5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1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ий балл по гимназии – 74,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009-2010 уч. год - 70,2 балл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ое место среди школ города Слободского. Показатель гимназии выше среднегородского (65,9 б.), среднего по Северному образовательному округу (64,3 б.), среднеобластного (65,76 б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4FFF-1113-4F3C-9EE6-987FABF8F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1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25,5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ты с отметками «4» и «5» получили 37 из 47 выпускников (79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1B9A-1769-4024-9862-0B1E2879D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лжение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Organization Chart 6"/>
          <p:cNvGrpSpPr/>
          <p:nvPr/>
        </p:nvGrpSpPr>
        <p:grpSpPr>
          <a:xfrm>
            <a:off x="442800" y="1614600"/>
            <a:ext cx="8208360" cy="4462560"/>
            <a:chOff x="442800" y="1614600"/>
            <a:chExt cx="8208360" cy="4462560"/>
          </a:xfrm>
        </p:grpSpPr>
        <p:cxnSp>
          <p:nvCxnSpPr>
            <p:cNvPr id="346" name="_s4100"/>
            <p:cNvCxnSpPr>
              <a:stCxn id="347" idx="0"/>
              <a:endCxn id="348" idx="2"/>
            </p:cNvCxnSpPr>
            <p:nvPr/>
          </p:nvCxnSpPr>
          <p:spPr>
            <a:xfrm flipV="1" rot="16200000">
              <a:off x="5536800" y="24084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9" name="_s4101"/>
            <p:cNvCxnSpPr>
              <a:stCxn id="350" idx="0"/>
              <a:endCxn id="348" idx="2"/>
            </p:cNvCxnSpPr>
            <p:nvPr/>
          </p:nvCxnSpPr>
          <p:spPr>
            <a:xfrm flipV="1">
              <a:off x="4547160" y="33987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1" name="_s4102"/>
            <p:cNvCxnSpPr>
              <a:stCxn id="352" idx="0"/>
              <a:endCxn id="348" idx="2"/>
            </p:cNvCxnSpPr>
            <p:nvPr/>
          </p:nvCxnSpPr>
          <p:spPr>
            <a:xfrm flipH="1" flipV="1" rot="5400000">
              <a:off x="2664000" y="24087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8" name="_s4103"/>
            <p:cNvSpPr/>
            <p:nvPr/>
          </p:nvSpPr>
          <p:spPr>
            <a:xfrm>
              <a:off x="3315600" y="16146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7 выпускник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4104"/>
            <p:cNvSpPr/>
            <p:nvPr/>
          </p:nvSpPr>
          <p:spPr>
            <a:xfrm>
              <a:off x="4428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3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УЗ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4105"/>
            <p:cNvSpPr/>
            <p:nvPr/>
          </p:nvSpPr>
          <p:spPr>
            <a:xfrm>
              <a:off x="331560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лледж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4106"/>
            <p:cNvSpPr/>
            <p:nvPr/>
          </p:nvSpPr>
          <p:spPr>
            <a:xfrm>
              <a:off x="6188760" y="42922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 чел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рм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Text Box 16"/>
          <p:cNvSpPr/>
          <p:nvPr/>
        </p:nvSpPr>
        <p:spPr>
          <a:xfrm>
            <a:off x="3079440" y="6184800"/>
            <a:ext cx="453312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упление в ВУЗы, колледжи – 9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687B-DC52-4ADD-ADD8-405FC157A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иональный этап Всероссийской олимпиады школьников -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призовых мест на областном уров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пылов К., учитель Т.Л. Двоегла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опылов К., учитель Н.Г. Пахтус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Х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Пентина Е., учитель Н.В. Аботу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е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Корсенюк А., учитель Т.Ю. Пушка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ы православной куль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Анисимов Е., учитель Л.Г. Кайс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FDDC-089C-47B2-8D78-D91DC03CA4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ключительном (всероссийском)  этапе олимпиады приняли участие 3 гимназиста (Копылов К., Анисимов Е., Пентина Е.), два из них - Копылов К. (химия), Анисимов Е. (Основы православной культуры) – призё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гимназии Н. Иванькович участвовала в олимпиаде школьников по праву Московской государтсвенной юридической академии им. О.Е. Кутафина, где заняла 8 место (вошла в число победителей) из 625 участников из школ России. Именно по итогам олимпиады Наталья Иванькович была зачислена в число студентов академии на бюджетное место в 2011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6224-5969-4356-8081-ADE392F70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1403-726C-4BAB-AC1B-561A1322D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11-2013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9837-8A45-49C6-87A2-7BB1D17067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1" descr="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1024"/>
          <p:cNvPicPr/>
          <p:nvPr/>
        </p:nvPicPr>
        <p:blipFill>
          <a:blip r:embed="rId2"/>
          <a:stretch/>
        </p:blipFill>
        <p:spPr>
          <a:xfrm>
            <a:off x="1019160" y="3938760"/>
            <a:ext cx="2914560" cy="21873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8" descr="7"/>
          <p:cNvPicPr/>
          <p:nvPr/>
        </p:nvPicPr>
        <p:blipFill>
          <a:blip r:embed="rId3"/>
          <a:stretch/>
        </p:blipFill>
        <p:spPr>
          <a:xfrm>
            <a:off x="457200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17CE-D3C2-4096-A087-BBAD095D7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апреля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IMG_060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IMG_0612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3" descr="IMG_0603"/>
          <p:cNvPicPr/>
          <p:nvPr/>
        </p:nvPicPr>
        <p:blipFill>
          <a:blip r:embed="rId3"/>
          <a:stretch/>
        </p:blipFill>
        <p:spPr>
          <a:xfrm>
            <a:off x="4938840" y="1600200"/>
            <a:ext cx="3456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7188-EB1A-47D1-A15B-A92862A93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0" descr="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11CA-99BC-4C70-95A7-59DB9B543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7" descr="DSC_0009"/>
          <p:cNvPicPr/>
          <p:nvPr/>
        </p:nvPicPr>
        <p:blipFill>
          <a:blip r:embed="rId1"/>
          <a:stretch/>
        </p:blipFill>
        <p:spPr>
          <a:xfrm>
            <a:off x="755640" y="1197000"/>
            <a:ext cx="2076480" cy="3095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8" descr="PA060005"/>
          <p:cNvPicPr/>
          <p:nvPr/>
        </p:nvPicPr>
        <p:blipFill>
          <a:blip r:embed="rId2"/>
          <a:stretch/>
        </p:blipFill>
        <p:spPr>
          <a:xfrm>
            <a:off x="53964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9" descr="посвящение в читатели2"/>
          <p:cNvPicPr/>
          <p:nvPr/>
        </p:nvPicPr>
        <p:blipFill>
          <a:blip r:embed="rId3"/>
          <a:stretch/>
        </p:blipFill>
        <p:spPr>
          <a:xfrm>
            <a:off x="5254560" y="1341360"/>
            <a:ext cx="3889440" cy="2755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1" descr="PA060007"/>
          <p:cNvPicPr/>
          <p:nvPr/>
        </p:nvPicPr>
        <p:blipFill>
          <a:blip r:embed="rId4"/>
          <a:stretch/>
        </p:blipFill>
        <p:spPr>
          <a:xfrm>
            <a:off x="3635280" y="3706920"/>
            <a:ext cx="34560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EC23-10DF-41B4-AC46-59CA7E930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IMG_0756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0" descr="IMG_0703"/>
          <p:cNvPicPr/>
          <p:nvPr/>
        </p:nvPicPr>
        <p:blipFill>
          <a:blip r:embed="rId2"/>
          <a:stretch/>
        </p:blipFill>
        <p:spPr>
          <a:xfrm>
            <a:off x="4716360" y="3213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3DF9-6925-4BE3-95CD-AF124D49A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3" descr="IMG_0501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4" descr="IMG_0502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IMG_0522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F0E6-3F77-4A67-ADEF-9674400CD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Изображение 019"/>
          <p:cNvPicPr/>
          <p:nvPr/>
        </p:nvPicPr>
        <p:blipFill>
          <a:blip r:embed="rId1"/>
          <a:stretch/>
        </p:blipFill>
        <p:spPr>
          <a:xfrm>
            <a:off x="622440" y="1600200"/>
            <a:ext cx="3706560" cy="2185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P1030198"/>
          <p:cNvPicPr/>
          <p:nvPr/>
        </p:nvPicPr>
        <p:blipFill>
          <a:blip r:embed="rId2"/>
          <a:stretch/>
        </p:blipFill>
        <p:spPr>
          <a:xfrm>
            <a:off x="5254560" y="1600200"/>
            <a:ext cx="2825640" cy="2185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P5210076"/>
          <p:cNvPicPr/>
          <p:nvPr/>
        </p:nvPicPr>
        <p:blipFill>
          <a:blip r:embed="rId3"/>
          <a:stretch/>
        </p:blipFill>
        <p:spPr>
          <a:xfrm>
            <a:off x="563400" y="3938760"/>
            <a:ext cx="3824280" cy="2187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DSCN4089"/>
          <p:cNvPicPr/>
          <p:nvPr/>
        </p:nvPicPr>
        <p:blipFill>
          <a:blip r:embed="rId4"/>
          <a:stretch/>
        </p:blipFill>
        <p:spPr>
          <a:xfrm>
            <a:off x="4648320" y="4021200"/>
            <a:ext cx="403848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C4BC-BE86-410C-866A-1600ED76B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0 лет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1" descr="DSCN3943"/>
          <p:cNvPicPr/>
          <p:nvPr/>
        </p:nvPicPr>
        <p:blipFill>
          <a:blip r:embed="rId1"/>
          <a:stretch/>
        </p:blipFill>
        <p:spPr>
          <a:xfrm>
            <a:off x="2484360" y="148428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DSCN4000"/>
          <p:cNvPicPr/>
          <p:nvPr/>
        </p:nvPicPr>
        <p:blipFill>
          <a:blip r:embed="rId2"/>
          <a:stretch/>
        </p:blipFill>
        <p:spPr>
          <a:xfrm>
            <a:off x="830160" y="3938760"/>
            <a:ext cx="3292560" cy="218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DSCN4038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DSCN4074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2984-B96F-41AE-900F-FEB0728244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трибу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9"/>
          <p:cNvGraphicFramePr/>
          <p:nvPr/>
        </p:nvGraphicFramePr>
        <p:xfrm>
          <a:off x="773280" y="3938760"/>
          <a:ext cx="3404880" cy="21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3938760"/>
                    <a:ext cx="340488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ш дев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читесь, дерзайте, шагайте впере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мназия к цели нас твердо ведет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11" descr="P9010014"/>
          <p:cNvPicPr/>
          <p:nvPr/>
        </p:nvPicPr>
        <p:blipFill>
          <a:blip r:embed="rId3"/>
          <a:stretch/>
        </p:blipFill>
        <p:spPr>
          <a:xfrm>
            <a:off x="611280" y="907920"/>
            <a:ext cx="273672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DC0B-9D66-48F2-B438-C86EA3768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ппы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457200" y="1413000"/>
          <a:ext cx="8229600" cy="5456160"/>
        </p:xfrm>
        <a:graphic>
          <a:graphicData uri="http://schemas.openxmlformats.org/drawingml/2006/table">
            <a:tbl>
              <a:tblPr/>
              <a:tblGrid>
                <a:gridCol w="2602080"/>
                <a:gridCol w="1944360"/>
                <a:gridCol w="1800360"/>
                <a:gridCol w="1882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 уче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уче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уче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доровые д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4 чел. (14,2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9 чел. (17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8 чел. (16,1%)</a:t>
                      </a: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ые отклонения в здоровь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 чел. (44,6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6 чел. (40,7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5 чел. (43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чел. (40,8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4 чел. (40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(39,1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еские заболе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чел. (0,6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чел. (1,3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чел. (1,1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-инвали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чел. (0,4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чел. (0,9%)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ел. (0,6%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A4A1-6AA8-41F5-B5DB-6F02F08930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общей культуры личности обучающихся на основе усвоения обязательного минимума содержания основных общеобразовательных программ, федеральных государственных образовательных стандартов,  их адаптация к жизни в обществ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ние основы для осознанного выбора и последующего освоения профессиональных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ние гражданственности, трудолюбия, уважения к правам и свободам человека, любви к окружающей природе, Родине, сем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ирование здорового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1935-0594-4490-AA7A-D3DC340CF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урны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530440"/>
                <a:gridCol w="1800360"/>
                <a:gridCol w="2089080"/>
                <a:gridCol w="1809720"/>
              </a:tblGrid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-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 ученик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-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 учени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 учеников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 чел. (84,1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 (84,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6 чел. (8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пециализирова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я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 чел. (14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чел. (13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 чел. (15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бождение от практической части физической культур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чел. (1,92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чел. (2,8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чел. (3,1%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BA24-CF06-4194-A1B3-171755E94C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Обеспечение высокого качества гимназического образования на основе системно деятельностного подхода, вариативности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звитие творческой образовательной среды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выявления и раскрытия способностей каждого гимнази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выявления особо одарённых обучающихся и организация их индивидуального сопровождения, развитие одарё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поддержки мотивации личности к познанию, творчеству и тру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4. успешной социализац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7636-2E90-4F80-9F96-79CF194E2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здание необходимых условий для сохранения и укрепления здоровья участников образовательного процесса посредством реализации комплексно-целевой программы «Школа здоровья», здоровьесберегающих технологий в образовательном процессе, а также обеспечения здоровых и безопасных условий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Содействие повышению уровня информационно-коммуникационной культуры участников образовательного процесса посредством развития информатизации образовательной среды гимназ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Усиление воспитательного потенциала образования через формирование идентичности гражданина России, через  воспитание доверия, толерантности, миролюбия, диалога культур и психологического комфорта, предупреждения и профилактики социальных рис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F12D-D7BE-4D6D-A18E-62D4AFA48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1-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Развитие общественной составляющей в управлении гимназ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беспечение введения федеральных государственных стандартов общего образования второго поко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209F-D5A4-4BC8-9CF3-53C4CD199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28" name="Freeform 5"/>
            <p:cNvSpPr/>
            <p:nvPr/>
          </p:nvSpPr>
          <p:spPr>
            <a:xfrm>
              <a:off x="108000" y="115920"/>
              <a:ext cx="2519280" cy="93672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"/>
            <p:cNvSpPr/>
            <p:nvPr/>
          </p:nvSpPr>
          <p:spPr>
            <a:xfrm>
              <a:off x="7812000" y="6165720"/>
              <a:ext cx="1225800" cy="57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AC0D-7FE8-4117-9756-92DEA913B9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Обеспечение высокого качества гимназического образования на основе системно-деятельностного подхода, вариативности обра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Развитие творческой образовательной среды гимназии д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1. выявления и раскрытия способностей каждого гимназис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2. выявления особо одарённых обучающихся и организация их индивидуального сопровождения, развитие одарён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3. поддержки мотивации личности к познанию, творчеству и тру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4. успешной социализации л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Создание необходимых условий для сохранения и укрепления здоровья участников образовательного процесса посредством разработки и реализации комплексно-целевой программы «Школа здоровья», здоровьесберегающих технологий в образовательном процессе, а также обеспечения здоровых и безопасных условий обуч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Содействие повышению уровня информационно-коммуникационной культуры участников образовательного процесса посредством развития информатизации образовательной среды гимна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Усиление воспитательного потенциала образования через формирование идентичности гражданина России, через  воспитание доверия, толерантности, миролюбия, диалога культур и психологического комфорта, предупреждения и профилактики социальных рис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. Взаимодействие педагогического коллектива с внешним социумом, расширение внешних связей гимназии. Развитие общественной составляющей в управлении гимназ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Оптимизация системы  менеджмента гимна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8. Обеспечение введения федеральных государственных стандартов общего образования втор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Рабочий</cp:lastModifiedBy>
  <dcterms:modified xsi:type="dcterms:W3CDTF">2011-10-24T12:15:28Z</dcterms:modified>
  <cp:revision>48</cp:revision>
  <dc:subject/>
  <dc:title>Слайд 1</dc:title>
</cp:coreProperties>
</file>