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4.jpeg" ContentType="image/jpeg"/>
  <Override PartName="/ppt/media/image76.wmf" ContentType="image/x-wmf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71.wmf" ContentType="image/x-wmf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118.wmf" ContentType="image/x-wmf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B83-9C85-452D-9290-D85AEC52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376-5D02-41D5-939A-AFC7F8BA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EF4-7AE2-48DA-948C-BC763F4D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9B2-C909-432E-98DD-5184CE3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0C0-D9CE-4D58-908B-1217BE2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5BB-5156-4627-B015-62C9983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CEC-4608-4013-BB05-DE2E6426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25C-D297-4388-B158-56B2404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694-9992-4E5E-93F8-C79856F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04C-DBCE-45A2-8D7C-8B4C3B9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E16-031C-4BAB-B5B8-24DCD1D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140-615E-4EBB-BA89-ACD0E3A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137-066C-4A2B-AE96-ECAA99C3A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42C-5C6B-4F21-9C3D-25ED8D028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10-2011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эмблема"/>
          <p:cNvPicPr/>
          <p:nvPr/>
        </p:nvPicPr>
        <p:blipFill>
          <a:blip r:embed="rId1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FC4-F72A-4B75-B824-90F0ADFC8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84" name="_s1028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3 чел. (78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458-BE87-42EE-9FCB-CB487339B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5 человек (+9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2 мальчика       313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 %)                 (5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ADC6-DF9F-4EA9-A188-51EEA4D0B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до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DC1084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_100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037-FE04-4E1D-BCC4-1549C49EF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SDC1106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DC110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FE7-65AC-4D01-9738-63635136D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0841"/>
          <p:cNvPicPr/>
          <p:nvPr/>
        </p:nvPicPr>
        <p:blipFill>
          <a:blip r:embed="rId1"/>
          <a:stretch/>
        </p:blipFill>
        <p:spPr>
          <a:xfrm>
            <a:off x="179280" y="2133720"/>
            <a:ext cx="425628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G_0842"/>
          <p:cNvPicPr/>
          <p:nvPr/>
        </p:nvPicPr>
        <p:blipFill>
          <a:blip r:embed="rId2"/>
          <a:stretch/>
        </p:blipFill>
        <p:spPr>
          <a:xfrm>
            <a:off x="4643280" y="2133720"/>
            <a:ext cx="40388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A5FF-CCCA-4C6F-9F03-CBFF77C2D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092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MG_092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A44-3034-44B5-A223-330BA19B6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09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0930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E0C-C400-4622-AC44-9A92E448E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IMG_093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9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34D-9659-4970-BBB9-62D92455C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N6182"/>
          <p:cNvPicPr/>
          <p:nvPr/>
        </p:nvPicPr>
        <p:blipFill>
          <a:blip r:embed="rId1"/>
          <a:stretch/>
        </p:blipFill>
        <p:spPr>
          <a:xfrm>
            <a:off x="457200" y="255744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N618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B66-6F5F-4A5D-BA15-673CFF58D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C75D-AD69-4E36-94B7-1AF58E8DD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9BF-5B81-484B-9AB9-304EA3B1D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_094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705"/>
          <p:cNvPicPr/>
          <p:nvPr/>
        </p:nvPicPr>
        <p:blipFill>
          <a:blip r:embed="rId2"/>
          <a:stretch/>
        </p:blipFill>
        <p:spPr>
          <a:xfrm>
            <a:off x="4648320" y="2859120"/>
            <a:ext cx="40384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57A-D03A-44B1-AC0E-B5C107BCA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0848"/>
          <p:cNvPicPr/>
          <p:nvPr/>
        </p:nvPicPr>
        <p:blipFill>
          <a:blip r:embed="rId1"/>
          <a:stretch/>
        </p:blipFill>
        <p:spPr>
          <a:xfrm>
            <a:off x="1274760" y="1600200"/>
            <a:ext cx="240336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0850"/>
          <p:cNvPicPr/>
          <p:nvPr/>
        </p:nvPicPr>
        <p:blipFill>
          <a:blip r:embed="rId2"/>
          <a:stretch/>
        </p:blipFill>
        <p:spPr>
          <a:xfrm>
            <a:off x="4648320" y="2900520"/>
            <a:ext cx="40384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BBA-0720-43F5-A468-D427059F7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_0830"/>
          <p:cNvPicPr/>
          <p:nvPr/>
        </p:nvPicPr>
        <p:blipFill>
          <a:blip r:embed="rId1"/>
          <a:stretch/>
        </p:blipFill>
        <p:spPr>
          <a:xfrm>
            <a:off x="900000" y="765000"/>
            <a:ext cx="2287800" cy="304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0832"/>
          <p:cNvPicPr/>
          <p:nvPr/>
        </p:nvPicPr>
        <p:blipFill>
          <a:blip r:embed="rId2"/>
          <a:stretch/>
        </p:blipFill>
        <p:spPr>
          <a:xfrm>
            <a:off x="4896000" y="333360"/>
            <a:ext cx="261144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MG_0831"/>
          <p:cNvPicPr/>
          <p:nvPr/>
        </p:nvPicPr>
        <p:blipFill>
          <a:blip r:embed="rId3"/>
          <a:stretch/>
        </p:blipFill>
        <p:spPr>
          <a:xfrm>
            <a:off x="2195640" y="3662280"/>
            <a:ext cx="239688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0833"/>
          <p:cNvPicPr/>
          <p:nvPr/>
        </p:nvPicPr>
        <p:blipFill>
          <a:blip r:embed="rId4"/>
          <a:stretch/>
        </p:blipFill>
        <p:spPr>
          <a:xfrm>
            <a:off x="5148360" y="3933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BA5-E009-4B30-8F4D-499EBA63D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MG_083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0853"/>
          <p:cNvPicPr/>
          <p:nvPr/>
        </p:nvPicPr>
        <p:blipFill>
          <a:blip r:embed="rId2"/>
          <a:stretch/>
        </p:blipFill>
        <p:spPr>
          <a:xfrm>
            <a:off x="1282680" y="3938760"/>
            <a:ext cx="2387520" cy="218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IMG_084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2D99-DC8F-4F74-A68E-EB3C01CFA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IMG_0846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213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0852"/>
          <p:cNvPicPr/>
          <p:nvPr/>
        </p:nvPicPr>
        <p:blipFill>
          <a:blip r:embed="rId2"/>
          <a:stretch/>
        </p:blipFill>
        <p:spPr>
          <a:xfrm>
            <a:off x="4716360" y="162864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G_0845"/>
          <p:cNvPicPr/>
          <p:nvPr/>
        </p:nvPicPr>
        <p:blipFill>
          <a:blip r:embed="rId3"/>
          <a:stretch/>
        </p:blipFill>
        <p:spPr>
          <a:xfrm>
            <a:off x="324000" y="341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_0849"/>
          <p:cNvPicPr/>
          <p:nvPr/>
        </p:nvPicPr>
        <p:blipFill>
          <a:blip r:embed="rId4"/>
          <a:stretch/>
        </p:blipFill>
        <p:spPr>
          <a:xfrm>
            <a:off x="4788000" y="4076640"/>
            <a:ext cx="225252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2DF1-55FB-42F0-BAA3-29FF3B0EB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MG_0854"/>
          <p:cNvPicPr/>
          <p:nvPr/>
        </p:nvPicPr>
        <p:blipFill>
          <a:blip r:embed="rId1"/>
          <a:stretch/>
        </p:blipFill>
        <p:spPr>
          <a:xfrm>
            <a:off x="468360" y="26028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855"/>
          <p:cNvPicPr/>
          <p:nvPr/>
        </p:nvPicPr>
        <p:blipFill>
          <a:blip r:embed="rId2"/>
          <a:stretch/>
        </p:blipFill>
        <p:spPr>
          <a:xfrm>
            <a:off x="3780000" y="981000"/>
            <a:ext cx="5076720" cy="281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IMG_0858"/>
          <p:cNvPicPr/>
          <p:nvPr/>
        </p:nvPicPr>
        <p:blipFill>
          <a:blip r:embed="rId3"/>
          <a:stretch/>
        </p:blipFill>
        <p:spPr>
          <a:xfrm>
            <a:off x="5148360" y="3933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IMG_0861"/>
          <p:cNvPicPr/>
          <p:nvPr/>
        </p:nvPicPr>
        <p:blipFill>
          <a:blip r:embed="rId4"/>
          <a:stretch/>
        </p:blipFill>
        <p:spPr>
          <a:xfrm>
            <a:off x="539640" y="35560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5AB8-07B6-475B-8F44-300F8FEAA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IMG_074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C9DA-D73D-479B-9AFF-58B6C13B2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страте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ая перед системой образования области, заключается в обеспечении возможно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ому жит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 зависимости от места проживания, социального и имущественного статуса и состояния здоровья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чественное и доступно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любом уровне, которое соответствует потребностям современного общества и требованиям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A9F-41CA-4365-9E40-61056B725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ышение заработной платы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репление материально-технической базы школ (учебники, мебель, компьютеры, спортивное обору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A99F-397D-44B2-B400-377016943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1827360"/>
          <a:ext cx="7640640" cy="4462200"/>
        </p:xfrm>
        <a:graphic>
          <a:graphicData uri="http://schemas.openxmlformats.org/drawingml/2006/table">
            <a:tbl>
              <a:tblPr/>
              <a:tblGrid>
                <a:gridCol w="1657440"/>
                <a:gridCol w="2808360"/>
                <a:gridCol w="3174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с 1 сентября 2011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6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 4244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6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4699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7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9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5772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B14-8C7B-46E0-A4BF-75B324914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4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эмблема"/>
          <p:cNvPicPr/>
          <p:nvPr/>
        </p:nvPicPr>
        <p:blipFill>
          <a:blip r:embed="rId1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МОУ Гимназия г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A010-FB9B-490D-8E05-764B8DAAC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финансирования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сентября 2011 года. Ф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0160" y="1827360"/>
          <a:ext cx="7313400" cy="51433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3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226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810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5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7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4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69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938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534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624A-0E46-4C2B-A3E3-53E148811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гимна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в процессе обучения, воспитания, развития, социализации ученика (выпускник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ЧНОГО ЧЕЛОВЕКА, ГРАЖДАНИНА РОССИИ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стен, законопослушен, имеет активную гражданскую пози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ет совестью, состраданием, толерант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ключевыми компетентностями, необходимыми для жизни и профессиональной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современными знаниями, умениями и навы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урентоспособ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является патриотом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эмблема"/>
          <p:cNvPicPr/>
          <p:nvPr/>
        </p:nvPicPr>
        <p:blipFill>
          <a:blip r:embed="rId1"/>
          <a:stretch/>
        </p:blipFill>
        <p:spPr>
          <a:xfrm>
            <a:off x="6300720" y="4838760"/>
            <a:ext cx="17319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8045-8215-414D-825B-AA9BA3F1F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F3A-5EFB-4540-9B40-C95C8A2D9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7" name="_s2052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4"/>
            <p:cNvCxnSpPr>
              <a:stCxn id="193" idx="0"/>
              <a:endCxn id="18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9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4E3C-11A4-47C6-9E58-1CCEB207F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6836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4361-3BDD-4F52-B209-B3231E5F6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0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Сергеева"/>
          <p:cNvPicPr/>
          <p:nvPr/>
        </p:nvPicPr>
        <p:blipFill>
          <a:blip r:embed="rId2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опысова - копия"/>
          <p:cNvPicPr/>
          <p:nvPr/>
        </p:nvPicPr>
        <p:blipFill>
          <a:blip r:embed="rId3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MG 043"/>
          <p:cNvPicPr/>
          <p:nvPr/>
        </p:nvPicPr>
        <p:blipFill>
          <a:blip r:embed="rId4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1Двоеглазова ТЛ"/>
          <p:cNvPicPr/>
          <p:nvPr/>
        </p:nvPicPr>
        <p:blipFill>
          <a:blip r:embed="rId5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Фото Мурина"/>
          <p:cNvPicPr/>
          <p:nvPr/>
        </p:nvPicPr>
        <p:blipFill>
          <a:blip r:embed="rId6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086C-B218-4D9A-8EA0-672724521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лучших учителей Кировской области –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C120057"/>
          <p:cNvPicPr/>
          <p:nvPr/>
        </p:nvPicPr>
        <p:blipFill>
          <a:blip r:embed="rId1"/>
          <a:stretch/>
        </p:blipFill>
        <p:spPr>
          <a:xfrm>
            <a:off x="762120" y="1600200"/>
            <a:ext cx="34272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_Перминова1_1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468360" y="609300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281480" y="616572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46A9-55C4-4C75-B754-126842B4C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удный зна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дагогическая слава»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084640"/>
            <a:ext cx="1515960" cy="151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SC0615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29F-AC07-4F02-B9D4-D071FD28E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ь областного этапа Всероссийского конкурса в области педагогики, воспитания и работы с детьми школьного возраста на соискание премии «За нравственный подвиг учителя» (август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ер  областного конкурса публикаций репортажей, содействующих формированию позитивного образа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IMG 043"/>
          <p:cNvPicPr/>
          <p:nvPr/>
        </p:nvPicPr>
        <p:blipFill>
          <a:blip r:embed="rId1"/>
          <a:stretch/>
        </p:blipFill>
        <p:spPr>
          <a:xfrm>
            <a:off x="757080" y="1628640"/>
            <a:ext cx="3381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B67-955C-441E-BF4D-115DB650C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глазова Тамара Леонид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премии Правительства Кировской области для педагогических работников ОУ, подготовивших победителей и призёров заключительного этапа Всероссийской олимпиады школьников в 2011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746280" y="1268280"/>
            <a:ext cx="3073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9DCE-E374-45AD-8BB4-89BB2DEF1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EF9-F4A3-4F76-BB9F-E854FE8BD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одкина Вера 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муниципального этапа конкурса «Учитель года  -20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PC178729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B7D-780A-4D10-AB64-491F0982C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а в городском конкурсе «Лучший по профессии» - 2011 в номинации «Лучший педагог общего образова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SCN0828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44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6D1-7748-4D15-84EB-8E2081F7A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дители городских конкурсов в 2011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DSCN0916 - копия"/>
          <p:cNvPicPr/>
          <p:nvPr/>
        </p:nvPicPr>
        <p:blipFill>
          <a:blip r:embed="rId1"/>
          <a:stretch/>
        </p:blipFill>
        <p:spPr>
          <a:xfrm>
            <a:off x="468360" y="1557360"/>
            <a:ext cx="183996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9010086"/>
          <p:cNvPicPr/>
          <p:nvPr/>
        </p:nvPicPr>
        <p:blipFill>
          <a:blip r:embed="rId2"/>
          <a:stretch/>
        </p:blipFill>
        <p:spPr>
          <a:xfrm>
            <a:off x="4978440" y="1628640"/>
            <a:ext cx="1609560" cy="252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P9010060"/>
          <p:cNvPicPr/>
          <p:nvPr/>
        </p:nvPicPr>
        <p:blipFill>
          <a:blip r:embed="rId4"/>
          <a:stretch/>
        </p:blipFill>
        <p:spPr>
          <a:xfrm>
            <a:off x="5292720" y="3933720"/>
            <a:ext cx="1935000" cy="2546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75112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35320" y="1792440"/>
            <a:ext cx="2038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608600" y="1647720"/>
            <a:ext cx="12294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25240" y="3952800"/>
            <a:ext cx="1543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аре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370640" y="3881520"/>
            <a:ext cx="146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230-28F1-495F-8727-D25B38319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рюкова Елен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 1 степени  в областном конкурсе  «Противодействие коррупции через образ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IMG_7137лена"/>
          <p:cNvPicPr/>
          <p:nvPr/>
        </p:nvPicPr>
        <p:blipFill>
          <a:blip r:embed="rId1"/>
          <a:stretch/>
        </p:blipFill>
        <p:spPr>
          <a:xfrm>
            <a:off x="932040" y="1600200"/>
            <a:ext cx="3087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1869-BD39-46D2-B837-D362AF2F2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ой конкурс школьных газ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ета «Гимназист» - призёр в номинации «Лучший диз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DSC06152"/>
          <p:cNvPicPr/>
          <p:nvPr/>
        </p:nvPicPr>
        <p:blipFill>
          <a:blip r:embed="rId1"/>
          <a:stretch/>
        </p:blipFill>
        <p:spPr>
          <a:xfrm>
            <a:off x="611280" y="1628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P9010094"/>
          <p:cNvPicPr/>
          <p:nvPr/>
        </p:nvPicPr>
        <p:blipFill>
          <a:blip r:embed="rId2"/>
          <a:stretch/>
        </p:blipFill>
        <p:spPr>
          <a:xfrm>
            <a:off x="611280" y="3933720"/>
            <a:ext cx="1295280" cy="218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2927520" y="3952800"/>
            <a:ext cx="1447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168720" y="1576440"/>
            <a:ext cx="1204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3B0E-1C2E-4312-AABF-37BBCECA2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усова Татья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 журнале «Английский язык в школе» №2 2011.   (российский уровень) статьи«Использование информационно-коммуникационных технологий в преподавании английского язы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830160" y="1341360"/>
            <a:ext cx="30099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F16-CC90-4F98-BD32-C29945F4F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хтусова Н.Г. – учителей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110-FD94-48CD-96F6-2C1A620BA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7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эмблема"/>
          <p:cNvPicPr/>
          <p:nvPr/>
        </p:nvPicPr>
        <p:blipFill>
          <a:blip r:embed="rId1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DSC_4325"/>
          <p:cNvPicPr/>
          <p:nvPr/>
        </p:nvPicPr>
        <p:blipFill>
          <a:blip r:embed="rId2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DSC06152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376-2ADC-4D17-8A1F-18ED8C684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С для гимназий и лицеев Приволжского федерального о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дагогическая поддержка одаренности гимназиста на разных ступенях обучени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рель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IMG_0144"/>
          <p:cNvPicPr/>
          <p:nvPr/>
        </p:nvPicPr>
        <p:blipFill>
          <a:blip r:embed="rId1"/>
          <a:stretch/>
        </p:blipFill>
        <p:spPr>
          <a:xfrm>
            <a:off x="468360" y="119700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0622"/>
          <p:cNvPicPr/>
          <p:nvPr/>
        </p:nvPicPr>
        <p:blipFill>
          <a:blip r:embed="rId2"/>
          <a:stretch/>
        </p:blipFill>
        <p:spPr>
          <a:xfrm>
            <a:off x="4500720" y="1305000"/>
            <a:ext cx="3897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06D-AC2C-4769-8B7E-E02A5E08F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PA1200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A120011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A120005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3E82-EE72-4883-84FC-82BE23E33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E8D-E7A3-4A2D-9992-EFFB97C13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341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5120053"/>
          <p:cNvPicPr/>
          <p:nvPr/>
        </p:nvPicPr>
        <p:blipFill>
          <a:blip r:embed="rId2"/>
          <a:stretch/>
        </p:blipFill>
        <p:spPr>
          <a:xfrm>
            <a:off x="5316480" y="160020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338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D38-6368-49F5-8094-6F3873EF4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IMG_064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MG_066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_067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F0A-386E-409C-AEBC-1E3330CA0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IMG_00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DSCN62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N624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4D1-1D99-4A8A-ABD7-7381E2EBA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7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1D0-48D2-4C72-AEC9-7028FDFAE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1 класс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% (+2%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 (+10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 (-2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7AD-C4D4-412E-B427-5D8EF27D8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а класс, выпуск (тьютор О.Ю. Михеева) – 10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б класс (тьютор Н.Н. Фетисова) – 96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 класс (тьютор О.А. Ячменникова) –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б класс (тьютор В.Б. Колодкина) – 9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а класс (тьютор Н.В. Аботурова) – 88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 класс (тьютор Т.А. Колесникова) – 8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а  класс (тьютор М.Ю. Жукова)  -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 класс (тьютор И.В. Емельянова) – 7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высокие результаты в начальной школе – от 76% до 9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C102-B81D-46D4-81DF-8EB4F19D7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качеству знаний  при хорошем учебном потенциал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б классе (тьютор А.В. Звере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 классе (тьютор Н.А. Старико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а классе (тьютор С.Е. Волоскова) – 4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5180-7EBB-4EB9-A439-279206A46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 по предмету, изучаемому углубл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б класс, учитель З.П. Сергеева –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б класс, учителя М.Ю. Жукова, Т.В. Криницына, А.А. Рысева – 9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0а класс, учителя Т.В. Чистоусова, Р.А. Быкова, И.Ю. Сухотина – 9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6а класс, учителя М.Ю. Жукова, Т.В. Криницына, Н.Л. Лобанова – 8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а класс, учителя М.Ю. Жукова, Т.В. Криницына, А.А. Рысева – 7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7а класс, учителя Г.Н. Шкаредная, Н.Л. Лобанова –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9D6-DD39-4573-8292-CB2E8B58F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 по  иностранному языку, изучаемому углубленно, индекс качества знаний по предмету – 74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о профилирующему предмету в 8ав классах индекс качества знаний только 46% и 48%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877B-6487-4039-ACBC-2FB718CBE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9 выпускников получили аттестаты, 1 из них с от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(63%)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416-F8DD-4E98-AC36-591C07A30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DC10888"/>
          <p:cNvPicPr/>
          <p:nvPr/>
        </p:nvPicPr>
        <p:blipFill>
          <a:blip r:embed="rId1"/>
          <a:stretch/>
        </p:blipFill>
        <p:spPr>
          <a:xfrm>
            <a:off x="457200" y="1693800"/>
            <a:ext cx="4038480" cy="433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0853"/>
          <p:cNvPicPr/>
          <p:nvPr/>
        </p:nvPicPr>
        <p:blipFill>
          <a:blip r:embed="rId2"/>
          <a:stretch/>
        </p:blipFill>
        <p:spPr>
          <a:xfrm>
            <a:off x="4500720" y="1660680"/>
            <a:ext cx="418140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632B-1EBB-49F6-9410-BF36292B4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класса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экзам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(бланковая технология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 и «5» - 70,8 % (1 место в городе), из них только на «5» - 23 человека (48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твердили годовые отметки – 27 чел. (56,2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ысили годовые отметки – 17 чел. (35,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учили отметку ниже годовой – 4 чел. (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A56-6B83-4F70-B6B9-991446A07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9E1-BBFF-494E-AAE5-17C9E9207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ознание – 20 чел. (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– 15 чел. 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– 13 чел. (2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12 чел. (2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 – 10 чел. (2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547-2ED1-45A3-8353-857A9D8A6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пускники гимназии сдали обязательный экзамен по математике (учителя И.К. Падерина, Е.В. Соловьева)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балл по гимназии – 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место среди школ города Слобод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гимназии выше среднегородского (49,6 б.), среднего по Северному образовательному округу (48,73 б.), среднеобластного (49,61 б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5A7-FA27-4FDF-AE68-75670DD5B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балл по гимназии – 74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9-2010 уч. год - 70,2 балл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место среди школ города Слободского. Показатель гимназии выше среднегородского (65,9 б.), среднего по Северному образовательному округу (64,3 б.), среднеобластного (65,76 б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430-6030-453D-87F4-2A9C90291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25,5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ты с отметками «4» и «5» получили 37 из 47 выпускников (7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33B7-1A0C-4AD2-AB4F-80E077262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Organization Chart 6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346" name="_s4100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4101"/>
            <p:cNvCxnSpPr>
              <a:stCxn id="350" idx="0"/>
              <a:endCxn id="348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4102"/>
            <p:cNvCxnSpPr>
              <a:stCxn id="352" idx="0"/>
              <a:endCxn id="348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410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7 выпуск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10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3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У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410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ледж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410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рм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079440" y="6184800"/>
            <a:ext cx="45331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в ВУЗы, колледжи – 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CD4-497D-4EA2-B0F1-4BF6241E2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ый этап Всероссийской олимпиады школьников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областн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ылов К., учитель Т.Л. Двоегла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пылов К., учитель Н.Г. Пахту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Х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нтина Е., учитель Н.В. Аботу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рсенюк А., учитель Т.Ю. Пушка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нисимов Е., учитель Л.Г. Кай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30B-BC28-42A6-93CE-CBC5905A2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м (всероссийском)  этапе олимпиады приняли участие 3 гимназиста (Копылов К., Анисимов Е., Пентина Е.), два из них - Копылов К. (химия), Анисимов Е. (Основы православной культуры) – призё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гимназии Н. Иванькович участвовала в олимпиаде школьников по праву Московской государтсвенной юридической академии им. О.Е. Кутафина, где заняла 8 место (вошла в число победителей) из 625 участников из школ России. Именно по итогам олимпиады Наталья Иванькович была зачислена в число студентов академии на бюджетное место в 201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72E7-22DA-4E1F-AC34-441B128EF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12F-4B50-4F02-A3B5-4DFE7DE19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11-2013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FF6-C48F-4514-98D3-1DC366F6A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1024"/>
          <p:cNvPicPr/>
          <p:nvPr/>
        </p:nvPicPr>
        <p:blipFill>
          <a:blip r:embed="rId2"/>
          <a:stretch/>
        </p:blipFill>
        <p:spPr>
          <a:xfrm>
            <a:off x="1019160" y="3938760"/>
            <a:ext cx="2914560" cy="2187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8" descr="7"/>
          <p:cNvPicPr/>
          <p:nvPr/>
        </p:nvPicPr>
        <p:blipFill>
          <a:blip r:embed="rId3"/>
          <a:stretch/>
        </p:blipFill>
        <p:spPr>
          <a:xfrm>
            <a:off x="457200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C297-883D-445E-80CC-9B2D19476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апреля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IMG_06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IMG_061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IMG_0603"/>
          <p:cNvPicPr/>
          <p:nvPr/>
        </p:nvPicPr>
        <p:blipFill>
          <a:blip r:embed="rId3"/>
          <a:stretch/>
        </p:blipFill>
        <p:spPr>
          <a:xfrm>
            <a:off x="4938840" y="1600200"/>
            <a:ext cx="3456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042-3F58-46E4-88F4-B5EB17CEB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11B-B024-4450-8F94-D48C64E24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DSC_0009"/>
          <p:cNvPicPr/>
          <p:nvPr/>
        </p:nvPicPr>
        <p:blipFill>
          <a:blip r:embed="rId1"/>
          <a:stretch/>
        </p:blipFill>
        <p:spPr>
          <a:xfrm>
            <a:off x="755640" y="1197000"/>
            <a:ext cx="2076480" cy="309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PA060005"/>
          <p:cNvPicPr/>
          <p:nvPr/>
        </p:nvPicPr>
        <p:blipFill>
          <a:blip r:embed="rId2"/>
          <a:stretch/>
        </p:blipFill>
        <p:spPr>
          <a:xfrm>
            <a:off x="53964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посвящение в читатели2"/>
          <p:cNvPicPr/>
          <p:nvPr/>
        </p:nvPicPr>
        <p:blipFill>
          <a:blip r:embed="rId3"/>
          <a:stretch/>
        </p:blipFill>
        <p:spPr>
          <a:xfrm>
            <a:off x="5254560" y="1341360"/>
            <a:ext cx="3889440" cy="275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1" descr="PA060007"/>
          <p:cNvPicPr/>
          <p:nvPr/>
        </p:nvPicPr>
        <p:blipFill>
          <a:blip r:embed="rId4"/>
          <a:stretch/>
        </p:blipFill>
        <p:spPr>
          <a:xfrm>
            <a:off x="3635280" y="3706920"/>
            <a:ext cx="34560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42D-3096-4517-BC6D-06FD15FD3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IMG_075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IMG_0703"/>
          <p:cNvPicPr/>
          <p:nvPr/>
        </p:nvPicPr>
        <p:blipFill>
          <a:blip r:embed="rId2"/>
          <a:stretch/>
        </p:blipFill>
        <p:spPr>
          <a:xfrm>
            <a:off x="471636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F6E-EA0E-464A-8236-405873F3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IMG_050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IMG_050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MG_0522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7F1-B872-465F-8672-A499D5DB0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Изображение 019"/>
          <p:cNvPicPr/>
          <p:nvPr/>
        </p:nvPicPr>
        <p:blipFill>
          <a:blip r:embed="rId1"/>
          <a:stretch/>
        </p:blipFill>
        <p:spPr>
          <a:xfrm>
            <a:off x="622440" y="1600200"/>
            <a:ext cx="3706560" cy="21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P1030198"/>
          <p:cNvPicPr/>
          <p:nvPr/>
        </p:nvPicPr>
        <p:blipFill>
          <a:blip r:embed="rId2"/>
          <a:stretch/>
        </p:blipFill>
        <p:spPr>
          <a:xfrm>
            <a:off x="5254560" y="1600200"/>
            <a:ext cx="2825640" cy="2185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P5210076"/>
          <p:cNvPicPr/>
          <p:nvPr/>
        </p:nvPicPr>
        <p:blipFill>
          <a:blip r:embed="rId3"/>
          <a:stretch/>
        </p:blipFill>
        <p:spPr>
          <a:xfrm>
            <a:off x="563400" y="3938760"/>
            <a:ext cx="3824280" cy="2187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DSCN4089"/>
          <p:cNvPicPr/>
          <p:nvPr/>
        </p:nvPicPr>
        <p:blipFill>
          <a:blip r:embed="rId4"/>
          <a:stretch/>
        </p:blipFill>
        <p:spPr>
          <a:xfrm>
            <a:off x="4648320" y="4021200"/>
            <a:ext cx="4038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3FC-D453-4AC4-8473-684FC9EB6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DSCN3943"/>
          <p:cNvPicPr/>
          <p:nvPr/>
        </p:nvPicPr>
        <p:blipFill>
          <a:blip r:embed="rId1"/>
          <a:stretch/>
        </p:blipFill>
        <p:spPr>
          <a:xfrm>
            <a:off x="2484360" y="148428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DSCN4000"/>
          <p:cNvPicPr/>
          <p:nvPr/>
        </p:nvPicPr>
        <p:blipFill>
          <a:blip r:embed="rId2"/>
          <a:stretch/>
        </p:blipFill>
        <p:spPr>
          <a:xfrm>
            <a:off x="830160" y="39387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N403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SCN4074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1C0-E670-47F2-BC75-9FF5BFB05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773280" y="3938760"/>
          <a:ext cx="3404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3938760"/>
                    <a:ext cx="3404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читесь, дерзайте, шагайте впер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мназия к цели нас твердо вед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P9010014"/>
          <p:cNvPicPr/>
          <p:nvPr/>
        </p:nvPicPr>
        <p:blipFill>
          <a:blip r:embed="rId3"/>
          <a:stretch/>
        </p:blipFill>
        <p:spPr>
          <a:xfrm>
            <a:off x="611280" y="90792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E756-701E-4304-99FD-9E8EAD088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413000"/>
          <a:ext cx="8229600" cy="5456160"/>
        </p:xfrm>
        <a:graphic>
          <a:graphicData uri="http://schemas.openxmlformats.org/drawingml/2006/table">
            <a:tbl>
              <a:tblPr/>
              <a:tblGrid>
                <a:gridCol w="2602080"/>
                <a:gridCol w="1944360"/>
                <a:gridCol w="1800360"/>
                <a:gridCol w="1882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доровые 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 чел. (14,2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9 чел. (17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 чел. (16,1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ые отклонения в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 чел. (44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 чел. (40,7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 чел. (43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чел. (40,8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 чел. (40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(39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 (0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чел. (1,3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. (1,1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ел. (0,4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чел. (0,9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. (0,6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F00-E25D-43BD-BD1A-EA6B53F75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бщей культуры личности обучающихся на основе усвоения обязательного минимума содержания основных общеобразовательных программ, федеральных государственных образовательных стандартов,  их адаптация к жизни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ы для осознанного выбора и последующего освоения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трудолюбия, уважения к правам и свободам человека, любви к окружающей природе, Родине,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6F6A-8A1A-4FFF-A2BD-7A72038E6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ур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530440"/>
                <a:gridCol w="1800360"/>
                <a:gridCol w="2089080"/>
                <a:gridCol w="1809720"/>
              </a:tblGrid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чел. (84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84,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 чел. (8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циализирова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чел. (14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чел. (13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чел. (15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от практической части физической куль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. (1,9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чел. (2,8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чел. (3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3340-C649-47EE-A620-DB3EE33D5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беспечение высокого качества гимназического образования на основе системно деятельностного подхода, вариативност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тие творческой образовательной среды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C1B-C2DC-4C4D-93A7-80AB8C74D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6DE-25C8-48CE-9FF0-6E996F8D4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азвитие общественной составляющей в управлении гимна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еспечение введения федеральных государственных стандартов общего образования второго поко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6F6-290E-4C58-9789-F4777F798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28" name="Freeform 5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D37-8FCD-459B-B54A-E9F4826D2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Обеспечение высокого качества гимназического образования на основе системно-деятельностного подхода, вариативност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тие творческой образовательной среды гимназии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азработки и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заимодействие педагогического коллектива с внешним социумом, расширение внешних связей гимназии. Развитие общественной составляющей в управлении гимназ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Оптимизация системы  менеджмента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Обеспечение введения федеральных государственных стандартов общего образования втор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Рабочий</cp:lastModifiedBy>
  <dcterms:modified xsi:type="dcterms:W3CDTF">2011-10-24T12:15:28Z</dcterms:modified>
  <cp:revision>48</cp:revision>
  <dc:subject/>
  <dc:title>Слайд 1</dc:title>
</cp:coreProperties>
</file>