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07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wmf" ContentType="image/x-wmf"/>
  <Override PartName="/ppt/media/image47.jpeg" ContentType="image/jpeg"/>
  <Override PartName="/ppt/media/image90.wmf" ContentType="image/x-wmf"/>
  <Override PartName="/ppt/media/image46.jpeg" ContentType="image/jpeg"/>
  <Override PartName="/ppt/media/image80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48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3.wmf" ContentType="image/x-wmf"/>
  <Override PartName="/ppt/media/image41.jpeg" ContentType="image/jpeg"/>
  <Override PartName="/ppt/media/image120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72.wmf" ContentType="image/x-wmf"/>
  <Override PartName="/ppt/media/image8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7.jpeg" ContentType="image/jpeg"/>
  <Override PartName="/ppt/media/image88.wmf" ContentType="image/x-wmf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89.wmf" ContentType="image/x-wmf"/>
  <Override PartName="/ppt/media/image14.jpeg" ContentType="image/jpeg"/>
  <Override PartName="/ppt/media/image70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6.jpeg" ContentType="image/jpeg"/>
  <Override PartName="/ppt/media/image83.jpeg" ContentType="image/jpeg"/>
  <Override PartName="/ppt/media/image95.png" ContentType="image/png"/>
  <Override PartName="/ppt/media/image110.jpeg" ContentType="image/jpeg"/>
  <Override PartName="/ppt/media/image91.wmf" ContentType="image/x-wmf"/>
  <Override PartName="/ppt/media/image93.jpeg" ContentType="image/jpeg"/>
  <Override PartName="/ppt/media/image121.jpeg" ContentType="image/jpeg"/>
  <Override PartName="/ppt/media/image115.jpeg" ContentType="image/jpeg"/>
  <Override PartName="/ppt/media/image75.jpeg" ContentType="image/jpeg"/>
  <Override PartName="/ppt/media/image105.png" ContentType="image/png"/>
  <Override PartName="/ppt/media/image111.jpeg" ContentType="image/jpeg"/>
  <Override PartName="/ppt/media/image94.jpeg" ContentType="image/jpeg"/>
  <Override PartName="/ppt/media/image59.wmf" ContentType="image/x-wmf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02.jpeg" ContentType="image/jpeg"/>
  <Override PartName="/ppt/media/image82.jpeg" ContentType="image/jpeg"/>
  <Override PartName="/ppt/media/image119.jpeg" ContentType="image/jpeg"/>
  <Override PartName="/ppt/media/image99.png" ContentType="image/png"/>
  <Override PartName="/ppt/media/image104.png" ContentType="image/png"/>
  <Override PartName="/ppt/media/image63.jpeg" ContentType="image/jpeg"/>
  <Override PartName="/ppt/media/image6.jpeg" ContentType="image/jpeg"/>
  <Override PartName="/ppt/media/image103.png" ContentType="image/png"/>
  <Override PartName="/ppt/media/image118.jpeg" ContentType="image/jpeg"/>
  <Override PartName="/ppt/media/image101.jpeg" ContentType="image/jpeg"/>
  <Override PartName="/ppt/media/image65.jpeg" ContentType="image/jpeg"/>
  <Override PartName="/ppt/media/image100.png" ContentType="image/png"/>
  <Override PartName="/ppt/media/image69.jpeg" ContentType="image/jpeg"/>
  <Override PartName="/ppt/media/image68.jpeg" ContentType="image/jpeg"/>
  <Override PartName="/ppt/media/image81.wmf" ContentType="image/x-wmf"/>
  <Override PartName="/ppt/media/image66.jpeg" ContentType="image/jpe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7.png" ContentType="image/png"/>
  <Override PartName="/ppt/media/image24.wmf" ContentType="image/x-wmf"/>
  <Override PartName="/ppt/media/image22.wmf" ContentType="image/x-wmf"/>
  <Override PartName="/ppt/media/image117.jpeg" ContentType="image/jpeg"/>
  <Override PartName="/ppt/media/image20.jpeg" ContentType="image/jpeg"/>
  <Override PartName="/ppt/media/image116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0.jpeg" ContentType="image/jpeg"/>
  <Override PartName="/ppt/media/image77.jpeg" ContentType="image/jpeg"/>
  <Override PartName="/ppt/media/image18.jpeg" ContentType="image/jpeg"/>
  <Override PartName="/ppt/media/image17.jpeg" ContentType="image/jpeg"/>
  <Override PartName="/ppt/media/image106.png" ContentType="image/png"/>
  <Override PartName="/ppt/media/image16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D08-05DE-412A-A086-E1B1E8F3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A8D-76FA-45D6-AFA9-23EF3572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6A4-97BA-4697-863F-52F0FE68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A57-37EB-4ADE-BF36-97DCDC92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8D3-E642-465D-85AA-F36F1292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E20-68C3-4FD9-B3C3-E1FC8D9B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EFA-A487-4B45-B3FC-18202E2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861-92FD-4983-A08D-47C3A02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78E-D666-448E-9174-F98FFB18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65F-7315-4F72-B802-4FA51A2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237-47AE-445C-8D0D-98518371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1F1-0132-44CE-9220-6063DB6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BF78-B038-4AEE-B20B-E206DD1BA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5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8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96A7-95C2-448C-8978-6B1340FEF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09-2010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god2-2101"/>
          <p:cNvPicPr/>
          <p:nvPr/>
        </p:nvPicPr>
        <p:blipFill>
          <a:blip r:embed="rId1"/>
          <a:stretch/>
        </p:blipFill>
        <p:spPr>
          <a:xfrm>
            <a:off x="6300720" y="33336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эмблема"/>
          <p:cNvPicPr/>
          <p:nvPr/>
        </p:nvPicPr>
        <p:blipFill>
          <a:blip r:embed="rId3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734F-CAE4-4748-B840-1C3968FD4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расположение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Ленина,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Вятская, 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договору помещения МОУ СОШ № 7 для начальных класс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ул. Советская,98 «а» ( по договору спортзал и стадион ДЮС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DCAC-00DA-4F3C-803F-A9B96C374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Organization Chart 2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37" name="_s19460"/>
            <p:cNvCxnSpPr>
              <a:stCxn id="638" idx="0"/>
              <a:endCxn id="639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0" name="_s19461"/>
            <p:cNvCxnSpPr>
              <a:stCxn id="641" idx="0"/>
              <a:endCxn id="639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2" name="_s19462"/>
            <p:cNvCxnSpPr>
              <a:stCxn id="643" idx="0"/>
              <a:endCxn id="639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9" name="_s1946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ля 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1946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45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946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50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946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78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555D-E704-4D79-8BC6-261BB2374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бв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млн.                           15 мл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35 тыс. руб.               224 тыс.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1763640" y="2133720"/>
            <a:ext cx="0" cy="9349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7164360" y="2276640"/>
            <a:ext cx="0" cy="7920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C407-0DFB-453E-BF29-EE73EDE80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лн.                                980 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1 тыс.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1692360" y="2205000"/>
            <a:ext cx="0" cy="79236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7308720" y="2276640"/>
            <a:ext cx="0" cy="7207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45BE-1986-4554-8091-B9F3AFCF0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Organization Chart 3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57" name="_s20484"/>
            <p:cNvCxnSpPr>
              <a:stCxn id="658" idx="0"/>
              <a:endCxn id="65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0" name="_s20485"/>
            <p:cNvCxnSpPr>
              <a:stCxn id="661" idx="0"/>
              <a:endCxn id="65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9" name="_s20486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родская составляющ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юджетной сметы гимназ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_s20487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009 го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98214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_s20488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010 го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2095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0031-D60D-4F13-94D2-D15C462F7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овольные пожертв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9-2010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1 тыс.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учебная мебель, ремонтны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8846-8A73-4584-8261-5A65B0208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 Обеспечение высокого качества образования, качества предоставления образовательных услуг, реализации образовательных программ в полном объё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Развитие творческой образовательной  среды 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я способностей каждого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я особо одарённых детей и организации их  индивидуальн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217A-AE6F-45E3-9553-365292D36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Формирование здоровьсберегающей среды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  Информатизация образовательного процесса (в т.ч. введение «Электронного журн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   Обеспечение подготовки введения Федеральных государственных образовательных стандартов начального общего образования в 1-х классах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8301-7D7C-4456-B927-7CB5631D6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Развитие общественной составляющей в управлении Гимн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  Совершенствование системы руководства и менеджмента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  Профилактика негативных проявлений в детской и подростковой среде, девиантного поведения обучающихся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8E85-10E9-4804-8970-FC293A10F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материально-технической базы гимназии (требуют решения  следующие круп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туал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замена оконных р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одернизация системы оповещения о пожа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 буф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локальной сети для введения «Электронного журнал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ведение системы видеонаблю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условий в кабинете химии – замена вытяжного шкафа, подвод водопровода, специальная ученическая и учительская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стройство кабинета технологии (дев.) для изучения тем по кулина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асадны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формление кабинетов и холлов, в том числе с созданием музейной экспозиции из истории гимн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граждение территории и т.д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3B8B-D8BA-4242-9C91-6F3D25DC7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зия г. Слобод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Все 1"/>
          <p:cNvPicPr/>
          <p:nvPr/>
        </p:nvPicPr>
        <p:blipFill>
          <a:blip r:embed="rId1"/>
          <a:stretch/>
        </p:blipFill>
        <p:spPr>
          <a:xfrm rot="20536200">
            <a:off x="390600" y="1915920"/>
            <a:ext cx="3838680" cy="2160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11160001(ed)"/>
          <p:cNvPicPr/>
          <p:nvPr/>
        </p:nvPicPr>
        <p:blipFill>
          <a:blip r:embed="rId2"/>
          <a:stretch/>
        </p:blipFill>
        <p:spPr>
          <a:xfrm>
            <a:off x="50767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IMG_2350"/>
          <p:cNvPicPr/>
          <p:nvPr/>
        </p:nvPicPr>
        <p:blipFill>
          <a:blip r:embed="rId3"/>
          <a:stretch/>
        </p:blipFill>
        <p:spPr>
          <a:xfrm rot="1404000">
            <a:off x="4858920" y="1773360"/>
            <a:ext cx="3278160" cy="2041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IMG_2244"/>
          <p:cNvPicPr/>
          <p:nvPr/>
        </p:nvPicPr>
        <p:blipFill>
          <a:blip r:embed="rId4"/>
          <a:stretch/>
        </p:blipFill>
        <p:spPr>
          <a:xfrm>
            <a:off x="1403280" y="4149720"/>
            <a:ext cx="3281400" cy="218772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4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8" descr="эмблема"/>
          <p:cNvPicPr/>
          <p:nvPr/>
        </p:nvPicPr>
        <p:blipFill>
          <a:blip r:embed="rId5"/>
          <a:stretch/>
        </p:blipFill>
        <p:spPr>
          <a:xfrm>
            <a:off x="468360" y="189000"/>
            <a:ext cx="1187280" cy="12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D587-CB52-4FA4-A80B-2E6EDDBFE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/факс (883362) 4-28-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D487-4056-4E9A-8E9B-AB9C4D2DC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87" name="Freeform 5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5750-276D-4611-BAE3-19114D436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Diagram 6"/>
          <p:cNvGrpSpPr/>
          <p:nvPr/>
        </p:nvGrpSpPr>
        <p:grpSpPr>
          <a:xfrm>
            <a:off x="1798560" y="385920"/>
            <a:ext cx="5475240" cy="5410080"/>
            <a:chOff x="1798560" y="385920"/>
            <a:chExt cx="5475240" cy="541008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3557520" y="1989000"/>
              <a:ext cx="5796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253224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овате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 flipV="1">
              <a:off x="3036960" y="2890800"/>
              <a:ext cx="8856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798560" y="215892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узей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ле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 flipH="1">
              <a:off x="3218040" y="3465360"/>
              <a:ext cx="777600" cy="45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2054160" y="3603600"/>
              <a:ext cx="1249560" cy="1249560"/>
            </a:xfrm>
            <a:prstGeom prst="ellipse">
              <a:avLst/>
            </a:prstGeom>
            <a:solidFill>
              <a:srgbClr val="eaea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втовокз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H="1">
              <a:off x="4016160" y="3740040"/>
              <a:ext cx="30636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317808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ЮС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>
              <a:off x="4749840" y="3740040"/>
              <a:ext cx="30780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464652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м дет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5076720" y="3465360"/>
              <a:ext cx="777960" cy="44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5770440" y="3602160"/>
              <a:ext cx="124956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скус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40"/>
            <p:cNvSpPr/>
            <p:nvPr/>
          </p:nvSpPr>
          <p:spPr>
            <a:xfrm flipV="1">
              <a:off x="5149800" y="2889360"/>
              <a:ext cx="8841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6024600" y="215748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удожеств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2"/>
            <p:cNvSpPr/>
            <p:nvPr/>
          </p:nvSpPr>
          <p:spPr>
            <a:xfrm flipV="1">
              <a:off x="4935600" y="1989000"/>
              <a:ext cx="5778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3"/>
            <p:cNvSpPr/>
            <p:nvPr/>
          </p:nvSpPr>
          <p:spPr>
            <a:xfrm>
              <a:off x="529128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дминистр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лобод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44"/>
            <p:cNvSpPr/>
            <p:nvPr/>
          </p:nvSpPr>
          <p:spPr>
            <a:xfrm flipV="1">
              <a:off x="4535640" y="1633680"/>
              <a:ext cx="0" cy="8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3911760" y="38592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Г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6"/>
            <p:cNvSpPr/>
            <p:nvPr/>
          </p:nvSpPr>
          <p:spPr>
            <a:xfrm>
              <a:off x="3911760" y="2532240"/>
              <a:ext cx="1249200" cy="1249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имназ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FFFC-41CE-4FD4-92FD-4BFF23D82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2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т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ор МОУ гимназ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лободского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od2-2101"/>
          <p:cNvPicPr/>
          <p:nvPr/>
        </p:nvPicPr>
        <p:blipFill>
          <a:blip r:embed="rId1"/>
          <a:stretch/>
        </p:blipFill>
        <p:spPr>
          <a:xfrm>
            <a:off x="6516720" y="33336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мблема"/>
          <p:cNvPicPr/>
          <p:nvPr/>
        </p:nvPicPr>
        <p:blipFill>
          <a:blip r:embed="rId2"/>
          <a:stretch/>
        </p:blipFill>
        <p:spPr>
          <a:xfrm>
            <a:off x="6588000" y="4508640"/>
            <a:ext cx="2092320" cy="209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ICT1744(5)"/>
          <p:cNvPicPr/>
          <p:nvPr/>
        </p:nvPicPr>
        <p:blipFill>
          <a:blip r:embed="rId3"/>
          <a:stretch/>
        </p:blipFill>
        <p:spPr>
          <a:xfrm>
            <a:off x="826920" y="1700280"/>
            <a:ext cx="27133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795F-539A-44F6-AA0E-75F6B0702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выполнения социального заказа на образование на принципах общедоступности, гражданственности, свободного развития личности, предоставление обучающимся на выбор общеобразовательных программ углубленного изучения ряда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оздание условий для развития индивидуальных способностей каждого обучаю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ние условий для самоопределения и саморазвития обучающихся в ходе образовательного процесса, создание основы для осознанного выбора и последующего освоения профессиональ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ирование навыков самостоятельной учебной деятельности на основе дифференциации обучения, овладения обучающимися знаниями на повышенн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ормирование гуманитарного типа мышления обучающихся, навыков творческой и исследовательской деятельности, потребность к саморазвитию и само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ормирование у обучающихся навыков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AB48-F68A-4E0A-B389-E03A0ADF2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34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, обеспечивающая дополнительную (углублённую) подготовку обучающихся по предмету иностранный яз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нглийский, немецкий (2-4 клас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3 года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эмблема"/>
          <p:cNvPicPr/>
          <p:nvPr/>
        </p:nvPicPr>
        <p:blipFill>
          <a:blip r:embed="rId1"/>
          <a:stretch/>
        </p:blipFill>
        <p:spPr>
          <a:xfrm>
            <a:off x="7308720" y="530064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6A86-7620-4994-9A3F-9D520B69C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ая школа (1-4 клас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в начальной школе гимназии осуществляется по развивающей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В. За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SDC10818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эмблема"/>
          <p:cNvPicPr/>
          <p:nvPr/>
        </p:nvPicPr>
        <p:blipFill>
          <a:blip r:embed="rId2"/>
          <a:stretch/>
        </p:blipFill>
        <p:spPr>
          <a:xfrm>
            <a:off x="7308720" y="5229360"/>
            <a:ext cx="1516320" cy="122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30A9-6A44-4237-A8A0-A20A1D4FA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й срок освоения –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, обеспечивающая дополнительную (углублённую) подготовку обучающихся по предмета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усский язык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5-9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2B17-BED9-434B-94F1-EF4A27B6B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.  Нормативный срок освоения – 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, обеспечивающая дополнительную (углублённую) подготовку обучающихся по предмета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усский язык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10-11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CFDE-186C-450F-8D3C-B308D56EA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в 2009-2010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155" name="_s2052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итератур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 чел. (8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1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27 чел. (61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21D4-0FFC-471D-B646-A10BF18AE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4B6A-A1AC-4DBC-B437-3B002AAE7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483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сти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урно-спор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о-патрио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0301252"/>
          <p:cNvPicPr/>
          <p:nvPr/>
        </p:nvPicPr>
        <p:blipFill>
          <a:blip r:embed="rId1"/>
          <a:stretch/>
        </p:blipFill>
        <p:spPr>
          <a:xfrm>
            <a:off x="5867280" y="2952720"/>
            <a:ext cx="2808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98F3-34A9-4DC8-8F5A-98E6BA537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о-эстетическая направлен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оформительского дела для обучающихся 1-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ойка и шитье для обучающихся 5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удожественная обработка материалов для обучающихся 5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Учимся играть в театр для обучающихся 5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j0216516"/>
          <p:cNvPicPr/>
          <p:nvPr/>
        </p:nvPicPr>
        <p:blipFill>
          <a:blip r:embed="rId1"/>
          <a:stretch/>
        </p:blipFill>
        <p:spPr>
          <a:xfrm>
            <a:off x="971640" y="2205000"/>
            <a:ext cx="22939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5DD5-4BC2-4F1A-BA1A-E88354A9D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направл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ир мультимедиа технологий для обучающихся 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форматики для обучающихся 5-6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нформатика в играх и задачах для обучающихся 1 - 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женерной графики для обучающихся 8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Юный радиолюбитель для обучающихся 6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195384"/>
          <p:cNvPicPr/>
          <p:nvPr/>
        </p:nvPicPr>
        <p:blipFill>
          <a:blip r:embed="rId1"/>
          <a:stretch/>
        </p:blipFill>
        <p:spPr>
          <a:xfrm>
            <a:off x="611280" y="2060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13DB-9346-470C-B519-406415A02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ая  образовательная ус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аптация детей дошкольного возраста к условиям школьной жизн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Школа разви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j0216724"/>
          <p:cNvPicPr/>
          <p:nvPr/>
        </p:nvPicPr>
        <p:blipFill>
          <a:blip r:embed="rId1"/>
          <a:stretch/>
        </p:blipFill>
        <p:spPr>
          <a:xfrm>
            <a:off x="1116000" y="2060640"/>
            <a:ext cx="28288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5746-900C-46A7-8EA0-8D0D6814B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78" name="_s3076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3077"/>
            <p:cNvCxnSpPr>
              <a:stCxn id="182" idx="0"/>
              <a:endCxn id="18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3078"/>
            <p:cNvCxnSpPr>
              <a:stCxn id="184" idx="0"/>
              <a:endCxn id="18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307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лужб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8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8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08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рганиз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C7BD-ACA4-4457-84D1-40E8CA700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3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3 мальчика       303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,5%)                 (56,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F3E5-6E75-4D90-8228-29A1A98D5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rganization Chart 6"/>
          <p:cNvGrpSpPr/>
          <p:nvPr/>
        </p:nvGrpSpPr>
        <p:grpSpPr>
          <a:xfrm>
            <a:off x="431640" y="239760"/>
            <a:ext cx="8208000" cy="5831640"/>
            <a:chOff x="431640" y="239760"/>
            <a:chExt cx="8208000" cy="5831640"/>
          </a:xfrm>
        </p:grpSpPr>
        <p:cxnSp>
          <p:nvCxnSpPr>
            <p:cNvPr id="192" name="_s4100"/>
            <p:cNvCxnSpPr>
              <a:stCxn id="193" idx="0"/>
              <a:endCxn id="194" idx="2"/>
            </p:cNvCxnSpPr>
            <p:nvPr/>
          </p:nvCxnSpPr>
          <p:spPr>
            <a:xfrm flipV="1">
              <a:off x="6176880" y="1954440"/>
              <a:ext cx="6840" cy="3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4101"/>
            <p:cNvCxnSpPr>
              <a:stCxn id="196" idx="1"/>
              <a:endCxn id="197" idx="2"/>
            </p:cNvCxnSpPr>
            <p:nvPr/>
          </p:nvCxnSpPr>
          <p:spPr>
            <a:xfrm rot="10800000">
              <a:off x="2893320" y="924840"/>
              <a:ext cx="821520" cy="48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4102"/>
            <p:cNvCxnSpPr>
              <a:stCxn id="199" idx="1"/>
              <a:endCxn id="197" idx="2"/>
            </p:cNvCxnSpPr>
            <p:nvPr/>
          </p:nvCxnSpPr>
          <p:spPr>
            <a:xfrm rot="10800000">
              <a:off x="2893320" y="924840"/>
              <a:ext cx="821520" cy="377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4103"/>
            <p:cNvCxnSpPr>
              <a:stCxn id="201" idx="1"/>
              <a:endCxn id="197" idx="2"/>
            </p:cNvCxnSpPr>
            <p:nvPr/>
          </p:nvCxnSpPr>
          <p:spPr>
            <a:xfrm rot="10800000">
              <a:off x="2893320" y="924840"/>
              <a:ext cx="821520" cy="274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4104"/>
            <p:cNvCxnSpPr>
              <a:stCxn id="194" idx="1"/>
              <a:endCxn id="197" idx="2"/>
            </p:cNvCxnSpPr>
            <p:nvPr/>
          </p:nvCxnSpPr>
          <p:spPr>
            <a:xfrm rot="10800000">
              <a:off x="2893320" y="924840"/>
              <a:ext cx="82152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4105"/>
            <p:cNvSpPr/>
            <p:nvPr/>
          </p:nvSpPr>
          <p:spPr>
            <a:xfrm>
              <a:off x="431640" y="2397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учающиеся гимназии из населён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нктов Слободского райо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6"/>
            <p:cNvSpPr/>
            <p:nvPr/>
          </p:nvSpPr>
          <p:spPr>
            <a:xfrm>
              <a:off x="3714840" y="126864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гт Вахруш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4107"/>
            <p:cNvSpPr/>
            <p:nvPr/>
          </p:nvSpPr>
          <p:spPr>
            <a:xfrm>
              <a:off x="3714840" y="332712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. Цент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08"/>
            <p:cNvSpPr/>
            <p:nvPr/>
          </p:nvSpPr>
          <p:spPr>
            <a:xfrm>
              <a:off x="3714840" y="43563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Ильин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09"/>
            <p:cNvSpPr/>
            <p:nvPr/>
          </p:nvSpPr>
          <p:spPr>
            <a:xfrm>
              <a:off x="3714840" y="538560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. Салты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10"/>
            <p:cNvSpPr/>
            <p:nvPr/>
          </p:nvSpPr>
          <p:spPr>
            <a:xfrm>
              <a:off x="3714840" y="229788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Кари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B4A9-7E77-41F9-A79F-EBB6D2692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жим работы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-дневная учебная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(первая) с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нятия с 8-00, в начальной школе с 8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 классе группа продлённого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учебного года 30 дней каник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– 4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по 10 минут, для приёма пищи –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0495-9916-4545-A829-9929CE2B1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SDC10842"/>
          <p:cNvPicPr/>
          <p:nvPr/>
        </p:nvPicPr>
        <p:blipFill>
          <a:blip r:embed="rId3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SDC1084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2E13-0174-4560-9195-B3EEF7D07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ицински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SDC1086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DC10863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SDC10861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6A4-840A-48C5-B84D-D251400C9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здана 21 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эмблема"/>
          <p:cNvPicPr/>
          <p:nvPr/>
        </p:nvPicPr>
        <p:blipFill>
          <a:blip r:embed="rId2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МОУ Гимназия г"/>
          <p:cNvPicPr/>
          <p:nvPr/>
        </p:nvPicPr>
        <p:blipFill>
          <a:blip r:embed="rId3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CF50-705D-4576-B3F1-FC2AA39A8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бные каби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DC1088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SDC10898"/>
          <p:cNvPicPr/>
          <p:nvPr/>
        </p:nvPicPr>
        <p:blipFill>
          <a:blip r:embed="rId2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DC1091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SDC10909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BB7D-7699-4D0C-B295-D5C452196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B9B9-AB12-4445-A5B8-F13514AAE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SDC1088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SDC10890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SDC1090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SDC10875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4955-C367-48A4-8F46-353E1DD28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SDC1086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SDC10870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SDC10866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SDC10874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DAAB-02DE-4F9D-9048-CB7DF61F9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1619280" y="18446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DA38-B219-40A3-9344-3A37DCC62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468360" y="1773360"/>
          <a:ext cx="867564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6756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E4FD-EDA9-44E1-B5C1-835E1B7FE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и – 107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ьцы собственного бизнеса – 107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ники социальной сферы – 187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– 26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еры – 15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ботные – 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862-9C64-4B10-83F2-2E2D52516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управл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Organization Chart 5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255" name="_s717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813280" y="2167920"/>
              <a:ext cx="905400" cy="33879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7173"/>
            <p:cNvCxnSpPr>
              <a:stCxn id="259" idx="0"/>
              <a:endCxn id="257" idx="2"/>
            </p:cNvCxnSpPr>
            <p:nvPr/>
          </p:nvCxnSpPr>
          <p:spPr>
            <a:xfrm flipV="1" rot="16200000">
              <a:off x="4967640" y="3013560"/>
              <a:ext cx="905400" cy="169668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7174"/>
            <p:cNvCxnSpPr>
              <a:stCxn id="261" idx="0"/>
              <a:endCxn id="257" idx="2"/>
            </p:cNvCxnSpPr>
            <p:nvPr/>
          </p:nvCxnSpPr>
          <p:spPr>
            <a:xfrm flipV="1" rot="16200000">
              <a:off x="4120560" y="3860640"/>
              <a:ext cx="905400" cy="2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7175"/>
            <p:cNvCxnSpPr>
              <a:stCxn id="263" idx="0"/>
              <a:endCxn id="257" idx="2"/>
            </p:cNvCxnSpPr>
            <p:nvPr/>
          </p:nvCxnSpPr>
          <p:spPr>
            <a:xfrm flipH="1" flipV="1" rot="5400000">
              <a:off x="3273480" y="3015000"/>
              <a:ext cx="905400" cy="16938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7176"/>
            <p:cNvCxnSpPr>
              <a:stCxn id="265" idx="0"/>
              <a:endCxn id="257" idx="2"/>
            </p:cNvCxnSpPr>
            <p:nvPr/>
          </p:nvCxnSpPr>
          <p:spPr>
            <a:xfrm flipH="1" flipV="1" rot="5400000">
              <a:off x="2425320" y="2166840"/>
              <a:ext cx="905400" cy="3390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7177"/>
            <p:cNvSpPr/>
            <p:nvPr/>
          </p:nvSpPr>
          <p:spPr>
            <a:xfrm>
              <a:off x="3844440" y="160020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7178"/>
            <p:cNvSpPr/>
            <p:nvPr/>
          </p:nvSpPr>
          <p:spPr>
            <a:xfrm>
              <a:off x="4572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щегимназ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ферен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7179"/>
            <p:cNvSpPr/>
            <p:nvPr/>
          </p:nvSpPr>
          <p:spPr>
            <a:xfrm>
              <a:off x="21517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печитель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7180"/>
            <p:cNvSpPr/>
            <p:nvPr/>
          </p:nvSpPr>
          <p:spPr>
            <a:xfrm>
              <a:off x="38466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б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удо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ллекти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7181"/>
            <p:cNvSpPr/>
            <p:nvPr/>
          </p:nvSpPr>
          <p:spPr>
            <a:xfrm>
              <a:off x="55411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дагогиче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7182"/>
            <p:cNvSpPr/>
            <p:nvPr/>
          </p:nvSpPr>
          <p:spPr>
            <a:xfrm>
              <a:off x="7236000" y="4314960"/>
              <a:ext cx="1450440" cy="1809720"/>
            </a:xfrm>
            <a:custGeom>
              <a:avLst/>
              <a:gdLst>
                <a:gd name="textAreaLeft" fmla="*/ 70560 w 1450440"/>
                <a:gd name="textAreaRight" fmla="*/ 1379880 w 1450440"/>
                <a:gd name="textAreaTop" fmla="*/ 70560 h 1809720"/>
                <a:gd name="textAreaBottom" fmla="*/ 1739160 h 1809720"/>
              </a:gdLst>
              <a:ahLst/>
              <a:rect l="textAreaLeft" t="textAreaTop" r="textAreaRight" b="textAreaBottom"/>
              <a:pathLst>
                <a:path w="21600" h="26949">
                  <a:moveTo>
                    <a:pt x="3600" y="0"/>
                  </a:moveTo>
                  <a:arcTo wR="3600" hR="3600" stAng="16200000" swAng="-5400000"/>
                  <a:lnTo>
                    <a:pt x="0" y="23349"/>
                  </a:lnTo>
                  <a:arcTo wR="3600" hR="3600" stAng="10800000" swAng="-5400000"/>
                  <a:lnTo>
                    <a:pt x="18000" y="26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ч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427-08B7-4B73-84F0-2F8F6A166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печительский 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едатель со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ил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их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DC1001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SDC1001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CAF2-059D-44AA-989C-AE0B5DDA5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73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педагогических советов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дагогическое мастерство как средство управления качеством образования гимназиста на основе компетентностно-ориентированного подх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SDC10570"/>
          <p:cNvPicPr/>
          <p:nvPr/>
        </p:nvPicPr>
        <p:blipFill>
          <a:blip r:embed="rId3"/>
          <a:stretch/>
        </p:blipFill>
        <p:spPr>
          <a:xfrm>
            <a:off x="4572000" y="2133720"/>
            <a:ext cx="403848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7196-C816-4808-9424-25B54D4DC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46836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и г.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 педагогическим со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азии 27 января 2010 г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№ 1, утверждена распоряжением администрации города Слободского от 26 февра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эмблема"/>
          <p:cNvPicPr/>
          <p:nvPr/>
        </p:nvPicPr>
        <p:blipFill>
          <a:blip r:embed="rId2"/>
          <a:stretch/>
        </p:blipFill>
        <p:spPr>
          <a:xfrm>
            <a:off x="6372360" y="4406760"/>
            <a:ext cx="2307960" cy="204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od2-2101"/>
          <p:cNvPicPr/>
          <p:nvPr/>
        </p:nvPicPr>
        <p:blipFill>
          <a:blip r:embed="rId3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эмблема"/>
          <p:cNvPicPr/>
          <p:nvPr/>
        </p:nvPicPr>
        <p:blipFill>
          <a:blip r:embed="rId4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508E-59EA-4E92-BCB7-D7265AFDC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82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тема заседания педагогического совета (апрель 2010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уманистическая направленность личности учителя и его готовность к инновациям как компоненты педагогического мастер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SDC10643"/>
          <p:cNvPicPr/>
          <p:nvPr/>
        </p:nvPicPr>
        <p:blipFill>
          <a:blip r:embed="rId3"/>
          <a:stretch/>
        </p:blipFill>
        <p:spPr>
          <a:xfrm>
            <a:off x="4643280" y="2205000"/>
            <a:ext cx="40388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2E58-4790-4150-8F2A-80C552D7A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9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641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эмблема"/>
          <p:cNvPicPr/>
          <p:nvPr/>
        </p:nvPicPr>
        <p:blipFill>
          <a:blip r:embed="rId2"/>
          <a:stretch/>
        </p:blipFill>
        <p:spPr>
          <a:xfrm>
            <a:off x="250920" y="404640"/>
            <a:ext cx="151596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96" name="Organization Chart 8"/>
          <p:cNvGrpSpPr/>
          <p:nvPr/>
        </p:nvGrpSpPr>
        <p:grpSpPr>
          <a:xfrm>
            <a:off x="442800" y="1614600"/>
            <a:ext cx="8208360" cy="4463640"/>
            <a:chOff x="442800" y="1614600"/>
            <a:chExt cx="8208360" cy="4463640"/>
          </a:xfrm>
        </p:grpSpPr>
        <p:cxnSp>
          <p:nvCxnSpPr>
            <p:cNvPr id="297" name="_s8196"/>
            <p:cNvCxnSpPr>
              <a:stCxn id="298" idx="1"/>
              <a:endCxn id="299" idx="2"/>
            </p:cNvCxnSpPr>
            <p:nvPr/>
          </p:nvCxnSpPr>
          <p:spPr>
            <a:xfrm rot="10800000">
              <a:off x="4546080" y="225144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8197"/>
            <p:cNvCxnSpPr>
              <a:stCxn id="301" idx="3"/>
              <a:endCxn id="299" idx="2"/>
            </p:cNvCxnSpPr>
            <p:nvPr/>
          </p:nvCxnSpPr>
          <p:spPr>
            <a:xfrm flipV="1">
              <a:off x="3960720" y="225180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8198"/>
            <p:cNvCxnSpPr>
              <a:stCxn id="303" idx="1"/>
              <a:endCxn id="299" idx="2"/>
            </p:cNvCxnSpPr>
            <p:nvPr/>
          </p:nvCxnSpPr>
          <p:spPr>
            <a:xfrm rot="10800000">
              <a:off x="454608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8199"/>
            <p:cNvCxnSpPr>
              <a:stCxn id="305" idx="3"/>
              <a:endCxn id="299" idx="2"/>
            </p:cNvCxnSpPr>
            <p:nvPr/>
          </p:nvCxnSpPr>
          <p:spPr>
            <a:xfrm flipV="1">
              <a:off x="396072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8200"/>
            <p:cNvCxnSpPr>
              <a:stCxn id="307" idx="1"/>
              <a:endCxn id="299" idx="2"/>
            </p:cNvCxnSpPr>
            <p:nvPr/>
          </p:nvCxnSpPr>
          <p:spPr>
            <a:xfrm rot="10800000">
              <a:off x="4546080" y="225144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8201"/>
            <p:cNvCxnSpPr>
              <a:stCxn id="309" idx="3"/>
              <a:endCxn id="299" idx="2"/>
            </p:cNvCxnSpPr>
            <p:nvPr/>
          </p:nvCxnSpPr>
          <p:spPr>
            <a:xfrm flipV="1">
              <a:off x="3960720" y="225180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8202"/>
            <p:cNvCxnSpPr>
              <a:stCxn id="311" idx="1"/>
              <a:endCxn id="299" idx="2"/>
            </p:cNvCxnSpPr>
            <p:nvPr/>
          </p:nvCxnSpPr>
          <p:spPr>
            <a:xfrm rot="10800000">
              <a:off x="454608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2" name="_s8203"/>
            <p:cNvCxnSpPr>
              <a:stCxn id="313" idx="3"/>
              <a:endCxn id="299" idx="2"/>
            </p:cNvCxnSpPr>
            <p:nvPr/>
          </p:nvCxnSpPr>
          <p:spPr>
            <a:xfrm flipV="1">
              <a:off x="396072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8204"/>
            <p:cNvSpPr/>
            <p:nvPr/>
          </p:nvSpPr>
          <p:spPr>
            <a:xfrm>
              <a:off x="2787840" y="161460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учно-методический сов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8205"/>
            <p:cNvSpPr/>
            <p:nvPr/>
          </p:nvSpPr>
          <p:spPr>
            <a:xfrm>
              <a:off x="44280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словес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8206"/>
            <p:cNvSpPr/>
            <p:nvPr/>
          </p:nvSpPr>
          <p:spPr>
            <a:xfrm>
              <a:off x="513324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точ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8207"/>
            <p:cNvSpPr/>
            <p:nvPr/>
          </p:nvSpPr>
          <p:spPr>
            <a:xfrm>
              <a:off x="44280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иностранных язы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8208"/>
            <p:cNvSpPr/>
            <p:nvPr/>
          </p:nvSpPr>
          <p:spPr>
            <a:xfrm>
              <a:off x="513324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федра предметов обществен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эстетического цик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8209"/>
            <p:cNvSpPr/>
            <p:nvPr/>
          </p:nvSpPr>
          <p:spPr>
            <a:xfrm>
              <a:off x="442800" y="448416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естествен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8210"/>
            <p:cNvSpPr/>
            <p:nvPr/>
          </p:nvSpPr>
          <p:spPr>
            <a:xfrm>
              <a:off x="5133240" y="448416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афедра начальных клас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8211"/>
            <p:cNvSpPr/>
            <p:nvPr/>
          </p:nvSpPr>
          <p:spPr>
            <a:xfrm>
              <a:off x="447120" y="5440680"/>
              <a:ext cx="351324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воспитания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8212"/>
            <p:cNvSpPr/>
            <p:nvPr/>
          </p:nvSpPr>
          <p:spPr>
            <a:xfrm>
              <a:off x="5133240" y="544068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 учителей физ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D2C5-DDEC-41AE-AF0B-1A08F6B84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316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ская инновационная площ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рока в условиях компетентностно-ориентированно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учный консультант О.Г. Селиванова, к.п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" descr="Изображение 010"/>
          <p:cNvPicPr/>
          <p:nvPr/>
        </p:nvPicPr>
        <p:blipFill>
          <a:blip r:embed="rId3"/>
          <a:stretch/>
        </p:blipFill>
        <p:spPr>
          <a:xfrm>
            <a:off x="4648320" y="1989000"/>
            <a:ext cx="417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3BE5-7410-4847-A184-44B36D452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2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чно-исследовательская лаборатория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учебно-исследовательской культуры гимназиста как фактор развития его одарён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P5060040"/>
          <p:cNvPicPr/>
          <p:nvPr/>
        </p:nvPicPr>
        <p:blipFill>
          <a:blip r:embed="rId1"/>
          <a:stretch/>
        </p:blipFill>
        <p:spPr>
          <a:xfrm>
            <a:off x="1042920" y="3933720"/>
            <a:ext cx="4033800" cy="2664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эмблема"/>
          <p:cNvPicPr/>
          <p:nvPr/>
        </p:nvPicPr>
        <p:blipFill>
          <a:blip r:embed="rId3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P5060003"/>
          <p:cNvPicPr/>
          <p:nvPr/>
        </p:nvPicPr>
        <p:blipFill>
          <a:blip r:embed="rId4"/>
          <a:stretch/>
        </p:blipFill>
        <p:spPr>
          <a:xfrm>
            <a:off x="5003640" y="2060640"/>
            <a:ext cx="3384720" cy="3168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эмблема"/>
          <p:cNvPicPr/>
          <p:nvPr/>
        </p:nvPicPr>
        <p:blipFill>
          <a:blip r:embed="rId5"/>
          <a:stretch/>
        </p:blipFill>
        <p:spPr>
          <a:xfrm>
            <a:off x="7308720" y="537372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DCDD-048B-4942-B839-38F59761E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ическая тема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чебного занятия в условия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етентностно-ориентирован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х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эмблема"/>
          <p:cNvPicPr/>
          <p:nvPr/>
        </p:nvPicPr>
        <p:blipFill>
          <a:blip r:embed="rId1"/>
          <a:stretch/>
        </p:blipFill>
        <p:spPr>
          <a:xfrm>
            <a:off x="7020000" y="4941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22DD-82D3-4EFC-AB1C-8EB53DC22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2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менеджмен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, функ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 для производств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ей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od2-2101"/>
          <p:cNvPicPr/>
          <p:nvPr/>
        </p:nvPicPr>
        <p:blipFill>
          <a:blip r:embed="rId1"/>
          <a:stretch/>
        </p:blipFill>
        <p:spPr>
          <a:xfrm>
            <a:off x="6227640" y="333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эмблема"/>
          <p:cNvPicPr/>
          <p:nvPr/>
        </p:nvPicPr>
        <p:blipFill>
          <a:blip r:embed="rId2"/>
          <a:stretch/>
        </p:blipFill>
        <p:spPr>
          <a:xfrm>
            <a:off x="6156360" y="4149720"/>
            <a:ext cx="25239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E11-05CB-438F-A16E-51D3602B4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эмблема"/>
          <p:cNvPicPr/>
          <p:nvPr/>
        </p:nvPicPr>
        <p:blipFill>
          <a:blip r:embed="rId2"/>
          <a:stretch/>
        </p:blipFill>
        <p:spPr>
          <a:xfrm>
            <a:off x="250920" y="260280"/>
            <a:ext cx="17287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Organization Chart 9"/>
          <p:cNvGrpSpPr/>
          <p:nvPr/>
        </p:nvGrpSpPr>
        <p:grpSpPr>
          <a:xfrm>
            <a:off x="539640" y="333360"/>
            <a:ext cx="8135640" cy="5973480"/>
            <a:chOff x="539640" y="333360"/>
            <a:chExt cx="8135640" cy="5973480"/>
          </a:xfrm>
        </p:grpSpPr>
        <p:cxnSp>
          <p:nvCxnSpPr>
            <p:cNvPr id="356" name="_s9220"/>
            <p:cNvCxnSpPr>
              <a:stCxn id="357" idx="0"/>
              <a:endCxn id="358" idx="2"/>
            </p:cNvCxnSpPr>
            <p:nvPr/>
          </p:nvCxnSpPr>
          <p:spPr>
            <a:xfrm flipV="1" rot="16200000">
              <a:off x="5686200" y="164376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9221"/>
            <p:cNvCxnSpPr>
              <a:stCxn id="360" idx="0"/>
              <a:endCxn id="358" idx="2"/>
            </p:cNvCxnSpPr>
            <p:nvPr/>
          </p:nvCxnSpPr>
          <p:spPr>
            <a:xfrm flipV="1" rot="16200000">
              <a:off x="4848480" y="248148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1" name="_s9222"/>
            <p:cNvCxnSpPr>
              <a:stCxn id="362" idx="0"/>
              <a:endCxn id="358" idx="2"/>
            </p:cNvCxnSpPr>
            <p:nvPr/>
          </p:nvCxnSpPr>
          <p:spPr>
            <a:xfrm flipV="1" rot="16200000">
              <a:off x="4011480" y="3318480"/>
              <a:ext cx="1195200" cy="2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3" name="_s9223"/>
            <p:cNvCxnSpPr>
              <a:stCxn id="364" idx="0"/>
              <a:endCxn id="358" idx="2"/>
            </p:cNvCxnSpPr>
            <p:nvPr/>
          </p:nvCxnSpPr>
          <p:spPr>
            <a:xfrm flipH="1" flipV="1" rot="5400000">
              <a:off x="3173040" y="248184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9224"/>
            <p:cNvCxnSpPr>
              <a:stCxn id="366" idx="0"/>
              <a:endCxn id="358" idx="2"/>
            </p:cNvCxnSpPr>
            <p:nvPr/>
          </p:nvCxnSpPr>
          <p:spPr>
            <a:xfrm flipH="1" flipV="1" rot="5400000">
              <a:off x="2335320" y="164412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8" name="_s9225"/>
            <p:cNvSpPr/>
            <p:nvPr/>
          </p:nvSpPr>
          <p:spPr>
            <a:xfrm>
              <a:off x="3888360" y="33336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9226"/>
            <p:cNvSpPr/>
            <p:nvPr/>
          </p:nvSpPr>
          <p:spPr>
            <a:xfrm>
              <a:off x="53964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тив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ов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9227"/>
            <p:cNvSpPr/>
            <p:nvPr/>
          </p:nvSpPr>
          <p:spPr>
            <a:xfrm>
              <a:off x="221508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др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9228"/>
            <p:cNvSpPr/>
            <p:nvPr/>
          </p:nvSpPr>
          <p:spPr>
            <a:xfrm>
              <a:off x="389052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тивацион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9229"/>
            <p:cNvSpPr/>
            <p:nvPr/>
          </p:nvSpPr>
          <p:spPr>
            <a:xfrm>
              <a:off x="556596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нанс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9230"/>
            <p:cNvSpPr/>
            <p:nvPr/>
          </p:nvSpPr>
          <p:spPr>
            <a:xfrm>
              <a:off x="7241400" y="3917520"/>
              <a:ext cx="1433880" cy="2389320"/>
            </a:xfrm>
            <a:custGeom>
              <a:avLst/>
              <a:gdLst>
                <a:gd name="textAreaLeft" fmla="*/ 69840 w 1433880"/>
                <a:gd name="textAreaRight" fmla="*/ 1364040 w 143388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89">
                  <a:moveTo>
                    <a:pt x="3600" y="0"/>
                  </a:moveTo>
                  <a:arcTo wR="3600" hR="3600" stAng="16200000" swAng="-5400000"/>
                  <a:lnTo>
                    <a:pt x="0" y="32389"/>
                  </a:lnTo>
                  <a:arcTo wR="3600" hR="3600" stAng="10800000" swAng="-5400000"/>
                  <a:lnTo>
                    <a:pt x="18000" y="35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уч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тодиче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A3C1-CAA0-444E-AAD2-909F934E9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6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468000" y="259920"/>
            <a:ext cx="806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прав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педагог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метод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методической кафед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исследовательско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учебном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оплате труда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инстр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160720" cy="172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C845-20B6-4DD7-BB9C-D41574E7B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god2-2101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7561-31C2-4CCC-B3DE-F7525429A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god2-2101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  <p:grpSp>
        <p:nvGrpSpPr>
          <p:cNvPr id="382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83" name="_s10244"/>
            <p:cNvCxnSpPr>
              <a:stCxn id="384" idx="0"/>
              <a:endCxn id="385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_s10245"/>
            <p:cNvCxnSpPr>
              <a:stCxn id="387" idx="0"/>
              <a:endCxn id="385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_s10246"/>
            <p:cNvCxnSpPr>
              <a:stCxn id="389" idx="0"/>
              <a:endCxn id="385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5" name="_s1024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1024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24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25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4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EDDD-BB0C-45A0-8291-6454E87A6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ения и дополнения в устав гимназии, утверждены постановлением администрации города Слободского от 22 июля 2010 года №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god2-2101"/>
          <p:cNvPicPr/>
          <p:nvPr/>
        </p:nvPicPr>
        <p:blipFill>
          <a:blip r:embed="rId2"/>
          <a:stretch/>
        </p:blipFill>
        <p:spPr>
          <a:xfrm>
            <a:off x="7164360" y="54936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god2-2101"/>
          <p:cNvPicPr/>
          <p:nvPr/>
        </p:nvPicPr>
        <p:blipFill>
          <a:blip r:embed="rId3"/>
          <a:stretch/>
        </p:blipFill>
        <p:spPr>
          <a:xfrm>
            <a:off x="7093080" y="62064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god2-2101"/>
          <p:cNvPicPr/>
          <p:nvPr/>
        </p:nvPicPr>
        <p:blipFill>
          <a:blip r:embed="rId4"/>
          <a:stretch/>
        </p:blipFill>
        <p:spPr>
          <a:xfrm>
            <a:off x="7020000" y="69228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эмблема"/>
          <p:cNvPicPr/>
          <p:nvPr/>
        </p:nvPicPr>
        <p:blipFill>
          <a:blip r:embed="rId5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95BD-5EBF-481F-8DFB-8F41215ED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47952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FBEC-C005-40C4-9BAC-A696FBF81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96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god2-2101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Сергеева"/>
          <p:cNvPicPr/>
          <p:nvPr/>
        </p:nvPicPr>
        <p:blipFill>
          <a:blip r:embed="rId3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Копысова - копия"/>
          <p:cNvPicPr/>
          <p:nvPr/>
        </p:nvPicPr>
        <p:blipFill>
          <a:blip r:embed="rId4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IMG 043"/>
          <p:cNvPicPr/>
          <p:nvPr/>
        </p:nvPicPr>
        <p:blipFill>
          <a:blip r:embed="rId5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" descr="1Двоеглазова ТЛ"/>
          <p:cNvPicPr/>
          <p:nvPr/>
        </p:nvPicPr>
        <p:blipFill>
          <a:blip r:embed="rId6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Фото Мурина"/>
          <p:cNvPicPr/>
          <p:nvPr/>
        </p:nvPicPr>
        <p:blipFill>
          <a:blip r:embed="rId7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C317-7911-44ED-8076-FDB49E793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41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НПО-2010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курс уч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IMG 043"/>
          <p:cNvPicPr/>
          <p:nvPr/>
        </p:nvPicPr>
        <p:blipFill>
          <a:blip r:embed="rId3"/>
          <a:stretch/>
        </p:blipFill>
        <p:spPr>
          <a:xfrm>
            <a:off x="5430960" y="1557360"/>
            <a:ext cx="2957400" cy="367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символика ПНПО"/>
          <p:cNvPicPr/>
          <p:nvPr/>
        </p:nvPicPr>
        <p:blipFill>
          <a:blip r:embed="rId4"/>
          <a:stretch/>
        </p:blipFill>
        <p:spPr>
          <a:xfrm>
            <a:off x="1763640" y="333360"/>
            <a:ext cx="1441440" cy="10206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BC3F-908C-47E9-8460-1824AAD74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школьных учителей Фонда Дмитрия Зимина – 20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 «Наставник будущих учё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слов Анатолий Дмитри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P9010061"/>
          <p:cNvPicPr/>
          <p:nvPr/>
        </p:nvPicPr>
        <p:blipFill>
          <a:blip r:embed="rId1"/>
          <a:stretch/>
        </p:blipFill>
        <p:spPr>
          <a:xfrm>
            <a:off x="663480" y="1600200"/>
            <a:ext cx="362448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god2-2101"/>
          <p:cNvPicPr/>
          <p:nvPr/>
        </p:nvPicPr>
        <p:blipFill>
          <a:blip r:embed="rId2"/>
          <a:stretch/>
        </p:blipFill>
        <p:spPr>
          <a:xfrm>
            <a:off x="7093080" y="5013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69A7-5753-4C01-8A80-2A988A141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стная премия для учителей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. А.Н. Тепляшиной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PC120057"/>
          <p:cNvPicPr/>
          <p:nvPr/>
        </p:nvPicPr>
        <p:blipFill>
          <a:blip r:embed="rId1"/>
          <a:stretch/>
        </p:blipFill>
        <p:spPr>
          <a:xfrm>
            <a:off x="755640" y="2060640"/>
            <a:ext cx="3168720" cy="4093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god2-2101"/>
          <p:cNvPicPr/>
          <p:nvPr/>
        </p:nvPicPr>
        <p:blipFill>
          <a:blip r:embed="rId2"/>
          <a:stretch/>
        </p:blipFill>
        <p:spPr>
          <a:xfrm>
            <a:off x="7164360" y="4797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13D1-BF48-4F04-88D6-BDA11A638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ои инновации» -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плом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дкина В.Б, Колесникова Т.А., учителя начальны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оусова Т.В., учитель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SDC10793"/>
          <p:cNvPicPr/>
          <p:nvPr/>
        </p:nvPicPr>
        <p:blipFill>
          <a:blip r:embed="rId1"/>
          <a:stretch/>
        </p:blipFill>
        <p:spPr>
          <a:xfrm>
            <a:off x="1692360" y="1628640"/>
            <a:ext cx="1655640" cy="2186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god2-2101"/>
          <p:cNvPicPr/>
          <p:nvPr/>
        </p:nvPicPr>
        <p:blipFill>
          <a:blip r:embed="rId2"/>
          <a:stretch/>
        </p:blipFill>
        <p:spPr>
          <a:xfrm>
            <a:off x="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эмблема"/>
          <p:cNvPicPr/>
          <p:nvPr/>
        </p:nvPicPr>
        <p:blipFill>
          <a:blip r:embed="rId3"/>
          <a:stretch/>
        </p:blipFill>
        <p:spPr>
          <a:xfrm>
            <a:off x="762804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"/>
          <p:cNvPicPr/>
          <p:nvPr/>
        </p:nvPicPr>
        <p:blipFill>
          <a:blip r:embed="rId4"/>
          <a:stretch/>
        </p:blipFill>
        <p:spPr>
          <a:xfrm>
            <a:off x="1763640" y="4005360"/>
            <a:ext cx="15843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03F-F01C-4D2C-B24B-161AD29E9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«Лучший по профессии-201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учший педагог общего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амара Леонидовна, учитель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1487520" y="2379600"/>
            <a:ext cx="1977840" cy="2967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god2-2101"/>
          <p:cNvPicPr/>
          <p:nvPr/>
        </p:nvPicPr>
        <p:blipFill>
          <a:blip r:embed="rId2"/>
          <a:stretch/>
        </p:blipFill>
        <p:spPr>
          <a:xfrm>
            <a:off x="32400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эмблема"/>
          <p:cNvPicPr/>
          <p:nvPr/>
        </p:nvPicPr>
        <p:blipFill>
          <a:blip r:embed="rId3"/>
          <a:stretch/>
        </p:blipFill>
        <p:spPr>
          <a:xfrm>
            <a:off x="762804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F8F-9D69-4CD8-B3C4-1E527069D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учи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учителей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.Ф. – учителе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402B-0CF3-443B-8D18-71989A424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47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эмблема"/>
          <p:cNvPicPr/>
          <p:nvPr/>
        </p:nvPicPr>
        <p:blipFill>
          <a:blip r:embed="rId2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DSC_4325"/>
          <p:cNvPicPr/>
          <p:nvPr/>
        </p:nvPicPr>
        <p:blipFill>
          <a:blip r:embed="rId3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2" descr="Сергеева"/>
          <p:cNvPicPr/>
          <p:nvPr/>
        </p:nvPicPr>
        <p:blipFill>
          <a:blip r:embed="rId4"/>
          <a:stretch/>
        </p:blipFill>
        <p:spPr>
          <a:xfrm rot="1130400">
            <a:off x="1076040" y="4081320"/>
            <a:ext cx="1882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0E66-FE3A-4D0C-A38C-2AC8A5717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ные семинары для  учителей иностран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DSCN620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DSCN6209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2E0F-E2A8-494F-9F8B-188361CC3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7C46-F0ED-4440-A3CB-EBF52F732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ие семинары по работе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P128005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P128005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9DBD-6378-4731-A560-36BCE36C1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пина Елен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нформационной компетентности обучающихся посредством перекодирования информа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1811520" cy="2790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god2-2101"/>
          <p:cNvPicPr/>
          <p:nvPr/>
        </p:nvPicPr>
        <p:blipFill>
          <a:blip r:embed="rId2"/>
          <a:stretch/>
        </p:blipFill>
        <p:spPr>
          <a:xfrm>
            <a:off x="539640" y="5229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ED59-0990-4103-8766-25B166CA1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сева Анжелик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гра как форма организации познавательной деятельности младших школьников на уроках английского язы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god2-2101"/>
          <p:cNvPicPr/>
          <p:nvPr/>
        </p:nvPicPr>
        <p:blipFill>
          <a:blip r:embed="rId1"/>
          <a:stretch/>
        </p:blipFill>
        <p:spPr>
          <a:xfrm>
            <a:off x="25092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0917-7486-4876-A2B1-BE417FE37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ународ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учно-практиче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спитание чувств школьников через применение авторского песенного репертуара на уроках муз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god2-2101"/>
          <p:cNvPicPr/>
          <p:nvPr/>
        </p:nvPicPr>
        <p:blipFill>
          <a:blip r:embed="rId1"/>
          <a:stretch/>
        </p:blipFill>
        <p:spPr>
          <a:xfrm>
            <a:off x="399564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Фото Мурина"/>
          <p:cNvPicPr/>
          <p:nvPr/>
        </p:nvPicPr>
        <p:blipFill>
          <a:blip r:embed="rId2"/>
          <a:stretch/>
        </p:blipFill>
        <p:spPr>
          <a:xfrm>
            <a:off x="900000" y="1628640"/>
            <a:ext cx="310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5BF-BAC2-465C-B2CE-F90323A3B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SDC10789 - копия"/>
          <p:cNvPicPr/>
          <p:nvPr/>
        </p:nvPicPr>
        <p:blipFill>
          <a:blip r:embed="rId1"/>
          <a:stretch/>
        </p:blipFill>
        <p:spPr>
          <a:xfrm>
            <a:off x="714240" y="1600200"/>
            <a:ext cx="3522960" cy="2185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DC1089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SDC10910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E044-841B-4E21-B476-60016B132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4416-6FB0-45DF-8C92-9CA40BC8A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министрация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5" descr="P9010079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7548-7277-4952-9774-C7216ADDD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ллекти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Новый рисунок"/>
          <p:cNvPicPr/>
          <p:nvPr/>
        </p:nvPicPr>
        <p:blipFill>
          <a:blip r:embed="rId1"/>
          <a:stretch/>
        </p:blipFill>
        <p:spPr>
          <a:xfrm>
            <a:off x="1281240" y="1604880"/>
            <a:ext cx="65800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3E29-0999-416C-B1C6-1CCD40550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69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C2E-F687-4920-834A-834BACBBB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8 выпускников получили аттестаты, 2 из них – особого образ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 отличие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3AAA-BE39-4CFC-A46F-203170D2B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2908-D575-4F1D-95C3-DEC0572E8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2F1F-B133-4529-8822-4D7DABC7A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 – 24 чел.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а – 14 чел.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– 9 чел. (2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7960-B10D-4CEE-81EE-2FB0BCFD0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39528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0E0-E8B5-4497-804A-DC3F472AF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5"/>
          <p:cNvGraphicFramePr/>
          <p:nvPr/>
        </p:nvGraphicFramePr>
        <p:xfrm>
          <a:off x="46836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DE3A-82F0-4E1A-8CE0-729A5FFE0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30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4"/>
          <p:cNvGraphicFramePr/>
          <p:nvPr/>
        </p:nvGraphicFramePr>
        <p:xfrm>
          <a:off x="468360" y="2332080"/>
          <a:ext cx="820584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192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D97E-B972-414A-B85D-1908D0FD7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алисты гимназии с 1995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4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3602-2D8E-4B1C-9283-F39851D16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этап Всероссийской олимпиады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йтинг востребованности предм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– 136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 – 1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– 114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– 9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ка – 9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– 8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– 7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B02C-E827-42A0-BB76-949D07347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ители и призё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О.Ю. Мих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Литература – Блин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З.П. Серг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усский язык – Сил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Копысова Л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Химия -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Т.Л. Двоеглаз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A8C8-1D8B-4E43-ACF4-BF17F4E5B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Всероссийской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ылов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копылов кирилл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8661-AF7E-4DED-8017-D17F4CE1B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бедитель Всероссийской олимпиады по Основам православн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исимов Евг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сина Л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анисимов евгений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145A-D1A5-40BE-A35D-F7010DE48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ный сте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DC10888"/>
          <p:cNvPicPr/>
          <p:nvPr/>
        </p:nvPicPr>
        <p:blipFill>
          <a:blip r:embed="rId1"/>
          <a:stretch/>
        </p:blipFill>
        <p:spPr>
          <a:xfrm>
            <a:off x="2465280" y="1600200"/>
            <a:ext cx="421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18C4-E58F-4EAF-9D85-2D894E647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сты-стипенди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илл Копылов – Стипендиат Правительства Кировской области, Детского фонда, администрации города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нисимов Евгений - Стипендиат Правительства Кировской области,  администрации города Слобод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ладимирова Екатерина – Стипендиат Детского 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F6C9-970F-448F-B456-5C35E5DD9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олжение образования выпускников гимназии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 % выпускников 2010 года (38 из 4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упили в высшие учебные за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ГУ им. Ломоносова (Карпова Елена), Московский педагогический государственный университет (Силина Екатерина), Московская академия МЧС (Вылегжанин Максим), Санкт-Петербургская государственная медицинская академия им. Мечникова (Волкова Ксения), ГУ – высшая школа экономики (Барышникова Анастасия)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F2AA-DF2C-4606-A79C-CE5CF0A89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D108-1BE2-412A-8419-0D0E20EC2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гимназ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DSC01831"/>
          <p:cNvPicPr/>
          <p:nvPr/>
        </p:nvPicPr>
        <p:blipFill>
          <a:blip r:embed="rId1"/>
          <a:stretch/>
        </p:blipFill>
        <p:spPr>
          <a:xfrm>
            <a:off x="324000" y="1268280"/>
            <a:ext cx="3489120" cy="2762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Новый рисунок (7)"/>
          <p:cNvPicPr/>
          <p:nvPr/>
        </p:nvPicPr>
        <p:blipFill>
          <a:blip r:embed="rId2"/>
          <a:stretch/>
        </p:blipFill>
        <p:spPr>
          <a:xfrm>
            <a:off x="1100160" y="3938760"/>
            <a:ext cx="27511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9E71-AC39-462B-90D5-F0B396290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ы в В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дравление ветер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IMG_0013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02D8-A426-4BC2-BEB0-83466155E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IMG_003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IMG_003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09E4-D554-4A53-AAC2-D7447EBEC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Новый рисунок (1)"/>
          <p:cNvPicPr/>
          <p:nvPr/>
        </p:nvPicPr>
        <p:blipFill>
          <a:blip r:embed="rId1"/>
          <a:stretch/>
        </p:blipFill>
        <p:spPr>
          <a:xfrm>
            <a:off x="1022400" y="1600200"/>
            <a:ext cx="2908080" cy="2185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Новый рисунок (2)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SDC1090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2" descr="SDC108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0A97-3C94-4FDA-9B8E-880920A52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Новый рисунок"/>
          <p:cNvPicPr/>
          <p:nvPr/>
        </p:nvPicPr>
        <p:blipFill>
          <a:blip r:embed="rId1"/>
          <a:stretch/>
        </p:blipFill>
        <p:spPr>
          <a:xfrm>
            <a:off x="2340000" y="177336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132C-6535-4BAD-A279-C03EDE94C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Новый рисунок (6)"/>
          <p:cNvPicPr/>
          <p:nvPr/>
        </p:nvPicPr>
        <p:blipFill>
          <a:blip r:embed="rId1"/>
          <a:stretch/>
        </p:blipFill>
        <p:spPr>
          <a:xfrm>
            <a:off x="1074600" y="1600200"/>
            <a:ext cx="2803680" cy="2185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Новый рисунок (5)"/>
          <p:cNvPicPr/>
          <p:nvPr/>
        </p:nvPicPr>
        <p:blipFill>
          <a:blip r:embed="rId2"/>
          <a:stretch/>
        </p:blipFill>
        <p:spPr>
          <a:xfrm>
            <a:off x="1081080" y="3938760"/>
            <a:ext cx="2790720" cy="2187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Новый рисунок (3)"/>
          <p:cNvPicPr/>
          <p:nvPr/>
        </p:nvPicPr>
        <p:blipFill>
          <a:blip r:embed="rId3"/>
          <a:stretch/>
        </p:blipFill>
        <p:spPr>
          <a:xfrm>
            <a:off x="4881600" y="2505240"/>
            <a:ext cx="35622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8E5A-5BC5-47D4-97C3-79C8E2481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ртив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спартакиаде школьников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Губернаторских состяз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33CD-C878-4EC8-A6DC-68826043F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05-2010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7BF8-2B20-4057-8EBE-0B3B90532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объединения по интересам в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городские учреждения дополните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E3EC-1E22-400A-A454-B3710599B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оровьесбере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4"/>
          <p:cNvGraphicFramePr/>
          <p:nvPr/>
        </p:nvGraphicFramePr>
        <p:xfrm>
          <a:off x="539640" y="1557360"/>
          <a:ext cx="405144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05144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2009-2010 учебном году 64,6 % обучающихся имели отклонения в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4F0A-DCF0-4121-815E-3873659E2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ая активность и внешние связи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зи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гимназического союза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ассоциации инновационных учреждений Кир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65B8-2F7E-4179-AE7D-9B9905A9C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международного обмена школьниками по линии Американских советов по образованию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L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SDC1053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SDC10139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SDC1018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DSC0331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055E-AAA7-4A87-BC0F-F53F37F17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  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174920" cy="2691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5329080" cy="342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381040" cy="2520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5"/>
          <a:stretch/>
        </p:blipFill>
        <p:spPr>
          <a:xfrm>
            <a:off x="1692360" y="2708280"/>
            <a:ext cx="3887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2E13-34C6-4E09-8C52-BA576F990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1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525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эмблема"/>
          <p:cNvPicPr/>
          <p:nvPr/>
        </p:nvPicPr>
        <p:blipFill>
          <a:blip r:embed="rId3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4" descr="эмблема"/>
          <p:cNvPicPr/>
          <p:nvPr/>
        </p:nvPicPr>
        <p:blipFill>
          <a:blip r:embed="rId4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5" descr="эмблема"/>
          <p:cNvPicPr/>
          <p:nvPr/>
        </p:nvPicPr>
        <p:blipFill>
          <a:blip r:embed="rId5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C357-97DD-42F7-B7AD-8D725A575A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юджетная смета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венция на                   Муницип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ю                       составля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а об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 flipH="1">
            <a:off x="2771280" y="1916280"/>
            <a:ext cx="1584360" cy="15858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4427640" y="1916280"/>
            <a:ext cx="1584360" cy="14414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AF94-7A19-486C-9931-B64D61F04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18" name="_s17412"/>
            <p:cNvCxnSpPr>
              <a:stCxn id="619" idx="0"/>
              <a:endCxn id="620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1" name="_s17413"/>
            <p:cNvCxnSpPr>
              <a:stCxn id="622" idx="0"/>
              <a:endCxn id="620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0" name="_s17414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убвен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17415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17416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Учеб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асх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83E4-A084-4F05-9F13-DC63AB422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ики, учебные пособия (наглядность), учебное оборудование, в том числе компьютеры, подписка на периодическую печать по отрасли «Образование»,  повышение квалификации педагогов (курсы), канцелярские тов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0 году перечень возможных расходов был дополнен учебной мебелью (столы и стуль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6343-3C54-4F4C-9007-82CC6AF3B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Organization Chart 8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28" name="_s18436"/>
            <p:cNvCxnSpPr>
              <a:stCxn id="629" idx="0"/>
              <a:endCxn id="63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1" name="_s18437"/>
            <p:cNvCxnSpPr>
              <a:stCxn id="632" idx="0"/>
              <a:endCxn id="63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3" name="_s18438"/>
            <p:cNvCxnSpPr>
              <a:stCxn id="634" idx="0"/>
              <a:endCxn id="63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0" name="_s1843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844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05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_s1844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269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1844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52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Пользователь Windows</cp:lastModifiedBy>
  <dcterms:modified xsi:type="dcterms:W3CDTF">2013-04-29T11:52:07Z</dcterms:modified>
  <cp:revision>43</cp:revision>
  <dc:subject/>
  <dc:title>Слайд 1</dc:title>
</cp:coreProperties>
</file>