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6.jpeg" ContentType="image/jpeg"/>
  <Override PartName="/ppt/media/image107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49.wmf" ContentType="image/x-wmf"/>
  <Override PartName="/ppt/media/image47.jpeg" ContentType="image/jpeg"/>
  <Override PartName="/ppt/media/image90.wmf" ContentType="image/x-wmf"/>
  <Override PartName="/ppt/media/image46.jpeg" ContentType="image/jpeg"/>
  <Override PartName="/ppt/media/image80.wmf" ContentType="image/x-wmf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48.wmf" ContentType="image/x-wmf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23.wmf" ContentType="image/x-wmf"/>
  <Override PartName="/ppt/media/image41.jpeg" ContentType="image/jpeg"/>
  <Override PartName="/ppt/media/image120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72.wmf" ContentType="image/x-wmf"/>
  <Override PartName="/ppt/media/image8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37.jpeg" ContentType="image/jpeg"/>
  <Override PartName="/ppt/media/image88.wmf" ContentType="image/x-wmf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89.wmf" ContentType="image/x-wmf"/>
  <Override PartName="/ppt/media/image14.jpeg" ContentType="image/jpeg"/>
  <Override PartName="/ppt/media/image70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76.jpeg" ContentType="image/jpeg"/>
  <Override PartName="/ppt/media/image83.jpeg" ContentType="image/jpeg"/>
  <Override PartName="/ppt/media/image95.png" ContentType="image/png"/>
  <Override PartName="/ppt/media/image110.jpeg" ContentType="image/jpeg"/>
  <Override PartName="/ppt/media/image91.wmf" ContentType="image/x-wmf"/>
  <Override PartName="/ppt/media/image93.jpeg" ContentType="image/jpeg"/>
  <Override PartName="/ppt/media/image121.jpeg" ContentType="image/jpeg"/>
  <Override PartName="/ppt/media/image115.jpeg" ContentType="image/jpeg"/>
  <Override PartName="/ppt/media/image75.jpeg" ContentType="image/jpeg"/>
  <Override PartName="/ppt/media/image105.png" ContentType="image/png"/>
  <Override PartName="/ppt/media/image111.jpeg" ContentType="image/jpeg"/>
  <Override PartName="/ppt/media/image94.jpeg" ContentType="image/jpeg"/>
  <Override PartName="/ppt/media/image59.wmf" ContentType="image/x-wmf"/>
  <Override PartName="/ppt/media/image112.jpeg" ContentType="image/jpeg"/>
  <Override PartName="/ppt/media/image92.jpeg" ContentType="image/jpeg"/>
  <Override PartName="/ppt/media/image96.jpeg" ContentType="image/jpeg"/>
  <Override PartName="/ppt/media/image113.jpeg" ContentType="image/jpeg"/>
  <Override PartName="/ppt/media/image114.jpeg" ContentType="image/jpeg"/>
  <Override PartName="/ppt/media/image102.jpeg" ContentType="image/jpeg"/>
  <Override PartName="/ppt/media/image82.jpeg" ContentType="image/jpeg"/>
  <Override PartName="/ppt/media/image119.jpeg" ContentType="image/jpeg"/>
  <Override PartName="/ppt/media/image99.png" ContentType="image/png"/>
  <Override PartName="/ppt/media/image104.png" ContentType="image/png"/>
  <Override PartName="/ppt/media/image63.jpeg" ContentType="image/jpeg"/>
  <Override PartName="/ppt/media/image6.jpeg" ContentType="image/jpeg"/>
  <Override PartName="/ppt/media/image103.png" ContentType="image/png"/>
  <Override PartName="/ppt/media/image118.jpeg" ContentType="image/jpeg"/>
  <Override PartName="/ppt/media/image101.jpeg" ContentType="image/jpeg"/>
  <Override PartName="/ppt/media/image65.jpeg" ContentType="image/jpeg"/>
  <Override PartName="/ppt/media/image100.png" ContentType="image/png"/>
  <Override PartName="/ppt/media/image69.jpeg" ContentType="image/jpeg"/>
  <Override PartName="/ppt/media/image68.jpeg" ContentType="image/jpeg"/>
  <Override PartName="/ppt/media/image81.wmf" ContentType="image/x-wmf"/>
  <Override PartName="/ppt/media/image66.jpeg" ContentType="image/jpeg"/>
  <Override PartName="/ppt/media/image64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67.png" ContentType="image/png"/>
  <Override PartName="/ppt/media/image24.wmf" ContentType="image/x-wmf"/>
  <Override PartName="/ppt/media/image22.wmf" ContentType="image/x-wmf"/>
  <Override PartName="/ppt/media/image117.jpeg" ContentType="image/jpeg"/>
  <Override PartName="/ppt/media/image20.jpeg" ContentType="image/jpeg"/>
  <Override PartName="/ppt/media/image116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0.jpeg" ContentType="image/jpeg"/>
  <Override PartName="/ppt/media/image77.jpeg" ContentType="image/jpeg"/>
  <Override PartName="/ppt/media/image18.jpeg" ContentType="image/jpeg"/>
  <Override PartName="/ppt/media/image17.jpeg" ContentType="image/jpeg"/>
  <Override PartName="/ppt/media/image106.png" ContentType="image/png"/>
  <Override PartName="/ppt/media/image16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6F5-1CF2-414F-8A3A-CF639C40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4645-CBC1-4BB7-8EC4-EAB132BB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9B89-F185-4756-B795-A6F9A33C2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0E6-45DE-4FA5-B95A-4A4BEC4D0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DC76-8853-478E-B06A-2CF4C7E8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4385-4A1F-4588-A9C8-6F92A3B8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78B-7B15-417D-A796-8A0540E1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362B-648E-4400-82E9-6D1A0B79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C2A5-C68D-4DC7-9EA4-8AE2A2C6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376-7A05-44B1-A92E-EC356BF6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3EC7-7023-40E3-95F4-F83157CD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819F-378A-4985-957F-22199D44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7769-65ED-41E1-A323-A63667B619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image" Target="../media/image120.jpeg"/><Relationship Id="rId5" Type="http://schemas.openxmlformats.org/officeDocument/2006/relationships/image" Target="../media/image121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2.jpeg"/><Relationship Id="rId3" Type="http://schemas.openxmlformats.org/officeDocument/2006/relationships/image" Target="../media/image18.jpeg"/><Relationship Id="rId4" Type="http://schemas.openxmlformats.org/officeDocument/2006/relationships/image" Target="../media/image5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18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image" Target="../media/image65.jpe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66.jpe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18.jpeg"/><Relationship Id="rId4" Type="http://schemas.openxmlformats.org/officeDocument/2006/relationships/image" Target="../media/image72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8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82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pn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jpeg"/><Relationship Id="rId4" Type="http://schemas.openxmlformats.org/officeDocument/2006/relationships/image" Target="../media/image111.jpeg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image" Target="../media/image114.jpeg"/><Relationship Id="rId5" Type="http://schemas.openxmlformats.org/officeDocument/2006/relationships/image" Target="../media/image115.jpeg"/><Relationship Id="rId6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image" Target="../media/image52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CF0D-C66E-4501-8E66-2AE4329A5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Group 5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3" name="Freeform 6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убличн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клад  директора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 итогам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2009-2010 уч.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god2-2101"/>
          <p:cNvPicPr/>
          <p:nvPr/>
        </p:nvPicPr>
        <p:blipFill>
          <a:blip r:embed="rId1"/>
          <a:stretch/>
        </p:blipFill>
        <p:spPr>
          <a:xfrm>
            <a:off x="6300720" y="333360"/>
            <a:ext cx="2232000" cy="172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эмблема"/>
          <p:cNvPicPr/>
          <p:nvPr/>
        </p:nvPicPr>
        <p:blipFill>
          <a:blip r:embed="rId2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эмблема"/>
          <p:cNvPicPr/>
          <p:nvPr/>
        </p:nvPicPr>
        <p:blipFill>
          <a:blip r:embed="rId3"/>
          <a:stretch/>
        </p:blipFill>
        <p:spPr>
          <a:xfrm>
            <a:off x="6227640" y="4437000"/>
            <a:ext cx="2381400" cy="21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5CF0-D038-479D-981F-EBB94E8487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сторасположение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. Ленина, 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л. Вятская, 4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по договору помещения МОУ СОШ № 7 для начальных класс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ул. Советская,98 «а» ( по договору спортзал и стадион ДЮСШ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2CCA-68D2-41D3-8630-F9D569D25A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Organization Chart 2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637" name="_s19460"/>
            <p:cNvCxnSpPr>
              <a:stCxn id="638" idx="0"/>
              <a:endCxn id="639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0" name="_s19461"/>
            <p:cNvCxnSpPr>
              <a:stCxn id="641" idx="0"/>
              <a:endCxn id="639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2" name="_s19462"/>
            <p:cNvCxnSpPr>
              <a:stCxn id="643" idx="0"/>
              <a:endCxn id="639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9" name="_s19463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рмати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нанс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ля гимназ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19464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чаль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745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19465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нов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7506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19466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редня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78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D626-3183-4FAB-B880-E3C4C9C4F1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убвен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9 год                           201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млн.                           15 мл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35 тыс. руб.               224 тыс. 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7"/>
          <p:cNvSpPr/>
          <p:nvPr/>
        </p:nvSpPr>
        <p:spPr>
          <a:xfrm>
            <a:off x="1763640" y="2133720"/>
            <a:ext cx="0" cy="93492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8"/>
          <p:cNvSpPr/>
          <p:nvPr/>
        </p:nvSpPr>
        <p:spPr>
          <a:xfrm>
            <a:off x="7164360" y="2276640"/>
            <a:ext cx="0" cy="79200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A0A1-0301-48B5-BB25-465FFEB36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Учебные расход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009 год                            2010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лн.                                980 ты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21 тыс.ру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"/>
          <p:cNvSpPr/>
          <p:nvPr/>
        </p:nvSpPr>
        <p:spPr>
          <a:xfrm>
            <a:off x="1692360" y="2205000"/>
            <a:ext cx="0" cy="79236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"/>
          <p:cNvSpPr/>
          <p:nvPr/>
        </p:nvSpPr>
        <p:spPr>
          <a:xfrm>
            <a:off x="7308720" y="2276640"/>
            <a:ext cx="0" cy="72072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0C75-7DDE-4D5E-93A2-5A68DA0973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Organization Chart 3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657" name="_s20484"/>
            <p:cNvCxnSpPr>
              <a:stCxn id="658" idx="0"/>
              <a:endCxn id="659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0" name="_s20485"/>
            <p:cNvCxnSpPr>
              <a:stCxn id="661" idx="0"/>
              <a:endCxn id="659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59" name="_s20486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ородская составляющ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юджетной сметы гимназ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_s20487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009 год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982148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рублей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_s20488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010 го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2095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рублей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42E0-FC5B-4EC3-92B4-D4EA5F6EA3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бровольные пожертв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09-2010 учебный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81 тыс.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учебная мебель, ремонтные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199F-C1D6-4783-A426-2214BCE36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  Обеспечение высокого качества образования, качества предоставления образовательных услуг, реализации образовательных программ в полном объё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 Развитие творческой образовательной  среды  Гимназии д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крытия способностей каждого уче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я особо одарённых детей и организации их  индивидуальн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25DF-58BD-47B3-8214-CABB1B2D6C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 Формирование здоровьсберегающей среды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   Информатизация образовательного процесса (в т.ч. введение «Электронного журнал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   Обеспечение подготовки введения Федеральных государственных образовательных стандартов начального общего образования в 1-х классах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D2DF-FF35-441B-86B1-0D655DD8AE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 догонять прошлое, а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вать будуще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  Развитие общественной составляющей в управлении Гимназ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  Совершенствование системы руководства и менеджмента Гимн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  Профилактика негативных проявлений в детской и подростковой среде, девиантного поведения обучающихся Гимн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88C8-0F14-403F-B87A-7F49C71763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 гимнази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2010-2011 учебный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хранение и укрепление материально-технической базы гимназии (требуют решения  следующие крупные 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емонт туал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замена оконных р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модернизация системы оповещения о пожа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ремонт  буф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ние локальной сети для введения «Электронного журнала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введение системы видеонаблюд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создание условий в кабинете химии – замена вытяжного шкафа, подвод водопровода, специальная ученическая и учительская мебел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устройство кабинета технологии (дев.) для изучения тем по кулинар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фасадные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формление кабинетов и холлов, в том числе с созданием музейной экспозиции из истории гимназ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ограждение территории и т.д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7FA3-C953-49BF-969D-69DDC450D1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мназия г. Слободск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9" descr="Все 1"/>
          <p:cNvPicPr/>
          <p:nvPr/>
        </p:nvPicPr>
        <p:blipFill>
          <a:blip r:embed="rId1"/>
          <a:stretch/>
        </p:blipFill>
        <p:spPr>
          <a:xfrm rot="20536200">
            <a:off x="390600" y="1915920"/>
            <a:ext cx="3838680" cy="21603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0" descr="11160001(ed)"/>
          <p:cNvPicPr/>
          <p:nvPr/>
        </p:nvPicPr>
        <p:blipFill>
          <a:blip r:embed="rId2"/>
          <a:stretch/>
        </p:blipFill>
        <p:spPr>
          <a:xfrm>
            <a:off x="5076720" y="3933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IMG_2350"/>
          <p:cNvPicPr/>
          <p:nvPr/>
        </p:nvPicPr>
        <p:blipFill>
          <a:blip r:embed="rId3"/>
          <a:stretch/>
        </p:blipFill>
        <p:spPr>
          <a:xfrm rot="1404000">
            <a:off x="4858920" y="1773360"/>
            <a:ext cx="3278160" cy="20415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2" descr="IMG_2244"/>
          <p:cNvPicPr/>
          <p:nvPr/>
        </p:nvPicPr>
        <p:blipFill>
          <a:blip r:embed="rId4"/>
          <a:stretch/>
        </p:blipFill>
        <p:spPr>
          <a:xfrm>
            <a:off x="1403280" y="4149720"/>
            <a:ext cx="3281400" cy="218772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14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18" descr="эмблема"/>
          <p:cNvPicPr/>
          <p:nvPr/>
        </p:nvPicPr>
        <p:blipFill>
          <a:blip r:embed="rId5"/>
          <a:stretch/>
        </p:blipFill>
        <p:spPr>
          <a:xfrm>
            <a:off x="468360" y="189000"/>
            <a:ext cx="1187280" cy="122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5FF6-DA09-40B2-8638-C00846118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нтактная 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лефон/факс (883362) 4-28-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gmz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mslob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айт).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494172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F9CF-B2E9-491A-B240-E1DF1C9428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Group 4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687" name="Freeform 5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6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WordArt 7"/>
          <p:cNvSpPr txBox="1"/>
          <p:nvPr/>
        </p:nvSpPr>
        <p:spPr>
          <a:xfrm>
            <a:off x="1979640" y="2349360"/>
            <a:ext cx="67676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6600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Tahoma"/>
              </a:rPr>
              <a:t>Спасибо за внимание!</a:t>
            </a:r>
            <a:endParaRPr b="1" lang="en-US" sz="1800" spc="1" strike="noStrike">
              <a:ln w="324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cc0000"/>
                  </a:gs>
                  <a:gs pos="100000">
                    <a:srgbClr val="ff6600"/>
                  </a:gs>
                </a:gsLst>
                <a:lin ang="27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Tahoma"/>
              <a:ea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1743-DD02-4815-A811-F8A7446ECD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Diagram 6"/>
          <p:cNvGrpSpPr/>
          <p:nvPr/>
        </p:nvGrpSpPr>
        <p:grpSpPr>
          <a:xfrm>
            <a:off x="1798560" y="385920"/>
            <a:ext cx="5475240" cy="5410080"/>
            <a:chOff x="1798560" y="385920"/>
            <a:chExt cx="5475240" cy="5410080"/>
          </a:xfrm>
        </p:grpSpPr>
        <p:sp>
          <p:nvSpPr>
            <p:cNvPr id="102" name="_s1028"/>
            <p:cNvSpPr/>
            <p:nvPr/>
          </p:nvSpPr>
          <p:spPr>
            <a:xfrm flipH="1" flipV="1">
              <a:off x="3557520" y="1989000"/>
              <a:ext cx="57960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29"/>
            <p:cNvSpPr/>
            <p:nvPr/>
          </p:nvSpPr>
          <p:spPr>
            <a:xfrm>
              <a:off x="2532240" y="88740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разовате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учрежд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0"/>
            <p:cNvSpPr/>
            <p:nvPr/>
          </p:nvSpPr>
          <p:spPr>
            <a:xfrm flipH="1" flipV="1">
              <a:off x="3036960" y="2890800"/>
              <a:ext cx="885600" cy="15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1"/>
            <p:cNvSpPr/>
            <p:nvPr/>
          </p:nvSpPr>
          <p:spPr>
            <a:xfrm>
              <a:off x="1798560" y="215892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узейн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мплек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 flipH="1">
              <a:off x="3218040" y="3465360"/>
              <a:ext cx="777600" cy="45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2054160" y="3603600"/>
              <a:ext cx="1249560" cy="1249560"/>
            </a:xfrm>
            <a:prstGeom prst="ellipse">
              <a:avLst/>
            </a:prstGeom>
            <a:solidFill>
              <a:srgbClr val="eaeab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Автовокз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 flipH="1">
              <a:off x="4016160" y="3740040"/>
              <a:ext cx="306360" cy="84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5"/>
            <p:cNvSpPr/>
            <p:nvPr/>
          </p:nvSpPr>
          <p:spPr>
            <a:xfrm>
              <a:off x="3178080" y="454644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ЮС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6"/>
            <p:cNvSpPr/>
            <p:nvPr/>
          </p:nvSpPr>
          <p:spPr>
            <a:xfrm>
              <a:off x="4749840" y="3740040"/>
              <a:ext cx="307800" cy="84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7"/>
            <p:cNvSpPr/>
            <p:nvPr/>
          </p:nvSpPr>
          <p:spPr>
            <a:xfrm>
              <a:off x="4646520" y="4546440"/>
              <a:ext cx="1249560" cy="124956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Дом дет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ворчест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8"/>
            <p:cNvSpPr/>
            <p:nvPr/>
          </p:nvSpPr>
          <p:spPr>
            <a:xfrm>
              <a:off x="5076720" y="3465360"/>
              <a:ext cx="777960" cy="44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9"/>
            <p:cNvSpPr/>
            <p:nvPr/>
          </p:nvSpPr>
          <p:spPr>
            <a:xfrm>
              <a:off x="5770440" y="3602160"/>
              <a:ext cx="124956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скусст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40"/>
            <p:cNvSpPr/>
            <p:nvPr/>
          </p:nvSpPr>
          <p:spPr>
            <a:xfrm flipV="1">
              <a:off x="5149800" y="2889360"/>
              <a:ext cx="88416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041"/>
            <p:cNvSpPr/>
            <p:nvPr/>
          </p:nvSpPr>
          <p:spPr>
            <a:xfrm>
              <a:off x="6024600" y="215748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Художествен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42"/>
            <p:cNvSpPr/>
            <p:nvPr/>
          </p:nvSpPr>
          <p:spPr>
            <a:xfrm flipV="1">
              <a:off x="4935600" y="1989000"/>
              <a:ext cx="57780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43"/>
            <p:cNvSpPr/>
            <p:nvPr/>
          </p:nvSpPr>
          <p:spPr>
            <a:xfrm>
              <a:off x="5291280" y="88740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дминистрац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оро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лобод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44"/>
            <p:cNvSpPr/>
            <p:nvPr/>
          </p:nvSpPr>
          <p:spPr>
            <a:xfrm flipV="1">
              <a:off x="4535640" y="1633680"/>
              <a:ext cx="0" cy="89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045"/>
            <p:cNvSpPr/>
            <p:nvPr/>
          </p:nvSpPr>
          <p:spPr>
            <a:xfrm>
              <a:off x="3911760" y="385920"/>
              <a:ext cx="1249200" cy="1249200"/>
            </a:xfrm>
            <a:prstGeom prst="ellipse">
              <a:avLst/>
            </a:prstGeom>
            <a:solidFill>
              <a:srgbClr val="e3e6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ЦГ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46"/>
            <p:cNvSpPr/>
            <p:nvPr/>
          </p:nvSpPr>
          <p:spPr>
            <a:xfrm>
              <a:off x="3911760" y="2532240"/>
              <a:ext cx="1249200" cy="124920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имназ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7B1D-0942-4146-9A4F-44336574CD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123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а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лат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ректор МОУ гимназ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. Слободского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god2-2101"/>
          <p:cNvPicPr/>
          <p:nvPr/>
        </p:nvPicPr>
        <p:blipFill>
          <a:blip r:embed="rId1"/>
          <a:stretch/>
        </p:blipFill>
        <p:spPr>
          <a:xfrm>
            <a:off x="6516720" y="333360"/>
            <a:ext cx="2087640" cy="1727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эмблема"/>
          <p:cNvPicPr/>
          <p:nvPr/>
        </p:nvPicPr>
        <p:blipFill>
          <a:blip r:embed="rId2"/>
          <a:stretch/>
        </p:blipFill>
        <p:spPr>
          <a:xfrm>
            <a:off x="6588000" y="4508640"/>
            <a:ext cx="2092320" cy="2092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PICT1744(5)"/>
          <p:cNvPicPr/>
          <p:nvPr/>
        </p:nvPicPr>
        <p:blipFill>
          <a:blip r:embed="rId3"/>
          <a:stretch/>
        </p:blipFill>
        <p:spPr>
          <a:xfrm>
            <a:off x="826920" y="1700280"/>
            <a:ext cx="271332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3C27-FB3A-452F-A180-42AD49AC80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ставные задачи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ение выполнения социального заказа на образование на принципах общедоступности, гражданственности, свободного развития личности, предоставление обучающимся на выбор общеобразовательных программ углубленного изучения ряда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оздание условий для развития индивидуальных способностей каждого обучающего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оздание условий для самоопределения и саморазвития обучающихся в ходе образовательного процесса, создание основы для осознанного выбора и последующего освоения профессиональных образовательных пр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Формирование навыков самостоятельной учебной деятельности на основе дифференциации обучения, овладения обучающимися знаниями на повышенном уро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Формирование гуманитарного типа мышления обучающихся, навыков творческой и исследовательской деятельности, потребность к саморазвитию и самореа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Формирование у обучающихся навыков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67DF-547E-4139-BE96-211364E02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134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началь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начального общего 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ый срок освоения – 4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начального общего образования, обеспечивающая дополнительную (углублённую) подготовку обучающихся по предмету иностранный язы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английский, немецкий (2-4 класс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ативный срок освоения – 3 года.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эмблема"/>
          <p:cNvPicPr/>
          <p:nvPr/>
        </p:nvPicPr>
        <p:blipFill>
          <a:blip r:embed="rId1"/>
          <a:stretch/>
        </p:blipFill>
        <p:spPr>
          <a:xfrm>
            <a:off x="7308720" y="5300640"/>
            <a:ext cx="151632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617B-BCAF-4BEF-82DF-B19DE9B1AA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ая школа (1-4 клас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подавание в начальной школе гимназии осуществляется по развивающей сист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.В. За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SDC10818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эмблема"/>
          <p:cNvPicPr/>
          <p:nvPr/>
        </p:nvPicPr>
        <p:blipFill>
          <a:blip r:embed="rId2"/>
          <a:stretch/>
        </p:blipFill>
        <p:spPr>
          <a:xfrm>
            <a:off x="7308720" y="5229360"/>
            <a:ext cx="1516320" cy="122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F59A-B9B7-4CD8-9666-EACDAA7450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основ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тивный срок освоения – 5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основного общего образования, обеспечивающая дополнительную (углублённую) подготовку обучающихся по предмета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остранный язык: английский, немецкий (5-9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усский язык (5-9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тература (5-9 кла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эмблема"/>
          <p:cNvPicPr/>
          <p:nvPr/>
        </p:nvPicPr>
        <p:blipFill>
          <a:blip r:embed="rId1"/>
          <a:stretch/>
        </p:blipFill>
        <p:spPr>
          <a:xfrm>
            <a:off x="7164360" y="508464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61F9-2632-43A4-9D56-CFC39CD55C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образовательные программы среднего (полного)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среднего (полного) общего образования.  Нормативный срок освоения – 2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общеобразовательная программа среднего (полного) общего образования, обеспечивающая дополнительную (углублённую) подготовку обучающихся по предметам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остранный язык: английский, немецкий (10-11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усский язык (10-11 класс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тература (10-11 класс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эмблема"/>
          <p:cNvPicPr/>
          <p:nvPr/>
        </p:nvPicPr>
        <p:blipFill>
          <a:blip r:embed="rId1"/>
          <a:stretch/>
        </p:blipFill>
        <p:spPr>
          <a:xfrm>
            <a:off x="7164360" y="508464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24B9-4417-4541-808A-048DF4C3BF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лублённое изучение предметов в 2009-2010 учебном г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Diagram 7"/>
          <p:cNvGrpSpPr/>
          <p:nvPr/>
        </p:nvGrpSpPr>
        <p:grpSpPr>
          <a:xfrm>
            <a:off x="2354400" y="1916280"/>
            <a:ext cx="6181560" cy="3868920"/>
            <a:chOff x="2354400" y="1916280"/>
            <a:chExt cx="6181560" cy="3868920"/>
          </a:xfrm>
        </p:grpSpPr>
        <p:sp>
          <p:nvSpPr>
            <p:cNvPr id="155" name="_s2052"/>
            <p:cNvSpPr/>
            <p:nvPr/>
          </p:nvSpPr>
          <p:spPr>
            <a:xfrm flipV="1">
              <a:off x="4017960" y="1943280"/>
              <a:ext cx="1108080" cy="960480"/>
            </a:xfrm>
            <a:custGeom>
              <a:avLst/>
              <a:gdLst>
                <a:gd name="textAreaLeft" fmla="*/ 397440 w 1108080"/>
                <a:gd name="textAreaRight" fmla="*/ 710640 w 1108080"/>
                <a:gd name="textAreaTop" fmla="*/ 344520 h 960480"/>
                <a:gd name="textAreaBottom" fmla="*/ 61596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2053"/>
            <p:cNvSpPr/>
            <p:nvPr/>
          </p:nvSpPr>
          <p:spPr>
            <a:xfrm flipV="1">
              <a:off x="3463920" y="2903760"/>
              <a:ext cx="2216160" cy="960480"/>
            </a:xfrm>
            <a:custGeom>
              <a:avLst/>
              <a:gdLst>
                <a:gd name="textAreaLeft" fmla="*/ 487080 w 2216160"/>
                <a:gd name="textAreaRight" fmla="*/ 1729080 w 2216160"/>
                <a:gd name="textAreaTop" fmla="*/ 210960 h 960480"/>
                <a:gd name="textAreaBottom" fmla="*/ 7495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итератур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 чел. (8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2054"/>
            <p:cNvSpPr/>
            <p:nvPr/>
          </p:nvSpPr>
          <p:spPr>
            <a:xfrm flipV="1">
              <a:off x="2908440" y="3864240"/>
              <a:ext cx="3327120" cy="960480"/>
            </a:xfrm>
            <a:custGeom>
              <a:avLst/>
              <a:gdLst>
                <a:gd name="textAreaLeft" fmla="*/ 577440 w 3327120"/>
                <a:gd name="textAreaRight" fmla="*/ 2749680 w 3327120"/>
                <a:gd name="textAreaTop" fmla="*/ 166680 h 960480"/>
                <a:gd name="textAreaBottom" fmla="*/ 79380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усски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1 чел. (13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2055"/>
            <p:cNvSpPr/>
            <p:nvPr/>
          </p:nvSpPr>
          <p:spPr>
            <a:xfrm flipV="1">
              <a:off x="2354400" y="4824720"/>
              <a:ext cx="4435200" cy="960480"/>
            </a:xfrm>
            <a:custGeom>
              <a:avLst/>
              <a:gdLst>
                <a:gd name="textAreaLeft" fmla="*/ 667080 w 4435200"/>
                <a:gd name="textAreaRight" fmla="*/ 3768120 w 4435200"/>
                <a:gd name="textAreaTop" fmla="*/ 144360 h 960480"/>
                <a:gd name="textAreaBottom" fmla="*/ 816120 h 96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остранный язы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27 чел. (61 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Picture 20" descr=""/>
            <p:cNvPicPr/>
            <p:nvPr/>
          </p:nvPicPr>
          <p:blipFill>
            <a:blip r:embed="rId1"/>
            <a:stretch/>
          </p:blipFill>
          <p:spPr>
            <a:xfrm>
              <a:off x="7020000" y="1916280"/>
              <a:ext cx="1515960" cy="1227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3DEA-FDB4-41C2-9F4B-89CE975E3B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бличный доклад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 обеспечения информационной открытости гимназии для участников образовательного процесса, населения города, учредителя (администр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а Слободског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эмблема"/>
          <p:cNvPicPr/>
          <p:nvPr/>
        </p:nvPicPr>
        <p:blipFill>
          <a:blip r:embed="rId1"/>
          <a:stretch/>
        </p:blipFill>
        <p:spPr>
          <a:xfrm>
            <a:off x="6732720" y="4869000"/>
            <a:ext cx="180468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FF1B-7B5E-4FA8-96F5-6CD110DB15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483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ности програм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тественнонау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-педагог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культурно-спор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уристско-краевед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енно-патрио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удожественно-эсте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j0301252"/>
          <p:cNvPicPr/>
          <p:nvPr/>
        </p:nvPicPr>
        <p:blipFill>
          <a:blip r:embed="rId1"/>
          <a:stretch/>
        </p:blipFill>
        <p:spPr>
          <a:xfrm>
            <a:off x="5867280" y="2952720"/>
            <a:ext cx="2808360" cy="24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A6D7-C43D-41CD-B6C0-4079C37DE3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ожественно-эстетическая направлен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оформительского дела для обучающихся 1-4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ройка и шитье для обучающихся 5-7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Художественная обработка материалов для обучающихся 5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Учимся играть в театр для обучающихся 5-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j0216516"/>
          <p:cNvPicPr/>
          <p:nvPr/>
        </p:nvPicPr>
        <p:blipFill>
          <a:blip r:embed="rId1"/>
          <a:stretch/>
        </p:blipFill>
        <p:spPr>
          <a:xfrm>
            <a:off x="971640" y="2205000"/>
            <a:ext cx="229392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7CDC-B01A-4B0D-B2CC-4BEE9A2B29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 направленн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ир мультимедиа технологий для обучающихся 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информатики для обучающихся 5-6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Информатика в играх и задачах для обучающихся 1 - 4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Основы инженерной графики для обучающихся 8-11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Юный радиолюбитель для обучающихся 6-7 класс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j0195384"/>
          <p:cNvPicPr/>
          <p:nvPr/>
        </p:nvPicPr>
        <p:blipFill>
          <a:blip r:embed="rId1"/>
          <a:stretch/>
        </p:blipFill>
        <p:spPr>
          <a:xfrm>
            <a:off x="611280" y="2060640"/>
            <a:ext cx="273528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148F-6003-4933-B5BD-EDECA7B628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полнительная  образовательная услу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даптация детей дошкольного возраста к условиям школьной жизни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Школа развит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j0216724"/>
          <p:cNvPicPr/>
          <p:nvPr/>
        </p:nvPicPr>
        <p:blipFill>
          <a:blip r:embed="rId1"/>
          <a:stretch/>
        </p:blipFill>
        <p:spPr>
          <a:xfrm>
            <a:off x="1116000" y="2060640"/>
            <a:ext cx="282888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71C8-2D68-42F6-8774-C9A15E1645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Organization Chart 6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178" name="_s3076"/>
            <p:cNvCxnSpPr>
              <a:stCxn id="179" idx="0"/>
              <a:endCxn id="180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3077"/>
            <p:cNvCxnSpPr>
              <a:stCxn id="182" idx="0"/>
              <a:endCxn id="180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3078"/>
            <p:cNvCxnSpPr>
              <a:stCxn id="184" idx="0"/>
              <a:endCxn id="180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3079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оциально-психол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служб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имназ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080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оци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3081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сихоло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3082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едагог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рганизат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D890-92A6-4D17-93DE-7E6E499FE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тингент обучающихся в 2009-2010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36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23 класса-комплек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33 мальчика       303 дев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43,5%)                 (56,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55"/>
          <p:cNvSpPr/>
          <p:nvPr/>
        </p:nvSpPr>
        <p:spPr>
          <a:xfrm flipH="1">
            <a:off x="2771280" y="3789360"/>
            <a:ext cx="863640" cy="8636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6"/>
          <p:cNvSpPr/>
          <p:nvPr/>
        </p:nvSpPr>
        <p:spPr>
          <a:xfrm>
            <a:off x="5867280" y="3860640"/>
            <a:ext cx="792360" cy="71928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445F-243F-4290-A85C-DF2958823A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Organization Chart 6"/>
          <p:cNvGrpSpPr/>
          <p:nvPr/>
        </p:nvGrpSpPr>
        <p:grpSpPr>
          <a:xfrm>
            <a:off x="431640" y="239760"/>
            <a:ext cx="8208000" cy="5831640"/>
            <a:chOff x="431640" y="239760"/>
            <a:chExt cx="8208000" cy="5831640"/>
          </a:xfrm>
        </p:grpSpPr>
        <p:cxnSp>
          <p:nvCxnSpPr>
            <p:cNvPr id="192" name="_s4100"/>
            <p:cNvCxnSpPr>
              <a:stCxn id="193" idx="0"/>
              <a:endCxn id="194" idx="2"/>
            </p:cNvCxnSpPr>
            <p:nvPr/>
          </p:nvCxnSpPr>
          <p:spPr>
            <a:xfrm flipV="1">
              <a:off x="6176880" y="1954440"/>
              <a:ext cx="6840" cy="34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4101"/>
            <p:cNvCxnSpPr>
              <a:stCxn id="196" idx="1"/>
              <a:endCxn id="197" idx="2"/>
            </p:cNvCxnSpPr>
            <p:nvPr/>
          </p:nvCxnSpPr>
          <p:spPr>
            <a:xfrm rot="10800000">
              <a:off x="2893320" y="924840"/>
              <a:ext cx="821520" cy="480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8" name="_s4102"/>
            <p:cNvCxnSpPr>
              <a:stCxn id="199" idx="1"/>
              <a:endCxn id="197" idx="2"/>
            </p:cNvCxnSpPr>
            <p:nvPr/>
          </p:nvCxnSpPr>
          <p:spPr>
            <a:xfrm rot="10800000">
              <a:off x="2893320" y="924840"/>
              <a:ext cx="821520" cy="3774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4103"/>
            <p:cNvCxnSpPr>
              <a:stCxn id="201" idx="1"/>
              <a:endCxn id="197" idx="2"/>
            </p:cNvCxnSpPr>
            <p:nvPr/>
          </p:nvCxnSpPr>
          <p:spPr>
            <a:xfrm rot="10800000">
              <a:off x="2893320" y="924840"/>
              <a:ext cx="821520" cy="2745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4104"/>
            <p:cNvCxnSpPr>
              <a:stCxn id="194" idx="1"/>
              <a:endCxn id="197" idx="2"/>
            </p:cNvCxnSpPr>
            <p:nvPr/>
          </p:nvCxnSpPr>
          <p:spPr>
            <a:xfrm rot="10800000">
              <a:off x="2893320" y="924840"/>
              <a:ext cx="82152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4105"/>
            <p:cNvSpPr/>
            <p:nvPr/>
          </p:nvSpPr>
          <p:spPr>
            <a:xfrm>
              <a:off x="431640" y="23976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Обучающиеся гимназии из населённы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пунктов Слободского район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4106"/>
            <p:cNvSpPr/>
            <p:nvPr/>
          </p:nvSpPr>
          <p:spPr>
            <a:xfrm>
              <a:off x="3714840" y="126864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пгт Вахруш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4107"/>
            <p:cNvSpPr/>
            <p:nvPr/>
          </p:nvSpPr>
          <p:spPr>
            <a:xfrm>
              <a:off x="3714840" y="332712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. Центральны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4108"/>
            <p:cNvSpPr/>
            <p:nvPr/>
          </p:nvSpPr>
          <p:spPr>
            <a:xfrm>
              <a:off x="3714840" y="435636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. Ильинск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4109"/>
            <p:cNvSpPr/>
            <p:nvPr/>
          </p:nvSpPr>
          <p:spPr>
            <a:xfrm>
              <a:off x="3714840" y="538560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. Салты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4110"/>
            <p:cNvSpPr/>
            <p:nvPr/>
          </p:nvSpPr>
          <p:spPr>
            <a:xfrm>
              <a:off x="3714840" y="2297880"/>
              <a:ext cx="4924800" cy="685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с. Кари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34D7-1B08-485E-973F-8122F07D62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жим работы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-дневная учебная нед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 (первая) сме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нятия с 8-00, в начальной школе с 8-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1 классе группа продлённого 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течение учебного года 30 дней каникуляр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– 4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мены по 10 минут, для приёма пищи – 2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D420-D0BA-4B01-9B56-29CBE469DF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уф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8" descr="SDC10846 - копия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SDC10844"/>
          <p:cNvPicPr/>
          <p:nvPr/>
        </p:nvPicPr>
        <p:blipFill>
          <a:blip r:embed="rId2"/>
          <a:stretch/>
        </p:blipFill>
        <p:spPr>
          <a:xfrm>
            <a:off x="5205240" y="162864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SDC10842"/>
          <p:cNvPicPr/>
          <p:nvPr/>
        </p:nvPicPr>
        <p:blipFill>
          <a:blip r:embed="rId3"/>
          <a:stretch/>
        </p:blipFill>
        <p:spPr>
          <a:xfrm>
            <a:off x="1042920" y="3933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SDC1084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FA33-DFED-4724-A51D-AA25A7709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дицинский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SDC1086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DC10863"/>
          <p:cNvPicPr/>
          <p:nvPr/>
        </p:nvPicPr>
        <p:blipFill>
          <a:blip r:embed="rId2"/>
          <a:stretch/>
        </p:blipFill>
        <p:spPr>
          <a:xfrm>
            <a:off x="1655640" y="39387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SDC10861"/>
          <p:cNvPicPr/>
          <p:nvPr/>
        </p:nvPicPr>
        <p:blipFill>
          <a:blip r:embed="rId3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FA8F-A7C7-47DE-9146-8D7BCCABAE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55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 txBox="1"/>
          <p:nvPr/>
        </p:nvSpPr>
        <p:spPr>
          <a:xfrm>
            <a:off x="610920" y="0"/>
            <a:ext cx="72723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я г. Слобо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здана 21 ма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99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эмблема"/>
          <p:cNvPicPr/>
          <p:nvPr/>
        </p:nvPicPr>
        <p:blipFill>
          <a:blip r:embed="rId2"/>
          <a:stretch/>
        </p:blipFill>
        <p:spPr>
          <a:xfrm>
            <a:off x="6227640" y="4406760"/>
            <a:ext cx="2524320" cy="2451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МОУ Гимназия г"/>
          <p:cNvPicPr/>
          <p:nvPr/>
        </p:nvPicPr>
        <p:blipFill>
          <a:blip r:embed="rId3"/>
          <a:stretch/>
        </p:blipFill>
        <p:spPr>
          <a:xfrm>
            <a:off x="250920" y="1413000"/>
            <a:ext cx="619272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3691-D0C6-469D-BE53-3AB885E604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ебные каби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DC1088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SDC10898"/>
          <p:cNvPicPr/>
          <p:nvPr/>
        </p:nvPicPr>
        <p:blipFill>
          <a:blip r:embed="rId2"/>
          <a:stretch/>
        </p:blipFill>
        <p:spPr>
          <a:xfrm>
            <a:off x="5219640" y="162864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SDC10910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SDC10909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2C44-1313-4891-AE7E-A4C2EB9994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чальные кл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SDC10803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SDC107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SDC10789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SDC10791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1FEE-1731-4C27-86D0-65614E68AC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SDC10885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0" descr="SDC10890"/>
          <p:cNvPicPr/>
          <p:nvPr/>
        </p:nvPicPr>
        <p:blipFill>
          <a:blip r:embed="rId2"/>
          <a:stretch/>
        </p:blipFill>
        <p:spPr>
          <a:xfrm>
            <a:off x="1655640" y="3938760"/>
            <a:ext cx="1641600" cy="2187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SDC10903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SDC10875"/>
          <p:cNvPicPr/>
          <p:nvPr/>
        </p:nvPicPr>
        <p:blipFill>
          <a:blip r:embed="rId4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ED60-5C9D-42B9-86C9-7839DAC60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блиот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SDC1086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SDC10870"/>
          <p:cNvPicPr/>
          <p:nvPr/>
        </p:nvPicPr>
        <p:blipFill>
          <a:blip r:embed="rId2"/>
          <a:stretch/>
        </p:blipFill>
        <p:spPr>
          <a:xfrm>
            <a:off x="5846760" y="16002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SDC10866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SDC10874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52F1-1DDE-4BBB-8D35-8FBCCE33AE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образ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5"/>
          <p:cNvGraphicFramePr/>
          <p:nvPr/>
        </p:nvGraphicFramePr>
        <p:xfrm>
          <a:off x="1619280" y="184464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4464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CD3A-DF7E-4DD7-9742-BD927BE198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нятость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468360" y="1773360"/>
          <a:ext cx="867564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67564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2577-A335-4D4B-AE0D-2BCC216D1E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руктура семей обучающихс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нятость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и – 107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льцы собственного бизнеса – 107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ники социальной сферы – 187 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е – 263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нсионеры – 15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работные – 3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A9CE-6EB7-4313-BE09-428925DA9B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руктура управл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Organization Chart 5"/>
          <p:cNvGrpSpPr/>
          <p:nvPr/>
        </p:nvGrpSpPr>
        <p:grpSpPr>
          <a:xfrm>
            <a:off x="457200" y="1600200"/>
            <a:ext cx="8229240" cy="4524480"/>
            <a:chOff x="457200" y="1600200"/>
            <a:chExt cx="8229240" cy="4524480"/>
          </a:xfrm>
        </p:grpSpPr>
        <p:cxnSp>
          <p:nvCxnSpPr>
            <p:cNvPr id="255" name="_s7172"/>
            <p:cNvCxnSpPr>
              <a:stCxn id="256" idx="0"/>
              <a:endCxn id="257" idx="2"/>
            </p:cNvCxnSpPr>
            <p:nvPr/>
          </p:nvCxnSpPr>
          <p:spPr>
            <a:xfrm flipV="1" rot="16200000">
              <a:off x="5813280" y="2167920"/>
              <a:ext cx="905400" cy="33879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7173"/>
            <p:cNvCxnSpPr>
              <a:stCxn id="259" idx="0"/>
              <a:endCxn id="257" idx="2"/>
            </p:cNvCxnSpPr>
            <p:nvPr/>
          </p:nvCxnSpPr>
          <p:spPr>
            <a:xfrm flipV="1" rot="16200000">
              <a:off x="4967640" y="3013560"/>
              <a:ext cx="905400" cy="169668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_s7174"/>
            <p:cNvCxnSpPr>
              <a:stCxn id="261" idx="0"/>
              <a:endCxn id="257" idx="2"/>
            </p:cNvCxnSpPr>
            <p:nvPr/>
          </p:nvCxnSpPr>
          <p:spPr>
            <a:xfrm flipV="1" rot="16200000">
              <a:off x="4120560" y="3860640"/>
              <a:ext cx="905400" cy="216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_s7175"/>
            <p:cNvCxnSpPr>
              <a:stCxn id="263" idx="0"/>
              <a:endCxn id="257" idx="2"/>
            </p:cNvCxnSpPr>
            <p:nvPr/>
          </p:nvCxnSpPr>
          <p:spPr>
            <a:xfrm flipH="1" flipV="1" rot="5400000">
              <a:off x="3273480" y="3015000"/>
              <a:ext cx="905400" cy="169380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4" name="_s7176"/>
            <p:cNvCxnSpPr>
              <a:stCxn id="265" idx="0"/>
              <a:endCxn id="257" idx="2"/>
            </p:cNvCxnSpPr>
            <p:nvPr/>
          </p:nvCxnSpPr>
          <p:spPr>
            <a:xfrm flipH="1" flipV="1" rot="5400000">
              <a:off x="2425320" y="2166840"/>
              <a:ext cx="905400" cy="3390120"/>
            </a:xfrm>
            <a:prstGeom prst="bentConnector3">
              <a:avLst>
                <a:gd name="adj1" fmla="val 126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7" name="_s7177"/>
            <p:cNvSpPr/>
            <p:nvPr/>
          </p:nvSpPr>
          <p:spPr>
            <a:xfrm>
              <a:off x="3844440" y="160020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Директо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7178"/>
            <p:cNvSpPr/>
            <p:nvPr/>
          </p:nvSpPr>
          <p:spPr>
            <a:xfrm>
              <a:off x="45720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щегимнази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онферен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7179"/>
            <p:cNvSpPr/>
            <p:nvPr/>
          </p:nvSpPr>
          <p:spPr>
            <a:xfrm>
              <a:off x="215172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печительск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7180"/>
            <p:cNvSpPr/>
            <p:nvPr/>
          </p:nvSpPr>
          <p:spPr>
            <a:xfrm>
              <a:off x="384660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бр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рудов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ллекти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7181"/>
            <p:cNvSpPr/>
            <p:nvPr/>
          </p:nvSpPr>
          <p:spPr>
            <a:xfrm>
              <a:off x="5541120" y="4314960"/>
              <a:ext cx="1452600" cy="1809720"/>
            </a:xfrm>
            <a:custGeom>
              <a:avLst/>
              <a:gdLst>
                <a:gd name="textAreaLeft" fmla="*/ 70920 w 1452600"/>
                <a:gd name="textAreaRight" fmla="*/ 1381680 w 1452600"/>
                <a:gd name="textAreaTop" fmla="*/ 70920 h 1809720"/>
                <a:gd name="textAreaBottom" fmla="*/ 1738800 h 1809720"/>
              </a:gdLst>
              <a:ahLst/>
              <a:rect l="textAreaLeft" t="textAreaTop" r="textAreaRight" b="textAreaBottom"/>
              <a:pathLst>
                <a:path w="21600" h="26909">
                  <a:moveTo>
                    <a:pt x="3600" y="0"/>
                  </a:moveTo>
                  <a:arcTo wR="3600" hR="3600" stAng="16200000" swAng="-5400000"/>
                  <a:lnTo>
                    <a:pt x="0" y="23309"/>
                  </a:lnTo>
                  <a:arcTo wR="3600" hR="3600" stAng="10800000" swAng="-5400000"/>
                  <a:lnTo>
                    <a:pt x="18000" y="26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едагогическ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7182"/>
            <p:cNvSpPr/>
            <p:nvPr/>
          </p:nvSpPr>
          <p:spPr>
            <a:xfrm>
              <a:off x="7236000" y="4314960"/>
              <a:ext cx="1450440" cy="1809720"/>
            </a:xfrm>
            <a:custGeom>
              <a:avLst/>
              <a:gdLst>
                <a:gd name="textAreaLeft" fmla="*/ 70560 w 1450440"/>
                <a:gd name="textAreaRight" fmla="*/ 1379880 w 1450440"/>
                <a:gd name="textAreaTop" fmla="*/ 70560 h 1809720"/>
                <a:gd name="textAreaBottom" fmla="*/ 1739160 h 1809720"/>
              </a:gdLst>
              <a:ahLst/>
              <a:rect l="textAreaLeft" t="textAreaTop" r="textAreaRight" b="textAreaBottom"/>
              <a:pathLst>
                <a:path w="21600" h="26949">
                  <a:moveTo>
                    <a:pt x="3600" y="0"/>
                  </a:moveTo>
                  <a:arcTo wR="3600" hR="3600" stAng="16200000" swAng="-5400000"/>
                  <a:lnTo>
                    <a:pt x="0" y="23349"/>
                  </a:lnTo>
                  <a:arcTo wR="3600" hR="3600" stAng="10800000" swAng="-5400000"/>
                  <a:lnTo>
                    <a:pt x="18000" y="26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уч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етод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о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3E5E-AE16-4500-A1F4-459B4BA50E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печительский со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едатель со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хаил Иван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учих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9" descr="SDC1001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SDC10015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FDA2-F7C6-4498-94DF-1811CA5368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73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педагогических советов в 2009-2010 учебном г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едагогическое мастерство как средство управления качеством образования гимназиста на основе компетентностно-ориентированного подх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god2-2101"/>
          <p:cNvPicPr/>
          <p:nvPr/>
        </p:nvPicPr>
        <p:blipFill>
          <a:blip r:embed="rId1"/>
          <a:stretch/>
        </p:blipFill>
        <p:spPr>
          <a:xfrm>
            <a:off x="7667640" y="9079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9" descr="SDC10570"/>
          <p:cNvPicPr/>
          <p:nvPr/>
        </p:nvPicPr>
        <p:blipFill>
          <a:blip r:embed="rId3"/>
          <a:stretch/>
        </p:blipFill>
        <p:spPr>
          <a:xfrm>
            <a:off x="4572000" y="2133720"/>
            <a:ext cx="403848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7537-E1FC-483F-9AFD-FED25D91F5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63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 txBox="1"/>
          <p:nvPr/>
        </p:nvSpPr>
        <p:spPr>
          <a:xfrm>
            <a:off x="468360" y="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У гимназии г. Слобод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ят педагогическим со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мназии 27 января 2010 г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токол № 1, утверждена распоряжением администрации города Слободского от 26 февра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 №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эмблема"/>
          <p:cNvPicPr/>
          <p:nvPr/>
        </p:nvPicPr>
        <p:blipFill>
          <a:blip r:embed="rId2"/>
          <a:stretch/>
        </p:blipFill>
        <p:spPr>
          <a:xfrm>
            <a:off x="6372360" y="4406760"/>
            <a:ext cx="2307960" cy="2046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god2-2101"/>
          <p:cNvPicPr/>
          <p:nvPr/>
        </p:nvPicPr>
        <p:blipFill>
          <a:blip r:embed="rId3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эмблема"/>
          <p:cNvPicPr/>
          <p:nvPr/>
        </p:nvPicPr>
        <p:blipFill>
          <a:blip r:embed="rId4"/>
          <a:stretch/>
        </p:blipFill>
        <p:spPr>
          <a:xfrm>
            <a:off x="6372360" y="4437000"/>
            <a:ext cx="230796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D3C5-E049-441D-9BF1-2EBF95097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82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тема заседания педагогического совета (апрель 2010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Гуманистическая направленность личности учителя и его готовность к инновациям как компоненты педагогического мастер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SDC10643"/>
          <p:cNvPicPr/>
          <p:nvPr/>
        </p:nvPicPr>
        <p:blipFill>
          <a:blip r:embed="rId3"/>
          <a:stretch/>
        </p:blipFill>
        <p:spPr>
          <a:xfrm>
            <a:off x="4643280" y="2205000"/>
            <a:ext cx="403884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2790-CB5E-4F81-9064-5DDE2BB5B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291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68120"/>
            <a:ext cx="6419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эмблема"/>
          <p:cNvPicPr/>
          <p:nvPr/>
        </p:nvPicPr>
        <p:blipFill>
          <a:blip r:embed="rId2"/>
          <a:stretch/>
        </p:blipFill>
        <p:spPr>
          <a:xfrm>
            <a:off x="250920" y="404640"/>
            <a:ext cx="1515960" cy="1227240"/>
          </a:xfrm>
          <a:prstGeom prst="rect">
            <a:avLst/>
          </a:prstGeom>
          <a:ln w="0">
            <a:noFill/>
          </a:ln>
        </p:spPr>
      </p:pic>
      <p:grpSp>
        <p:nvGrpSpPr>
          <p:cNvPr id="296" name="Organization Chart 8"/>
          <p:cNvGrpSpPr/>
          <p:nvPr/>
        </p:nvGrpSpPr>
        <p:grpSpPr>
          <a:xfrm>
            <a:off x="442800" y="1614600"/>
            <a:ext cx="8208360" cy="4463640"/>
            <a:chOff x="442800" y="1614600"/>
            <a:chExt cx="8208360" cy="4463640"/>
          </a:xfrm>
        </p:grpSpPr>
        <p:cxnSp>
          <p:nvCxnSpPr>
            <p:cNvPr id="297" name="_s8196"/>
            <p:cNvCxnSpPr>
              <a:stCxn id="298" idx="1"/>
              <a:endCxn id="299" idx="2"/>
            </p:cNvCxnSpPr>
            <p:nvPr/>
          </p:nvCxnSpPr>
          <p:spPr>
            <a:xfrm rot="10800000">
              <a:off x="4546080" y="2251440"/>
              <a:ext cx="586800" cy="350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8197"/>
            <p:cNvCxnSpPr>
              <a:stCxn id="301" idx="3"/>
              <a:endCxn id="299" idx="2"/>
            </p:cNvCxnSpPr>
            <p:nvPr/>
          </p:nvCxnSpPr>
          <p:spPr>
            <a:xfrm flipV="1">
              <a:off x="3960720" y="2251800"/>
              <a:ext cx="586800" cy="350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8198"/>
            <p:cNvCxnSpPr>
              <a:stCxn id="303" idx="1"/>
              <a:endCxn id="299" idx="2"/>
            </p:cNvCxnSpPr>
            <p:nvPr/>
          </p:nvCxnSpPr>
          <p:spPr>
            <a:xfrm rot="10800000">
              <a:off x="4546080" y="2251440"/>
              <a:ext cx="586800" cy="255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4" name="_s8199"/>
            <p:cNvCxnSpPr>
              <a:stCxn id="305" idx="3"/>
              <a:endCxn id="299" idx="2"/>
            </p:cNvCxnSpPr>
            <p:nvPr/>
          </p:nvCxnSpPr>
          <p:spPr>
            <a:xfrm flipV="1">
              <a:off x="3960720" y="2251440"/>
              <a:ext cx="586800" cy="255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6" name="_s8200"/>
            <p:cNvCxnSpPr>
              <a:stCxn id="307" idx="1"/>
              <a:endCxn id="299" idx="2"/>
            </p:cNvCxnSpPr>
            <p:nvPr/>
          </p:nvCxnSpPr>
          <p:spPr>
            <a:xfrm rot="10800000">
              <a:off x="4546080" y="2251440"/>
              <a:ext cx="586800" cy="159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8" name="_s8201"/>
            <p:cNvCxnSpPr>
              <a:stCxn id="309" idx="3"/>
              <a:endCxn id="299" idx="2"/>
            </p:cNvCxnSpPr>
            <p:nvPr/>
          </p:nvCxnSpPr>
          <p:spPr>
            <a:xfrm flipV="1">
              <a:off x="3960720" y="2251800"/>
              <a:ext cx="586800" cy="1594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0" name="_s8202"/>
            <p:cNvCxnSpPr>
              <a:stCxn id="311" idx="1"/>
              <a:endCxn id="299" idx="2"/>
            </p:cNvCxnSpPr>
            <p:nvPr/>
          </p:nvCxnSpPr>
          <p:spPr>
            <a:xfrm rot="10800000">
              <a:off x="4546080" y="2251440"/>
              <a:ext cx="58680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2" name="_s8203"/>
            <p:cNvCxnSpPr>
              <a:stCxn id="313" idx="3"/>
              <a:endCxn id="299" idx="2"/>
            </p:cNvCxnSpPr>
            <p:nvPr/>
          </p:nvCxnSpPr>
          <p:spPr>
            <a:xfrm flipV="1">
              <a:off x="3960720" y="2251440"/>
              <a:ext cx="586800" cy="638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8204"/>
            <p:cNvSpPr/>
            <p:nvPr/>
          </p:nvSpPr>
          <p:spPr>
            <a:xfrm>
              <a:off x="2787840" y="161460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Научно-методический сове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_s8205"/>
            <p:cNvSpPr/>
            <p:nvPr/>
          </p:nvSpPr>
          <p:spPr>
            <a:xfrm>
              <a:off x="442800" y="257112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словес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_s8206"/>
            <p:cNvSpPr/>
            <p:nvPr/>
          </p:nvSpPr>
          <p:spPr>
            <a:xfrm>
              <a:off x="5133240" y="257112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точных нау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_s8207"/>
            <p:cNvSpPr/>
            <p:nvPr/>
          </p:nvSpPr>
          <p:spPr>
            <a:xfrm>
              <a:off x="442800" y="352764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иностранных языко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_s8208"/>
            <p:cNvSpPr/>
            <p:nvPr/>
          </p:nvSpPr>
          <p:spPr>
            <a:xfrm>
              <a:off x="5133240" y="352764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афедра предметов общественн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эстетического цик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_s8209"/>
            <p:cNvSpPr/>
            <p:nvPr/>
          </p:nvSpPr>
          <p:spPr>
            <a:xfrm>
              <a:off x="442800" y="4484160"/>
              <a:ext cx="351792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естественных нау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_s8210"/>
            <p:cNvSpPr/>
            <p:nvPr/>
          </p:nvSpPr>
          <p:spPr>
            <a:xfrm>
              <a:off x="5133240" y="4484160"/>
              <a:ext cx="35139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Кафедра начальных класс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_s8211"/>
            <p:cNvSpPr/>
            <p:nvPr/>
          </p:nvSpPr>
          <p:spPr>
            <a:xfrm>
              <a:off x="447120" y="5440680"/>
              <a:ext cx="351324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афедра воспитания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сихоло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8212"/>
            <p:cNvSpPr/>
            <p:nvPr/>
          </p:nvSpPr>
          <p:spPr>
            <a:xfrm>
              <a:off x="5133240" y="5440680"/>
              <a:ext cx="3513960" cy="637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О учителей физическо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4A7F-D748-4A80-9735-6C826F4115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316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одская инновационная площ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Развитие одарённости гимназиста средствами современного урока в условиях компетентностно-ориентированного образова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научный консультант О.Г. Селиванова, к.п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63076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1" descr="Изображение 010"/>
          <p:cNvPicPr/>
          <p:nvPr/>
        </p:nvPicPr>
        <p:blipFill>
          <a:blip r:embed="rId3"/>
          <a:stretch/>
        </p:blipFill>
        <p:spPr>
          <a:xfrm>
            <a:off x="4648320" y="1989000"/>
            <a:ext cx="417168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E303-A027-4887-A7CE-B393E582AE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25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учно-исследовательская лаборатория гимназ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учебно-исследовательской культуры гимназиста как фактор развития его одарён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P5060040"/>
          <p:cNvPicPr/>
          <p:nvPr/>
        </p:nvPicPr>
        <p:blipFill>
          <a:blip r:embed="rId1"/>
          <a:stretch/>
        </p:blipFill>
        <p:spPr>
          <a:xfrm>
            <a:off x="1042920" y="3933720"/>
            <a:ext cx="4033800" cy="26640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0" descr="god2-2101"/>
          <p:cNvPicPr/>
          <p:nvPr/>
        </p:nvPicPr>
        <p:blipFill>
          <a:blip r:embed="rId2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эмблема"/>
          <p:cNvPicPr/>
          <p:nvPr/>
        </p:nvPicPr>
        <p:blipFill>
          <a:blip r:embed="rId3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P5060003"/>
          <p:cNvPicPr/>
          <p:nvPr/>
        </p:nvPicPr>
        <p:blipFill>
          <a:blip r:embed="rId4"/>
          <a:stretch/>
        </p:blipFill>
        <p:spPr>
          <a:xfrm>
            <a:off x="5003640" y="2060640"/>
            <a:ext cx="3384720" cy="3168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3" descr="эмблема"/>
          <p:cNvPicPr/>
          <p:nvPr/>
        </p:nvPicPr>
        <p:blipFill>
          <a:blip r:embed="rId5"/>
          <a:stretch/>
        </p:blipFill>
        <p:spPr>
          <a:xfrm>
            <a:off x="7308720" y="5373720"/>
            <a:ext cx="151632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2FA4-43D0-4D76-BD63-6D26CE3496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ическая тема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Развитие одарённости гимназиста средствами современного учебного занятия в условия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етентностно-ориентирован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х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эмблема"/>
          <p:cNvPicPr/>
          <p:nvPr/>
        </p:nvPicPr>
        <p:blipFill>
          <a:blip r:embed="rId1"/>
          <a:stretch/>
        </p:blipFill>
        <p:spPr>
          <a:xfrm>
            <a:off x="7020000" y="4941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3E29-92E1-478B-8F31-0987758096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42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 txBox="1"/>
          <p:nvPr/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й менеджмент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о, функц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струмент для производства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ганизацией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god2-2101"/>
          <p:cNvPicPr/>
          <p:nvPr/>
        </p:nvPicPr>
        <p:blipFill>
          <a:blip r:embed="rId1"/>
          <a:stretch/>
        </p:blipFill>
        <p:spPr>
          <a:xfrm>
            <a:off x="6227640" y="333360"/>
            <a:ext cx="2305080" cy="17272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7" descr="эмблема"/>
          <p:cNvPicPr/>
          <p:nvPr/>
        </p:nvPicPr>
        <p:blipFill>
          <a:blip r:embed="rId2"/>
          <a:stretch/>
        </p:blipFill>
        <p:spPr>
          <a:xfrm>
            <a:off x="6156360" y="4149720"/>
            <a:ext cx="252396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4F1F-83C7-455A-ACCA-03E3C5F164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49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7" descr="god2-2101"/>
          <p:cNvPicPr/>
          <p:nvPr/>
        </p:nvPicPr>
        <p:blipFill>
          <a:blip r:embed="rId1"/>
          <a:stretch/>
        </p:blipFill>
        <p:spPr>
          <a:xfrm>
            <a:off x="6443640" y="333360"/>
            <a:ext cx="2089080" cy="1727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эмблема"/>
          <p:cNvPicPr/>
          <p:nvPr/>
        </p:nvPicPr>
        <p:blipFill>
          <a:blip r:embed="rId2"/>
          <a:stretch/>
        </p:blipFill>
        <p:spPr>
          <a:xfrm>
            <a:off x="250920" y="260280"/>
            <a:ext cx="1728720" cy="172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Organization Chart 9"/>
          <p:cNvGrpSpPr/>
          <p:nvPr/>
        </p:nvGrpSpPr>
        <p:grpSpPr>
          <a:xfrm>
            <a:off x="539640" y="333360"/>
            <a:ext cx="8135640" cy="5973480"/>
            <a:chOff x="539640" y="333360"/>
            <a:chExt cx="8135640" cy="5973480"/>
          </a:xfrm>
        </p:grpSpPr>
        <p:cxnSp>
          <p:nvCxnSpPr>
            <p:cNvPr id="356" name="_s9220"/>
            <p:cNvCxnSpPr>
              <a:stCxn id="357" idx="0"/>
              <a:endCxn id="358" idx="2"/>
            </p:cNvCxnSpPr>
            <p:nvPr/>
          </p:nvCxnSpPr>
          <p:spPr>
            <a:xfrm flipV="1" rot="16200000">
              <a:off x="5686200" y="1643760"/>
              <a:ext cx="1195200" cy="335160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9" name="_s9221"/>
            <p:cNvCxnSpPr>
              <a:stCxn id="360" idx="0"/>
              <a:endCxn id="358" idx="2"/>
            </p:cNvCxnSpPr>
            <p:nvPr/>
          </p:nvCxnSpPr>
          <p:spPr>
            <a:xfrm flipV="1" rot="16200000">
              <a:off x="4848480" y="2481480"/>
              <a:ext cx="1195200" cy="1676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1" name="_s9222"/>
            <p:cNvCxnSpPr>
              <a:stCxn id="362" idx="0"/>
              <a:endCxn id="358" idx="2"/>
            </p:cNvCxnSpPr>
            <p:nvPr/>
          </p:nvCxnSpPr>
          <p:spPr>
            <a:xfrm flipV="1" rot="16200000">
              <a:off x="4011480" y="3318480"/>
              <a:ext cx="1195200" cy="2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3" name="_s9223"/>
            <p:cNvCxnSpPr>
              <a:stCxn id="364" idx="0"/>
              <a:endCxn id="358" idx="2"/>
            </p:cNvCxnSpPr>
            <p:nvPr/>
          </p:nvCxnSpPr>
          <p:spPr>
            <a:xfrm flipH="1" flipV="1" rot="5400000">
              <a:off x="3173040" y="2481840"/>
              <a:ext cx="1195200" cy="167616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5" name="_s9224"/>
            <p:cNvCxnSpPr>
              <a:stCxn id="366" idx="0"/>
              <a:endCxn id="358" idx="2"/>
            </p:cNvCxnSpPr>
            <p:nvPr/>
          </p:nvCxnSpPr>
          <p:spPr>
            <a:xfrm flipH="1" flipV="1" rot="5400000">
              <a:off x="2335320" y="1644120"/>
              <a:ext cx="1195200" cy="3351600"/>
            </a:xfrm>
            <a:prstGeom prst="bentConnector3">
              <a:avLst>
                <a:gd name="adj1" fmla="val 106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8" name="_s9225"/>
            <p:cNvSpPr/>
            <p:nvPr/>
          </p:nvSpPr>
          <p:spPr>
            <a:xfrm>
              <a:off x="3888360" y="33336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есур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9226"/>
            <p:cNvSpPr/>
            <p:nvPr/>
          </p:nvSpPr>
          <p:spPr>
            <a:xfrm>
              <a:off x="53964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орматив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авов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9227"/>
            <p:cNvSpPr/>
            <p:nvPr/>
          </p:nvSpPr>
          <p:spPr>
            <a:xfrm>
              <a:off x="221508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др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9228"/>
            <p:cNvSpPr/>
            <p:nvPr/>
          </p:nvSpPr>
          <p:spPr>
            <a:xfrm>
              <a:off x="389052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отивацион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9229"/>
            <p:cNvSpPr/>
            <p:nvPr/>
          </p:nvSpPr>
          <p:spPr>
            <a:xfrm>
              <a:off x="5565960" y="3917520"/>
              <a:ext cx="1436040" cy="2389320"/>
            </a:xfrm>
            <a:custGeom>
              <a:avLst/>
              <a:gdLst>
                <a:gd name="textAreaLeft" fmla="*/ 69840 w 1436040"/>
                <a:gd name="textAreaRight" fmla="*/ 1366200 w 143604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35">
                  <a:moveTo>
                    <a:pt x="3600" y="0"/>
                  </a:moveTo>
                  <a:arcTo wR="3600" hR="3600" stAng="16200000" swAng="-5400000"/>
                  <a:lnTo>
                    <a:pt x="0" y="32335"/>
                  </a:lnTo>
                  <a:arcTo wR="3600" hR="3600" stAng="10800000" swAng="-5400000"/>
                  <a:lnTo>
                    <a:pt x="18000" y="359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инанс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9230"/>
            <p:cNvSpPr/>
            <p:nvPr/>
          </p:nvSpPr>
          <p:spPr>
            <a:xfrm>
              <a:off x="7241400" y="3917520"/>
              <a:ext cx="1433880" cy="2389320"/>
            </a:xfrm>
            <a:custGeom>
              <a:avLst/>
              <a:gdLst>
                <a:gd name="textAreaLeft" fmla="*/ 69840 w 1433880"/>
                <a:gd name="textAreaRight" fmla="*/ 1364040 w 1433880"/>
                <a:gd name="textAreaTop" fmla="*/ 69840 h 2389320"/>
                <a:gd name="textAreaBottom" fmla="*/ 2319480 h 2389320"/>
              </a:gdLst>
              <a:ahLst/>
              <a:rect l="textAreaLeft" t="textAreaTop" r="textAreaRight" b="textAreaBottom"/>
              <a:pathLst>
                <a:path w="21600" h="35989">
                  <a:moveTo>
                    <a:pt x="3600" y="0"/>
                  </a:moveTo>
                  <a:arcTo wR="3600" hR="3600" stAng="16200000" swAng="-5400000"/>
                  <a:lnTo>
                    <a:pt x="0" y="32389"/>
                  </a:lnTo>
                  <a:arcTo wR="3600" hR="3600" stAng="10800000" swAng="-5400000"/>
                  <a:lnTo>
                    <a:pt x="18000" y="359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уч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тодическ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5907-7A38-45B2-840C-AF68D1E73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69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 txBox="1"/>
          <p:nvPr/>
        </p:nvSpPr>
        <p:spPr>
          <a:xfrm>
            <a:off x="468000" y="259920"/>
            <a:ext cx="8064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рмативные право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педагогическом 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научно-методическом со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методической кафед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 научно-исследовательско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б учебном кабин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об оплате труда работ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жностные инстру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god2-2101"/>
          <p:cNvPicPr/>
          <p:nvPr/>
        </p:nvPicPr>
        <p:blipFill>
          <a:blip r:embed="rId1"/>
          <a:stretch/>
        </p:blipFill>
        <p:spPr>
          <a:xfrm>
            <a:off x="6443640" y="333360"/>
            <a:ext cx="2160720" cy="1727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FA41-09A8-4843-B753-E82564F5CD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дровы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сурсы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дагогический коллектив – 61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0 % имеют высше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двое учатся в педагогическом вузе заочно, высшее образование по специальности получа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рь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god2-2101"/>
          <p:cNvPicPr/>
          <p:nvPr/>
        </p:nvPicPr>
        <p:blipFill>
          <a:blip r:embed="rId2"/>
          <a:stretch/>
        </p:blipFill>
        <p:spPr>
          <a:xfrm>
            <a:off x="6983280" y="0"/>
            <a:ext cx="216072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5C15-9803-4E78-8A53-58622DCB0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лификац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дагогов гимназ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6" descr="god2-2101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1727280"/>
          </a:xfrm>
          <a:prstGeom prst="rect">
            <a:avLst/>
          </a:prstGeom>
          <a:ln w="0">
            <a:noFill/>
          </a:ln>
        </p:spPr>
      </p:pic>
      <p:grpSp>
        <p:nvGrpSpPr>
          <p:cNvPr id="382" name="Organization Chart 10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383" name="_s10244"/>
            <p:cNvCxnSpPr>
              <a:stCxn id="384" idx="0"/>
              <a:endCxn id="385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_s10245"/>
            <p:cNvCxnSpPr>
              <a:stCxn id="387" idx="0"/>
              <a:endCxn id="385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8" name="_s10246"/>
            <p:cNvCxnSpPr>
              <a:stCxn id="389" idx="0"/>
              <a:endCxn id="385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5" name="_s10247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педагого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(90%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10248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ысш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0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55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10249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рв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7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31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_s10250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Втор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атегор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 че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14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04F9-F5DF-4DFB-AC43-D0D8DE302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зменения и дополнения в устав гимназии, утверждены постановлением администрации города Слободского от 22 июля 2010 года №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god2-2101"/>
          <p:cNvPicPr/>
          <p:nvPr/>
        </p:nvPicPr>
        <p:blipFill>
          <a:blip r:embed="rId1"/>
          <a:stretch/>
        </p:blipFill>
        <p:spPr>
          <a:xfrm>
            <a:off x="6948360" y="333360"/>
            <a:ext cx="1656000" cy="1440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god2-2101"/>
          <p:cNvPicPr/>
          <p:nvPr/>
        </p:nvPicPr>
        <p:blipFill>
          <a:blip r:embed="rId2"/>
          <a:stretch/>
        </p:blipFill>
        <p:spPr>
          <a:xfrm>
            <a:off x="7164360" y="54936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god2-2101"/>
          <p:cNvPicPr/>
          <p:nvPr/>
        </p:nvPicPr>
        <p:blipFill>
          <a:blip r:embed="rId3"/>
          <a:stretch/>
        </p:blipFill>
        <p:spPr>
          <a:xfrm>
            <a:off x="7093080" y="620640"/>
            <a:ext cx="1655640" cy="1440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god2-2101"/>
          <p:cNvPicPr/>
          <p:nvPr/>
        </p:nvPicPr>
        <p:blipFill>
          <a:blip r:embed="rId4"/>
          <a:stretch/>
        </p:blipFill>
        <p:spPr>
          <a:xfrm>
            <a:off x="7020000" y="692280"/>
            <a:ext cx="1655640" cy="1439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эмблема"/>
          <p:cNvPicPr/>
          <p:nvPr/>
        </p:nvPicPr>
        <p:blipFill>
          <a:blip r:embed="rId5"/>
          <a:stretch/>
        </p:blipFill>
        <p:spPr>
          <a:xfrm>
            <a:off x="6372360" y="4437000"/>
            <a:ext cx="2307960" cy="20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74C3-6DEA-4717-BD7A-30C92C267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таж работы педагого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5"/>
          <p:cNvGraphicFramePr/>
          <p:nvPr/>
        </p:nvGraphicFramePr>
        <p:xfrm>
          <a:off x="479520" y="162864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62864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CA9D-C05E-4782-A23A-884C575C0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396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служенные учителя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6" descr="god2-2101"/>
          <p:cNvPicPr/>
          <p:nvPr/>
        </p:nvPicPr>
        <p:blipFill>
          <a:blip r:embed="rId1"/>
          <a:stretch/>
        </p:blipFill>
        <p:spPr>
          <a:xfrm>
            <a:off x="7020000" y="33336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8" descr="Сергеева"/>
          <p:cNvPicPr/>
          <p:nvPr/>
        </p:nvPicPr>
        <p:blipFill>
          <a:blip r:embed="rId3"/>
          <a:stretch/>
        </p:blipFill>
        <p:spPr>
          <a:xfrm>
            <a:off x="826920" y="1700280"/>
            <a:ext cx="1524240" cy="2031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0" descr="Копысова - копия"/>
          <p:cNvPicPr/>
          <p:nvPr/>
        </p:nvPicPr>
        <p:blipFill>
          <a:blip r:embed="rId4"/>
          <a:stretch/>
        </p:blipFill>
        <p:spPr>
          <a:xfrm>
            <a:off x="3276720" y="1700280"/>
            <a:ext cx="1582560" cy="201600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2" descr="IMG 043"/>
          <p:cNvPicPr/>
          <p:nvPr/>
        </p:nvPicPr>
        <p:blipFill>
          <a:blip r:embed="rId5"/>
          <a:stretch/>
        </p:blipFill>
        <p:spPr>
          <a:xfrm>
            <a:off x="5292720" y="1628640"/>
            <a:ext cx="1368360" cy="20876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" descr="1Двоеглазова ТЛ"/>
          <p:cNvPicPr/>
          <p:nvPr/>
        </p:nvPicPr>
        <p:blipFill>
          <a:blip r:embed="rId6"/>
          <a:stretch/>
        </p:blipFill>
        <p:spPr>
          <a:xfrm>
            <a:off x="1476360" y="4365720"/>
            <a:ext cx="1584360" cy="2016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3" descr="Фото Мурина"/>
          <p:cNvPicPr/>
          <p:nvPr/>
        </p:nvPicPr>
        <p:blipFill>
          <a:blip r:embed="rId7"/>
          <a:stretch/>
        </p:blipFill>
        <p:spPr>
          <a:xfrm>
            <a:off x="4643280" y="436572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18"/>
          <p:cNvSpPr/>
          <p:nvPr/>
        </p:nvSpPr>
        <p:spPr>
          <a:xfrm>
            <a:off x="755640" y="3933720"/>
            <a:ext cx="65530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.П. Сергеева           Л.А. Копысова       Н.А. Сит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0"/>
          <p:cNvSpPr/>
          <p:nvPr/>
        </p:nvSpPr>
        <p:spPr>
          <a:xfrm flipH="1" flipV="1" rot="10800000">
            <a:off x="1114920" y="6307560"/>
            <a:ext cx="532764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.Л. Двоеглазова                 Т. Л. Му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E49E-321E-48A0-98C9-0CE5E96A51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2"/>
          <p:cNvGrpSpPr/>
          <p:nvPr/>
        </p:nvGrpSpPr>
        <p:grpSpPr>
          <a:xfrm>
            <a:off x="214200" y="0"/>
            <a:ext cx="8929800" cy="6626160"/>
            <a:chOff x="214200" y="0"/>
            <a:chExt cx="8929800" cy="6626160"/>
          </a:xfrm>
        </p:grpSpPr>
        <p:sp>
          <p:nvSpPr>
            <p:cNvPr id="411" name="Freeform 3"/>
            <p:cNvSpPr/>
            <p:nvPr/>
          </p:nvSpPr>
          <p:spPr>
            <a:xfrm>
              <a:off x="214200" y="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"/>
            <p:cNvSpPr/>
            <p:nvPr/>
          </p:nvSpPr>
          <p:spPr>
            <a:xfrm>
              <a:off x="7918200" y="604980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НПО-2010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нкурс уч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тникова Нин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7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эмблема"/>
          <p:cNvPicPr/>
          <p:nvPr/>
        </p:nvPicPr>
        <p:blipFill>
          <a:blip r:embed="rId2"/>
          <a:stretch/>
        </p:blipFill>
        <p:spPr>
          <a:xfrm>
            <a:off x="723600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2" descr="IMG 043"/>
          <p:cNvPicPr/>
          <p:nvPr/>
        </p:nvPicPr>
        <p:blipFill>
          <a:blip r:embed="rId3"/>
          <a:stretch/>
        </p:blipFill>
        <p:spPr>
          <a:xfrm>
            <a:off x="5430960" y="1557360"/>
            <a:ext cx="2957400" cy="3672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символика ПНПО"/>
          <p:cNvPicPr/>
          <p:nvPr/>
        </p:nvPicPr>
        <p:blipFill>
          <a:blip r:embed="rId4"/>
          <a:stretch/>
        </p:blipFill>
        <p:spPr>
          <a:xfrm>
            <a:off x="1763640" y="333360"/>
            <a:ext cx="1441440" cy="1020600"/>
          </a:xfrm>
          <a:prstGeom prst="rect">
            <a:avLst/>
          </a:prstGeom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9CAE-8D09-4EDE-9384-39E23DF48B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курс школьных учителей Фонда Дмитрия Зимина – 201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минация  «Наставник будущих учёны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слов Анатолий Дмитри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5" descr="P9010061"/>
          <p:cNvPicPr/>
          <p:nvPr/>
        </p:nvPicPr>
        <p:blipFill>
          <a:blip r:embed="rId1"/>
          <a:stretch/>
        </p:blipFill>
        <p:spPr>
          <a:xfrm>
            <a:off x="663480" y="1600200"/>
            <a:ext cx="3624480" cy="4525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god2-2101"/>
          <p:cNvPicPr/>
          <p:nvPr/>
        </p:nvPicPr>
        <p:blipFill>
          <a:blip r:embed="rId2"/>
          <a:stretch/>
        </p:blipFill>
        <p:spPr>
          <a:xfrm>
            <a:off x="7093080" y="5013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60A3-DBB3-45E2-91B6-9D4C6DD666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ластная премия для учителей начальных классо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м. А.Н. Тепляшиной -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сникова Татьяна Александров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6" descr="PC120057"/>
          <p:cNvPicPr/>
          <p:nvPr/>
        </p:nvPicPr>
        <p:blipFill>
          <a:blip r:embed="rId1"/>
          <a:stretch/>
        </p:blipFill>
        <p:spPr>
          <a:xfrm>
            <a:off x="755640" y="2060640"/>
            <a:ext cx="3168720" cy="4093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7" descr="god2-2101"/>
          <p:cNvPicPr/>
          <p:nvPr/>
        </p:nvPicPr>
        <p:blipFill>
          <a:blip r:embed="rId2"/>
          <a:stretch/>
        </p:blipFill>
        <p:spPr>
          <a:xfrm>
            <a:off x="7164360" y="4797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4012-EDAA-4F67-897B-3EE3E77D31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ой конкурс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Мои инновации» -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4292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пломан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теп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одкина В.Б, Колесникова Т.А., учителя начальных клас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оусова Т.В., учитель иностранн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SDC10793"/>
          <p:cNvPicPr/>
          <p:nvPr/>
        </p:nvPicPr>
        <p:blipFill>
          <a:blip r:embed="rId1"/>
          <a:stretch/>
        </p:blipFill>
        <p:spPr>
          <a:xfrm>
            <a:off x="1692360" y="1628640"/>
            <a:ext cx="1655640" cy="21862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9" descr="god2-2101"/>
          <p:cNvPicPr/>
          <p:nvPr/>
        </p:nvPicPr>
        <p:blipFill>
          <a:blip r:embed="rId2"/>
          <a:stretch/>
        </p:blipFill>
        <p:spPr>
          <a:xfrm>
            <a:off x="0" y="563400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0" descr="эмблема"/>
          <p:cNvPicPr/>
          <p:nvPr/>
        </p:nvPicPr>
        <p:blipFill>
          <a:blip r:embed="rId3"/>
          <a:stretch/>
        </p:blipFill>
        <p:spPr>
          <a:xfrm>
            <a:off x="7628040" y="563076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2" descr=""/>
          <p:cNvPicPr/>
          <p:nvPr/>
        </p:nvPicPr>
        <p:blipFill>
          <a:blip r:embed="rId4"/>
          <a:stretch/>
        </p:blipFill>
        <p:spPr>
          <a:xfrm>
            <a:off x="1763640" y="4005360"/>
            <a:ext cx="158436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E0EB-D6D5-4EC9-8A6F-6806259583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ой конкурс «Лучший по профессии-2010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мина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Лучший педагог общего образова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еглазова Тамара Леонидовна, учитель хим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Рисунок 1" descr="1Двоеглазова ТЛ"/>
          <p:cNvPicPr/>
          <p:nvPr/>
        </p:nvPicPr>
        <p:blipFill>
          <a:blip r:embed="rId1"/>
          <a:stretch/>
        </p:blipFill>
        <p:spPr>
          <a:xfrm>
            <a:off x="1487520" y="2379600"/>
            <a:ext cx="1977840" cy="2967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god2-2101"/>
          <p:cNvPicPr/>
          <p:nvPr/>
        </p:nvPicPr>
        <p:blipFill>
          <a:blip r:embed="rId2"/>
          <a:stretch/>
        </p:blipFill>
        <p:spPr>
          <a:xfrm>
            <a:off x="324000" y="563400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эмблема"/>
          <p:cNvPicPr/>
          <p:nvPr/>
        </p:nvPicPr>
        <p:blipFill>
          <a:blip r:embed="rId3"/>
          <a:stretch/>
        </p:blipFill>
        <p:spPr>
          <a:xfrm>
            <a:off x="7628040" y="537372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25A1-FFAE-402F-B34B-2B24B5ADD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уководители городских методических объедин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банова Н.Л. – учителей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.П.- учителей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.Ф. – учителей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ушкарёва Т.Ю. – заместителей директоров по воспитате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ранова З.А. – директоров школ и УД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4B30-9CA8-422C-A9A8-2DCD8E8561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2"/>
          <p:cNvGrpSpPr/>
          <p:nvPr/>
        </p:nvGrpSpPr>
        <p:grpSpPr>
          <a:xfrm>
            <a:off x="108000" y="115920"/>
            <a:ext cx="8929800" cy="6626160"/>
            <a:chOff x="108000" y="115920"/>
            <a:chExt cx="8929800" cy="6626160"/>
          </a:xfrm>
        </p:grpSpPr>
        <p:sp>
          <p:nvSpPr>
            <p:cNvPr id="447" name="Freeform 3"/>
            <p:cNvSpPr/>
            <p:nvPr/>
          </p:nvSpPr>
          <p:spPr>
            <a:xfrm>
              <a:off x="108000" y="115920"/>
              <a:ext cx="2519280" cy="936720"/>
            </a:xfrm>
            <a:custGeom>
              <a:avLst/>
              <a:gdLst>
                <a:gd name="textAreaLeft" fmla="*/ 0 w 2519280"/>
                <a:gd name="textAreaRight" fmla="*/ 2519640 w 251928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428" h="1262">
                  <a:moveTo>
                    <a:pt x="14" y="1262"/>
                  </a:moveTo>
                  <a:cubicBezTo>
                    <a:pt x="14" y="740"/>
                    <a:pt x="0" y="612"/>
                    <a:pt x="16" y="12"/>
                  </a:cubicBezTo>
                  <a:cubicBezTo>
                    <a:pt x="504" y="0"/>
                    <a:pt x="2186" y="10"/>
                    <a:pt x="2428" y="8"/>
                  </a:cubicBezTo>
                  <a:cubicBezTo>
                    <a:pt x="2284" y="28"/>
                    <a:pt x="1538" y="96"/>
                    <a:pt x="1178" y="172"/>
                  </a:cubicBezTo>
                  <a:cubicBezTo>
                    <a:pt x="818" y="248"/>
                    <a:pt x="528" y="462"/>
                    <a:pt x="360" y="630"/>
                  </a:cubicBezTo>
                  <a:cubicBezTo>
                    <a:pt x="192" y="798"/>
                    <a:pt x="80" y="1010"/>
                    <a:pt x="14" y="1262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"/>
            <p:cNvSpPr/>
            <p:nvPr/>
          </p:nvSpPr>
          <p:spPr>
            <a:xfrm>
              <a:off x="7812000" y="6165720"/>
              <a:ext cx="1225800" cy="576360"/>
            </a:xfrm>
            <a:custGeom>
              <a:avLst/>
              <a:gdLst>
                <a:gd name="textAreaLeft" fmla="*/ 0 w 1225800"/>
                <a:gd name="textAreaRight" fmla="*/ 1226160 w 12258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1168" h="1031">
                  <a:moveTo>
                    <a:pt x="1168" y="0"/>
                  </a:moveTo>
                  <a:lnTo>
                    <a:pt x="1168" y="1010"/>
                  </a:lnTo>
                  <a:cubicBezTo>
                    <a:pt x="1168" y="1010"/>
                    <a:pt x="0" y="1031"/>
                    <a:pt x="74" y="1010"/>
                  </a:cubicBezTo>
                  <a:cubicBezTo>
                    <a:pt x="419" y="919"/>
                    <a:pt x="722" y="797"/>
                    <a:pt x="904" y="629"/>
                  </a:cubicBezTo>
                  <a:cubicBezTo>
                    <a:pt x="1086" y="461"/>
                    <a:pt x="1113" y="131"/>
                    <a:pt x="11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кружные методические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539280" y="155736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8360" y="393336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математики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жнева Ольга Фёд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МО учителей русского языка и литературы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ргеева Зоя Пет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9" descr="god2-2101"/>
          <p:cNvPicPr/>
          <p:nvPr/>
        </p:nvPicPr>
        <p:blipFill>
          <a:blip r:embed="rId1"/>
          <a:stretch/>
        </p:blipFill>
        <p:spPr>
          <a:xfrm>
            <a:off x="7667640" y="9079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10" descr="эмблема"/>
          <p:cNvPicPr/>
          <p:nvPr/>
        </p:nvPicPr>
        <p:blipFill>
          <a:blip r:embed="rId2"/>
          <a:stretch/>
        </p:blipFill>
        <p:spPr>
          <a:xfrm>
            <a:off x="7164360" y="537372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1" descr="DSC_4325"/>
          <p:cNvPicPr/>
          <p:nvPr/>
        </p:nvPicPr>
        <p:blipFill>
          <a:blip r:embed="rId3"/>
          <a:stretch/>
        </p:blipFill>
        <p:spPr>
          <a:xfrm rot="719400">
            <a:off x="611280" y="1341000"/>
            <a:ext cx="2089080" cy="2303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2" descr="Сергеева"/>
          <p:cNvPicPr/>
          <p:nvPr/>
        </p:nvPicPr>
        <p:blipFill>
          <a:blip r:embed="rId4"/>
          <a:stretch/>
        </p:blipFill>
        <p:spPr>
          <a:xfrm rot="1130400">
            <a:off x="1076040" y="4081320"/>
            <a:ext cx="1882800" cy="22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1A3F-9239-428E-813D-605553F5E4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роприятия на базе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ластные семинары для  учителей иностранн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7" descr="DSCN6202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DSCN6209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5F90-BBD4-4BF7-B60A-D166D41521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цензия на право осуществления образователь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лицензия новая"/>
          <p:cNvPicPr/>
          <p:nvPr/>
        </p:nvPicPr>
        <p:blipFill>
          <a:blip r:embed="rId1"/>
          <a:stretch/>
        </p:blipFill>
        <p:spPr>
          <a:xfrm>
            <a:off x="920880" y="1600200"/>
            <a:ext cx="3111480" cy="4525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к  действия лицензии – до 21 июня 2016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0198-1FF2-4C5D-9B5D-4462088EA0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родские семинары по работе начальной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P1280051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7" descr="P1280050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0084-66B0-436A-A6D2-EE4F8A33B7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региональная научно-практическая конференция учителей иностранн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ипина Елена Пав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Формирование информационной компетентности обучающихся посредством перекодирования информа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6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1811520" cy="2790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god2-2101"/>
          <p:cNvPicPr/>
          <p:nvPr/>
        </p:nvPicPr>
        <p:blipFill>
          <a:blip r:embed="rId2"/>
          <a:stretch/>
        </p:blipFill>
        <p:spPr>
          <a:xfrm>
            <a:off x="539640" y="5229360"/>
            <a:ext cx="147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8F73-E2AA-4795-9EBE-4F1B8AB584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региональная научно-практическая конференция учителей иностранн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сева Анжелик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Игра как форма организации познавательной деятельности младших школьников на уроках английского языка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5" descr="god2-2101"/>
          <p:cNvPicPr/>
          <p:nvPr/>
        </p:nvPicPr>
        <p:blipFill>
          <a:blip r:embed="rId1"/>
          <a:stretch/>
        </p:blipFill>
        <p:spPr>
          <a:xfrm>
            <a:off x="250920" y="53737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7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2735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B8AA-0475-4C8C-86DD-35A8B89A8F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ждународна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научно-практическая конферен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ина Тамар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спитание чувств школьников через применение авторского песенного репертуара на уроках музы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god2-2101"/>
          <p:cNvPicPr/>
          <p:nvPr/>
        </p:nvPicPr>
        <p:blipFill>
          <a:blip r:embed="rId1"/>
          <a:stretch/>
        </p:blipFill>
        <p:spPr>
          <a:xfrm>
            <a:off x="3995640" y="537372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Фото Мурина"/>
          <p:cNvPicPr/>
          <p:nvPr/>
        </p:nvPicPr>
        <p:blipFill>
          <a:blip r:embed="rId2"/>
          <a:stretch/>
        </p:blipFill>
        <p:spPr>
          <a:xfrm>
            <a:off x="900000" y="1628640"/>
            <a:ext cx="31068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AD0A-CE28-46F3-9219-895FC9262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о-коммуникационные ресур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7" descr="SDC10789 - копия"/>
          <p:cNvPicPr/>
          <p:nvPr/>
        </p:nvPicPr>
        <p:blipFill>
          <a:blip r:embed="rId1"/>
          <a:stretch/>
        </p:blipFill>
        <p:spPr>
          <a:xfrm>
            <a:off x="714240" y="1600200"/>
            <a:ext cx="3522960" cy="218592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8" descr="SDC10895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9" descr="SDC10910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CCCC-C210-46E0-85E7-01CD00E57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lgmz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mslob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ro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айт).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4" descr="эмблема"/>
          <p:cNvPicPr/>
          <p:nvPr/>
        </p:nvPicPr>
        <p:blipFill>
          <a:blip r:embed="rId1"/>
          <a:stretch/>
        </p:blipFill>
        <p:spPr>
          <a:xfrm>
            <a:off x="7236000" y="4941720"/>
            <a:ext cx="15159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1D51-9330-49A7-B241-25BE6AB5D5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дминистрация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5" descr="P9010079"/>
          <p:cNvPicPr/>
          <p:nvPr/>
        </p:nvPicPr>
        <p:blipFill>
          <a:blip r:embed="rId1"/>
          <a:stretch/>
        </p:blipFill>
        <p:spPr>
          <a:xfrm>
            <a:off x="457200" y="1628640"/>
            <a:ext cx="822960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665C-B194-44D8-ACCE-BE271A09A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ллектив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5" descr="Новый рисунок"/>
          <p:cNvPicPr/>
          <p:nvPr/>
        </p:nvPicPr>
        <p:blipFill>
          <a:blip r:embed="rId1"/>
          <a:stretch/>
        </p:blipFill>
        <p:spPr>
          <a:xfrm>
            <a:off x="1281240" y="1604880"/>
            <a:ext cx="6580080" cy="45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1F0B-B770-460D-85A8-1722D6C70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зультаты учебной деятельност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певаемость – 100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чество знаний (на «4» и «5»)- 69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BD18-2351-4F8D-92E4-BE1D5F7C5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48 выпускников получили аттестаты, 2 из них – особого образ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 отличие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 – только с отметками «4» и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6927-CC88-49B6-8F69-A0A0D5CE4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идетельство о государственной аккредит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свидеьельство"/>
          <p:cNvPicPr/>
          <p:nvPr/>
        </p:nvPicPr>
        <p:blipFill>
          <a:blip r:embed="rId1"/>
          <a:stretch/>
        </p:blipFill>
        <p:spPr>
          <a:xfrm>
            <a:off x="905040" y="1628640"/>
            <a:ext cx="316548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свидеьельство2"/>
          <p:cNvPicPr/>
          <p:nvPr/>
        </p:nvPicPr>
        <p:blipFill>
          <a:blip r:embed="rId2"/>
          <a:stretch/>
        </p:blipFill>
        <p:spPr>
          <a:xfrm>
            <a:off x="5068800" y="1628640"/>
            <a:ext cx="31863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08C1-5FFC-4888-AA12-7074D2929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 класс – единый государственный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за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о – математика, 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0DDD-CE70-4D2F-BDC0-25753BB5D2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01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иболее востребованы как предметы по выбо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знание – 24 чел. (6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ка – 14 чел. (3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 – 9 чел. (23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EC62-2F8D-4AB0-BC41-6F2C81BE76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математ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Object 4"/>
          <p:cNvGraphicFramePr/>
          <p:nvPr/>
        </p:nvGraphicFramePr>
        <p:xfrm>
          <a:off x="395280" y="233208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33208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7FB1-6605-4F31-AA45-34824E5051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сударственная (итоговая) аттестация выпускнико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0 го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ГЭ по русскому язы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Object 5"/>
          <p:cNvGraphicFramePr/>
          <p:nvPr/>
        </p:nvGraphicFramePr>
        <p:xfrm>
          <a:off x="468360" y="233208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3208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6AC6-C5F4-4D86-A354-26AB773DE2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далисты – 2010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2 выпускников (30%)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- золот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- серебря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Object 4"/>
          <p:cNvGraphicFramePr/>
          <p:nvPr/>
        </p:nvGraphicFramePr>
        <p:xfrm>
          <a:off x="468360" y="2332080"/>
          <a:ext cx="8205840" cy="41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32080"/>
                    <a:ext cx="8205840" cy="4192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D053-E5A6-4E93-B2D3-9CC6881137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алисты гимназии с 1995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Object 4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3128-F4D8-4089-86F0-8D40F97E47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кольный этап Всероссийской олимпиады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йтинг востребованности предме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матика – 136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ий язык – 13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глийский язык – 114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рия – 93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ка – 9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я – 81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 – 70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D939-6201-42DD-9A62-D18AEA6DCB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иональный этап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бедители и призё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логия – Копылов Кири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О.Ю. Михе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Литература – Блинова Анаста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З.П. Серге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Русский язык – Силина Екате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Копысова Л.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Химия - Копылов Кирил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читель Т.Л. Двоеглаз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C817-5A2C-4C3D-83D1-4629DFBA85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ключительный этап Всероссийской олимпи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пылов Кир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воеглазова Т.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копылов кирилл"/>
          <p:cNvPicPr/>
          <p:nvPr/>
        </p:nvPicPr>
        <p:blipFill>
          <a:blip r:embed="rId1"/>
          <a:stretch/>
        </p:blipFill>
        <p:spPr>
          <a:xfrm>
            <a:off x="838080" y="1600200"/>
            <a:ext cx="3275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982C-8B2E-42EE-B993-4FC6C78983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бедитель Всероссийской олимпиады по Основам православной куль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исимов Евг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йсина Л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анисимов евгений"/>
          <p:cNvPicPr/>
          <p:nvPr/>
        </p:nvPicPr>
        <p:blipFill>
          <a:blip r:embed="rId1"/>
          <a:stretch/>
        </p:blipFill>
        <p:spPr>
          <a:xfrm>
            <a:off x="838080" y="1600200"/>
            <a:ext cx="32752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0D64-43E5-412A-A690-0E7FC8074D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ный стен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DC10888"/>
          <p:cNvPicPr/>
          <p:nvPr/>
        </p:nvPicPr>
        <p:blipFill>
          <a:blip r:embed="rId1"/>
          <a:stretch/>
        </p:blipFill>
        <p:spPr>
          <a:xfrm>
            <a:off x="2465280" y="1600200"/>
            <a:ext cx="42134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12FD-BB0C-4CFA-98EB-27641732F5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сты-стипендиат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рилл Копылов – Стипендиат Правительства Кировской области, Детского фонда, администрации города Слободск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Анисимов Евгений - Стипендиат Правительства Кировской области,  администрации города Слободског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ладимирова Екатерина – Стипендиат Детского фон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F1C3-7DEA-45D0-B44E-27DF539F5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должение образования выпускников гимназии -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5 % выпускников 2010 года (38 из 4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упили в высшие учебные за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ГУ им. Ломоносова (Карпова Елена), Московский педагогический государственный университет (Силина Екатерина), Московская академия МЧС (Вылегжанин Максим), Санкт-Петербургская государственная медицинская академия им. Мечникова (Волкова Ксения), ГУ – высшая школа экономики (Барышникова Анастасия)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6F10-C055-4085-B926-1F268EC8E2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ия работы  по 6 позици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обществ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знания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ирод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труд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прекрасно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50D4-16D7-4EAD-9D71-DCB91E7F3C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 гимназ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7" descr="DSC01831"/>
          <p:cNvPicPr/>
          <p:nvPr/>
        </p:nvPicPr>
        <p:blipFill>
          <a:blip r:embed="rId1"/>
          <a:stretch/>
        </p:blipFill>
        <p:spPr>
          <a:xfrm>
            <a:off x="324000" y="1268280"/>
            <a:ext cx="3489120" cy="27622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Новый рисунок (7)"/>
          <p:cNvPicPr/>
          <p:nvPr/>
        </p:nvPicPr>
        <p:blipFill>
          <a:blip r:embed="rId2"/>
          <a:stretch/>
        </p:blipFill>
        <p:spPr>
          <a:xfrm>
            <a:off x="1100160" y="3938760"/>
            <a:ext cx="275112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4A83-9F5B-49CD-9399-2AD977BDD3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5 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беды в В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здравление ветер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6" descr="IMG_0013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77FD-2BFA-43D7-9585-1B86F27819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6" descr="IMG_0032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IMG_0030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9C26-9A28-4D48-8872-879377463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7" descr="Новый рисунок (1)"/>
          <p:cNvPicPr/>
          <p:nvPr/>
        </p:nvPicPr>
        <p:blipFill>
          <a:blip r:embed="rId1"/>
          <a:stretch/>
        </p:blipFill>
        <p:spPr>
          <a:xfrm>
            <a:off x="1022400" y="1600200"/>
            <a:ext cx="2908080" cy="21859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8" descr="Новый рисунок (2)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SDC10901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2" descr="SDC10868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68C6-6991-459F-94CC-F383BB6B68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Новый рисунок"/>
          <p:cNvPicPr/>
          <p:nvPr/>
        </p:nvPicPr>
        <p:blipFill>
          <a:blip r:embed="rId1"/>
          <a:stretch/>
        </p:blipFill>
        <p:spPr>
          <a:xfrm>
            <a:off x="2340000" y="1773360"/>
            <a:ext cx="511164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54F1-550D-4065-A2E9-55FC723DD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оспитательная работа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7" descr="Новый рисунок (6)"/>
          <p:cNvPicPr/>
          <p:nvPr/>
        </p:nvPicPr>
        <p:blipFill>
          <a:blip r:embed="rId1"/>
          <a:stretch/>
        </p:blipFill>
        <p:spPr>
          <a:xfrm>
            <a:off x="1074600" y="1600200"/>
            <a:ext cx="2803680" cy="2185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8" descr="Новый рисунок (5)"/>
          <p:cNvPicPr/>
          <p:nvPr/>
        </p:nvPicPr>
        <p:blipFill>
          <a:blip r:embed="rId2"/>
          <a:stretch/>
        </p:blipFill>
        <p:spPr>
          <a:xfrm>
            <a:off x="1081080" y="3938760"/>
            <a:ext cx="2790720" cy="2187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9" descr="Новый рисунок (3)"/>
          <p:cNvPicPr/>
          <p:nvPr/>
        </p:nvPicPr>
        <p:blipFill>
          <a:blip r:embed="rId3"/>
          <a:stretch/>
        </p:blipFill>
        <p:spPr>
          <a:xfrm>
            <a:off x="4881600" y="2505240"/>
            <a:ext cx="356220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2B78-5DDA-4DCB-826A-FA8E6207E9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ортивная жиз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есто в спартакиаде школьников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место в Губернаторских состязан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0629-7013-4E9D-8C94-DF5E63703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рамма развития МОУ гимназии г. Слободск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ководство к действию для педагогического коллектива гимназии на 2005-2010 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стратегические и тактические цели, а также задачи развития гимназии на данный период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основные направления политики гимназии в связи с социальным заказом и прогнозом его изме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эмблема"/>
          <p:cNvPicPr/>
          <p:nvPr/>
        </p:nvPicPr>
        <p:blipFill>
          <a:blip r:embed="rId1"/>
          <a:stretch/>
        </p:blipFill>
        <p:spPr>
          <a:xfrm>
            <a:off x="7308720" y="5157720"/>
            <a:ext cx="144324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658B-A1C6-43D8-93CB-9B41012429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полнительное образование в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00 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тей посещают объединения по интересам в гимназ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0 %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тей посещают городские учреждения дополнительного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29E1-1448-4C3D-BC55-40781A1325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доровьесбере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4" name="Object 4"/>
          <p:cNvGraphicFramePr/>
          <p:nvPr/>
        </p:nvGraphicFramePr>
        <p:xfrm>
          <a:off x="539640" y="1557360"/>
          <a:ext cx="4051440" cy="486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4051440" cy="48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2009-2010 учебном году 64,6 % обучающихся имели отклонения в здоров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DAEB-1AC7-409F-BB6B-09E2D3EB38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циальная активность и внешние связи гимназ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имназия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 гимназического союза Ро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лен ассоциации инновационных учреждений Кировской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D427-33E4-42C1-8D86-AF5E29C9AB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международного обмена школьниками по линии Американских советов по образованию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SL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0" descr="SDC1053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11" descr="SDC10139"/>
          <p:cNvPicPr/>
          <p:nvPr/>
        </p:nvPicPr>
        <p:blipFill>
          <a:blip r:embed="rId2"/>
          <a:stretch/>
        </p:blipFill>
        <p:spPr>
          <a:xfrm>
            <a:off x="5846760" y="16002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2" descr="SDC10180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3" descr="DSC03315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D70C-965D-4D8C-8FDA-D367F94728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я  в С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" descr="god2-2101"/>
          <p:cNvPicPr/>
          <p:nvPr/>
        </p:nvPicPr>
        <p:blipFill>
          <a:blip r:embed="rId1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174920" cy="2691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5329080" cy="34210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2381040" cy="25207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"/>
          <p:cNvPicPr/>
          <p:nvPr/>
        </p:nvPicPr>
        <p:blipFill>
          <a:blip r:embed="rId5"/>
          <a:stretch/>
        </p:blipFill>
        <p:spPr>
          <a:xfrm>
            <a:off x="1692360" y="2708280"/>
            <a:ext cx="3887640" cy="28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4D2E-7121-4695-930A-1590E3E0EF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ази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С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1" descr=""/>
          <p:cNvPicPr/>
          <p:nvPr/>
        </p:nvPicPr>
        <p:blipFill>
          <a:blip r:embed="rId1"/>
          <a:stretch/>
        </p:blipFill>
        <p:spPr>
          <a:xfrm>
            <a:off x="1494000" y="1600200"/>
            <a:ext cx="6154560" cy="45259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god2-2101"/>
          <p:cNvPicPr/>
          <p:nvPr/>
        </p:nvPicPr>
        <p:blipFill>
          <a:blip r:embed="rId2"/>
          <a:stretch/>
        </p:blipFill>
        <p:spPr>
          <a:xfrm>
            <a:off x="7667640" y="333360"/>
            <a:ext cx="1476360" cy="1224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3" descr="эмблема"/>
          <p:cNvPicPr/>
          <p:nvPr/>
        </p:nvPicPr>
        <p:blipFill>
          <a:blip r:embed="rId3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4" descr="эмблема"/>
          <p:cNvPicPr/>
          <p:nvPr/>
        </p:nvPicPr>
        <p:blipFill>
          <a:blip r:embed="rId4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5" descr="эмблема"/>
          <p:cNvPicPr/>
          <p:nvPr/>
        </p:nvPicPr>
        <p:blipFill>
          <a:blip r:embed="rId5"/>
          <a:stretch/>
        </p:blipFill>
        <p:spPr>
          <a:xfrm>
            <a:off x="7380360" y="5445000"/>
            <a:ext cx="1515960" cy="12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7E0E-144E-46EA-98F9-DCACAD4A47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юджетная смета гимназ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бвенция на                   Муницип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изацию                       составляющ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ндарта общ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6"/>
          <p:cNvSpPr/>
          <p:nvPr/>
        </p:nvSpPr>
        <p:spPr>
          <a:xfrm flipH="1">
            <a:off x="2771280" y="1916280"/>
            <a:ext cx="1584360" cy="158580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7"/>
          <p:cNvSpPr/>
          <p:nvPr/>
        </p:nvSpPr>
        <p:spPr>
          <a:xfrm>
            <a:off x="4427640" y="1916280"/>
            <a:ext cx="1584360" cy="1441440"/>
          </a:xfrm>
          <a:prstGeom prst="line">
            <a:avLst/>
          </a:prstGeom>
          <a:ln w="3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E4D3-1DA0-485C-8230-4688971C18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Organization Chart 7"/>
          <p:cNvGrpSpPr/>
          <p:nvPr/>
        </p:nvGrpSpPr>
        <p:grpSpPr>
          <a:xfrm>
            <a:off x="431640" y="1585800"/>
            <a:ext cx="8208000" cy="4462560"/>
            <a:chOff x="431640" y="1585800"/>
            <a:chExt cx="8208000" cy="4462560"/>
          </a:xfrm>
        </p:grpSpPr>
        <p:cxnSp>
          <p:nvCxnSpPr>
            <p:cNvPr id="618" name="_s17412"/>
            <p:cNvCxnSpPr>
              <a:stCxn id="619" idx="0"/>
              <a:endCxn id="620" idx="2"/>
            </p:cNvCxnSpPr>
            <p:nvPr/>
          </p:nvCxnSpPr>
          <p:spPr>
            <a:xfrm flipV="1" rot="16200000">
              <a:off x="5194080" y="2711520"/>
              <a:ext cx="893160" cy="22100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1" name="_s17413"/>
            <p:cNvCxnSpPr>
              <a:stCxn id="622" idx="0"/>
              <a:endCxn id="620" idx="2"/>
            </p:cNvCxnSpPr>
            <p:nvPr/>
          </p:nvCxnSpPr>
          <p:spPr>
            <a:xfrm flipH="1" flipV="1" rot="5400000">
              <a:off x="2984400" y="2711160"/>
              <a:ext cx="893160" cy="2210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20" name="_s17414"/>
            <p:cNvSpPr/>
            <p:nvPr/>
          </p:nvSpPr>
          <p:spPr>
            <a:xfrm>
              <a:off x="2642040" y="158580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субвенц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17415"/>
            <p:cNvSpPr/>
            <p:nvPr/>
          </p:nvSpPr>
          <p:spPr>
            <a:xfrm>
              <a:off x="43164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Оплата труд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17416"/>
            <p:cNvSpPr/>
            <p:nvPr/>
          </p:nvSpPr>
          <p:spPr>
            <a:xfrm>
              <a:off x="4851360" y="4263480"/>
              <a:ext cx="3788280" cy="1784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Учебны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расход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D069-8396-4ADA-A27E-542CDEDDC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Учебные расходы»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бники, учебные пособия (наглядность), учебное оборудование, в том числе компьютеры, подписка на периодическую печать по отрасли «Образование»,  повышение квалификации педагогов (курсы), канцелярские това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10 году перечень возможных расходов был дополнен учебной мебелью (столы и стуль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45F5-BC99-45B1-8F91-DB4BC13533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Organization Chart 8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628" name="_s18436"/>
            <p:cNvCxnSpPr>
              <a:stCxn id="629" idx="0"/>
              <a:endCxn id="630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1" name="_s18437"/>
            <p:cNvCxnSpPr>
              <a:stCxn id="632" idx="0"/>
              <a:endCxn id="630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3" name="_s18438"/>
            <p:cNvCxnSpPr>
              <a:stCxn id="634" idx="0"/>
              <a:endCxn id="630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30" name="_s18439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рматив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нанс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_s18440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Началь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9056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_s18441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сновна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4269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18442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редня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школ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7527 рублей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9T08:53:03Z</dcterms:created>
  <dc:creator>user1</dc:creator>
  <dc:description/>
  <dc:language>en-US</dc:language>
  <cp:lastModifiedBy>Пользователь Windows</cp:lastModifiedBy>
  <dcterms:modified xsi:type="dcterms:W3CDTF">2013-04-29T11:52:07Z</dcterms:modified>
  <cp:revision>43</cp:revision>
  <dc:subject/>
  <dc:title>Слайд 1</dc:title>
</cp:coreProperties>
</file>