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107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49.wmf" ContentType="image/x-wmf"/>
  <Override PartName="/ppt/media/image47.jpeg" ContentType="image/jpeg"/>
  <Override PartName="/ppt/media/image90.wmf" ContentType="image/x-wmf"/>
  <Override PartName="/ppt/media/image46.jpeg" ContentType="image/jpeg"/>
  <Override PartName="/ppt/media/image80.wmf" ContentType="image/x-wmf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48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3.wmf" ContentType="image/x-wmf"/>
  <Override PartName="/ppt/media/image41.jpeg" ContentType="image/jpeg"/>
  <Override PartName="/ppt/media/image120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72.wmf" ContentType="image/x-wmf"/>
  <Override PartName="/ppt/media/image8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37.jpeg" ContentType="image/jpeg"/>
  <Override PartName="/ppt/media/image88.wmf" ContentType="image/x-wmf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89.wmf" ContentType="image/x-wmf"/>
  <Override PartName="/ppt/media/image14.jpeg" ContentType="image/jpeg"/>
  <Override PartName="/ppt/media/image70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76.jpeg" ContentType="image/jpeg"/>
  <Override PartName="/ppt/media/image83.jpeg" ContentType="image/jpeg"/>
  <Override PartName="/ppt/media/image95.png" ContentType="image/png"/>
  <Override PartName="/ppt/media/image110.jpeg" ContentType="image/jpeg"/>
  <Override PartName="/ppt/media/image91.wmf" ContentType="image/x-wmf"/>
  <Override PartName="/ppt/media/image93.jpeg" ContentType="image/jpeg"/>
  <Override PartName="/ppt/media/image121.jpeg" ContentType="image/jpeg"/>
  <Override PartName="/ppt/media/image115.jpeg" ContentType="image/jpeg"/>
  <Override PartName="/ppt/media/image75.jpeg" ContentType="image/jpeg"/>
  <Override PartName="/ppt/media/image105.png" ContentType="image/png"/>
  <Override PartName="/ppt/media/image111.jpeg" ContentType="image/jpeg"/>
  <Override PartName="/ppt/media/image94.jpeg" ContentType="image/jpeg"/>
  <Override PartName="/ppt/media/image59.wmf" ContentType="image/x-wmf"/>
  <Override PartName="/ppt/media/image112.jpeg" ContentType="image/jpeg"/>
  <Override PartName="/ppt/media/image92.jpeg" ContentType="image/jpeg"/>
  <Override PartName="/ppt/media/image96.jpeg" ContentType="image/jpeg"/>
  <Override PartName="/ppt/media/image113.jpeg" ContentType="image/jpeg"/>
  <Override PartName="/ppt/media/image114.jpeg" ContentType="image/jpeg"/>
  <Override PartName="/ppt/media/image102.jpeg" ContentType="image/jpeg"/>
  <Override PartName="/ppt/media/image82.jpeg" ContentType="image/jpeg"/>
  <Override PartName="/ppt/media/image119.jpeg" ContentType="image/jpeg"/>
  <Override PartName="/ppt/media/image99.png" ContentType="image/png"/>
  <Override PartName="/ppt/media/image104.png" ContentType="image/png"/>
  <Override PartName="/ppt/media/image63.jpeg" ContentType="image/jpeg"/>
  <Override PartName="/ppt/media/image6.jpeg" ContentType="image/jpeg"/>
  <Override PartName="/ppt/media/image103.png" ContentType="image/png"/>
  <Override PartName="/ppt/media/image118.jpeg" ContentType="image/jpeg"/>
  <Override PartName="/ppt/media/image101.jpeg" ContentType="image/jpeg"/>
  <Override PartName="/ppt/media/image65.jpeg" ContentType="image/jpeg"/>
  <Override PartName="/ppt/media/image100.png" ContentType="image/png"/>
  <Override PartName="/ppt/media/image69.jpeg" ContentType="image/jpeg"/>
  <Override PartName="/ppt/media/image68.jpeg" ContentType="image/jpeg"/>
  <Override PartName="/ppt/media/image81.wmf" ContentType="image/x-wmf"/>
  <Override PartName="/ppt/media/image66.jpeg" ContentType="image/jpeg"/>
  <Override PartName="/ppt/media/image64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67.png" ContentType="image/png"/>
  <Override PartName="/ppt/media/image24.wmf" ContentType="image/x-wmf"/>
  <Override PartName="/ppt/media/image22.wmf" ContentType="image/x-wmf"/>
  <Override PartName="/ppt/media/image117.jpeg" ContentType="image/jpeg"/>
  <Override PartName="/ppt/media/image20.jpeg" ContentType="image/jpeg"/>
  <Override PartName="/ppt/media/image116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0.jpeg" ContentType="image/jpeg"/>
  <Override PartName="/ppt/media/image77.jpeg" ContentType="image/jpeg"/>
  <Override PartName="/ppt/media/image18.jpeg" ContentType="image/jpeg"/>
  <Override PartName="/ppt/media/image17.jpeg" ContentType="image/jpeg"/>
  <Override PartName="/ppt/media/image106.png" ContentType="image/png"/>
  <Override PartName="/ppt/media/image16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AD0-3A0B-4616-9187-F61B1DCE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891-1353-4D59-84CA-09E7B27B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C95-FC9E-4634-B1B8-AC862F9D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8BE-E0C0-48B4-A526-DB19D18B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BAD-D2DE-488F-A30B-2EF7E988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433-E071-4511-ABF2-1E361071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026-8C9F-4867-8FAF-B19199F2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FD4-F201-4B61-947A-B1F057CE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047-ED96-4975-A2BA-68BC7B80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A8D-44FC-4F98-A783-B42DCF46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0384-E457-4C71-A9EC-59B9C29A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76A-A7A4-4CB0-8A48-99E83F88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DC68-92BA-4047-B485-723FE557E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image" Target="../media/image1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2.jpeg"/><Relationship Id="rId3" Type="http://schemas.openxmlformats.org/officeDocument/2006/relationships/image" Target="../media/image18.jpeg"/><Relationship Id="rId4" Type="http://schemas.openxmlformats.org/officeDocument/2006/relationships/image" Target="../media/image5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18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66.jpe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18.jpeg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image" Target="../media/image111.jpeg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jpeg"/><Relationship Id="rId6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52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D5EF-2ACF-4E47-9F1B-2992B49EB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3" name="Freeform 6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блич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клад  директора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итогам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2009-2010 уч.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god2-2101"/>
          <p:cNvPicPr/>
          <p:nvPr/>
        </p:nvPicPr>
        <p:blipFill>
          <a:blip r:embed="rId1"/>
          <a:stretch/>
        </p:blipFill>
        <p:spPr>
          <a:xfrm>
            <a:off x="6300720" y="33336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эмблема"/>
          <p:cNvPicPr/>
          <p:nvPr/>
        </p:nvPicPr>
        <p:blipFill>
          <a:blip r:embed="rId2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эмблема"/>
          <p:cNvPicPr/>
          <p:nvPr/>
        </p:nvPicPr>
        <p:blipFill>
          <a:blip r:embed="rId3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67E1-7C7E-48DA-BBCF-06BF8795B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орасположение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. Ленина, 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. Вятская, 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 договору помещения МОУ СОШ № 7 для начальных класс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ул. Советская,98 «а» ( по договору спортзал и стадион ДЮСШ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8C01-866A-482C-A558-994D10AC0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Organization Chart 2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637" name="_s19460"/>
            <p:cNvCxnSpPr>
              <a:stCxn id="638" idx="0"/>
              <a:endCxn id="639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0" name="_s19461"/>
            <p:cNvCxnSpPr>
              <a:stCxn id="641" idx="0"/>
              <a:endCxn id="639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2" name="_s19462"/>
            <p:cNvCxnSpPr>
              <a:stCxn id="643" idx="0"/>
              <a:endCxn id="639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9" name="_s19463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рмати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нанс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ля гимназ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19464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чаль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745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19465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нов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7506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19466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редня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78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B895-C856-41C5-AB18-4704DF1B2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убв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9 год                           201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млн.                           15 мл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35 тыс. руб.               224 тыс.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7"/>
          <p:cNvSpPr/>
          <p:nvPr/>
        </p:nvSpPr>
        <p:spPr>
          <a:xfrm>
            <a:off x="1763640" y="2133720"/>
            <a:ext cx="0" cy="93492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"/>
          <p:cNvSpPr/>
          <p:nvPr/>
        </p:nvSpPr>
        <p:spPr>
          <a:xfrm>
            <a:off x="7164360" y="2276640"/>
            <a:ext cx="0" cy="79200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BCAD-8927-4659-A6AF-16FCEF883A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Учебные расх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9 год                            201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лн.                                980 ты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1 тыс.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"/>
          <p:cNvSpPr/>
          <p:nvPr/>
        </p:nvSpPr>
        <p:spPr>
          <a:xfrm>
            <a:off x="1692360" y="2205000"/>
            <a:ext cx="0" cy="79236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"/>
          <p:cNvSpPr/>
          <p:nvPr/>
        </p:nvSpPr>
        <p:spPr>
          <a:xfrm>
            <a:off x="7308720" y="2276640"/>
            <a:ext cx="0" cy="72072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B3E2-9A34-4FF1-A74B-E40631114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Organization Chart 3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657" name="_s20484"/>
            <p:cNvCxnSpPr>
              <a:stCxn id="658" idx="0"/>
              <a:endCxn id="659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0" name="_s20485"/>
            <p:cNvCxnSpPr>
              <a:stCxn id="661" idx="0"/>
              <a:endCxn id="659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59" name="_s20486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ородская составляющ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юджетной сметы гимназ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_s20487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009 го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98214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рублей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_s20488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010 го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2095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рублей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D9DD-35EF-45D6-8238-EF666F156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бровольные пожертв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9-2010 учебн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81 тыс.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учебная мебель, ремонтные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54AE-369A-41CB-8503-0DE9171FC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  Обеспечение высокого качества образования, качества предоставления образовательных услуг, реализации образовательных программ в полном объё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 Развитие творческой образовательной  среды  Гимназии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тия способностей каждого уче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я особо одарённых детей и организации их  индивидуальн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F846-5585-479A-A61C-AB3C8160F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 Формирование здоровьсберегающей среды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   Информатизация образовательного процесса (в т.ч. введение «Электронного журна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   Обеспечение подготовки введения Федеральных государственных образовательных стандартов начального общего образования в 1-х классах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A986-6B49-4819-AD28-E457FB48BA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  Развитие общественной составляющей в управлении Гимназ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  Совершенствование системы руководства и менеджмента Гимн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  Профилактика негативных проявлений в детской и подростковой среде, девиантного поведения обучающихся Гимн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1532-3ECA-4301-8263-147615D9A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хранение и укрепление материально-технической базы гимназии (требуют решения  следующие крупные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емонт туал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замена оконных р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модернизация системы оповещения о пожа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емонт  буф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ние локальной сети для введения «Электронного журнал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ведение системы видеонаблю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ние условий в кабинете химии – замена вытяжного шкафа, подвод водопровода, специальная ученическая и учительская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устройство кабинета технологии (дев.) для изучения тем по кулинар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фасадные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формление кабинетов и холлов, в том числе с созданием музейной экспозиции из истории гимназ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граждение территории и т.д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B382-9B71-4A0B-BBFB-BA309F2E9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мназия г. Слобод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9" descr="Все 1"/>
          <p:cNvPicPr/>
          <p:nvPr/>
        </p:nvPicPr>
        <p:blipFill>
          <a:blip r:embed="rId1"/>
          <a:stretch/>
        </p:blipFill>
        <p:spPr>
          <a:xfrm rot="20536200">
            <a:off x="390600" y="1915920"/>
            <a:ext cx="3838680" cy="21603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0" descr="11160001(ed)"/>
          <p:cNvPicPr/>
          <p:nvPr/>
        </p:nvPicPr>
        <p:blipFill>
          <a:blip r:embed="rId2"/>
          <a:stretch/>
        </p:blipFill>
        <p:spPr>
          <a:xfrm>
            <a:off x="5076720" y="3933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IMG_2350"/>
          <p:cNvPicPr/>
          <p:nvPr/>
        </p:nvPicPr>
        <p:blipFill>
          <a:blip r:embed="rId3"/>
          <a:stretch/>
        </p:blipFill>
        <p:spPr>
          <a:xfrm rot="1404000">
            <a:off x="4858920" y="1773360"/>
            <a:ext cx="3278160" cy="20415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2" descr="IMG_2244"/>
          <p:cNvPicPr/>
          <p:nvPr/>
        </p:nvPicPr>
        <p:blipFill>
          <a:blip r:embed="rId4"/>
          <a:stretch/>
        </p:blipFill>
        <p:spPr>
          <a:xfrm>
            <a:off x="1403280" y="4149720"/>
            <a:ext cx="3281400" cy="218772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4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18" descr="эмблема"/>
          <p:cNvPicPr/>
          <p:nvPr/>
        </p:nvPicPr>
        <p:blipFill>
          <a:blip r:embed="rId5"/>
          <a:stretch/>
        </p:blipFill>
        <p:spPr>
          <a:xfrm>
            <a:off x="468360" y="189000"/>
            <a:ext cx="1187280" cy="122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451D-314C-485F-A651-99F637D1D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лефон/факс (883362) 4-28-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gmz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mslob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айт).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494172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F576-15E1-42D1-8D46-AA64BE7E4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687" name="Freeform 5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WordArt 7"/>
          <p:cNvSpPr txBox="1"/>
          <p:nvPr/>
        </p:nvSpPr>
        <p:spPr>
          <a:xfrm>
            <a:off x="1979640" y="2349360"/>
            <a:ext cx="6767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66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Спасибо за внимание!</a:t>
            </a:r>
            <a:endParaRPr b="1" lang="en-US" sz="1800" spc="1" strike="noStrike">
              <a:ln w="324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66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1C06-B135-4E31-8701-FEBD6B4436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Diagram 6"/>
          <p:cNvGrpSpPr/>
          <p:nvPr/>
        </p:nvGrpSpPr>
        <p:grpSpPr>
          <a:xfrm>
            <a:off x="1798560" y="385920"/>
            <a:ext cx="5475240" cy="5410080"/>
            <a:chOff x="1798560" y="385920"/>
            <a:chExt cx="5475240" cy="5410080"/>
          </a:xfrm>
        </p:grpSpPr>
        <p:sp>
          <p:nvSpPr>
            <p:cNvPr id="102" name="_s1028"/>
            <p:cNvSpPr/>
            <p:nvPr/>
          </p:nvSpPr>
          <p:spPr>
            <a:xfrm flipH="1" flipV="1">
              <a:off x="3557520" y="1989000"/>
              <a:ext cx="57960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29"/>
            <p:cNvSpPr/>
            <p:nvPr/>
          </p:nvSpPr>
          <p:spPr>
            <a:xfrm>
              <a:off x="2532240" y="88740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разовате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учрежд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0"/>
            <p:cNvSpPr/>
            <p:nvPr/>
          </p:nvSpPr>
          <p:spPr>
            <a:xfrm flipH="1" flipV="1">
              <a:off x="3036960" y="2890800"/>
              <a:ext cx="885600" cy="1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1"/>
            <p:cNvSpPr/>
            <p:nvPr/>
          </p:nvSpPr>
          <p:spPr>
            <a:xfrm>
              <a:off x="1798560" y="215892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узейн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мплек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 flipH="1">
              <a:off x="3218040" y="3465360"/>
              <a:ext cx="777600" cy="45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2054160" y="3603600"/>
              <a:ext cx="1249560" cy="1249560"/>
            </a:xfrm>
            <a:prstGeom prst="ellipse">
              <a:avLst/>
            </a:prstGeom>
            <a:solidFill>
              <a:srgbClr val="eaea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Автовокз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 flipH="1">
              <a:off x="4016160" y="3740040"/>
              <a:ext cx="306360" cy="84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5"/>
            <p:cNvSpPr/>
            <p:nvPr/>
          </p:nvSpPr>
          <p:spPr>
            <a:xfrm>
              <a:off x="3178080" y="454644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ЮС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6"/>
            <p:cNvSpPr/>
            <p:nvPr/>
          </p:nvSpPr>
          <p:spPr>
            <a:xfrm>
              <a:off x="4749840" y="3740040"/>
              <a:ext cx="307800" cy="84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7"/>
            <p:cNvSpPr/>
            <p:nvPr/>
          </p:nvSpPr>
          <p:spPr>
            <a:xfrm>
              <a:off x="4646520" y="454644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ом дет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вор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8"/>
            <p:cNvSpPr/>
            <p:nvPr/>
          </p:nvSpPr>
          <p:spPr>
            <a:xfrm>
              <a:off x="5076720" y="3465360"/>
              <a:ext cx="777960" cy="44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9"/>
            <p:cNvSpPr/>
            <p:nvPr/>
          </p:nvSpPr>
          <p:spPr>
            <a:xfrm>
              <a:off x="5770440" y="3602160"/>
              <a:ext cx="124956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скус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40"/>
            <p:cNvSpPr/>
            <p:nvPr/>
          </p:nvSpPr>
          <p:spPr>
            <a:xfrm flipV="1">
              <a:off x="5149800" y="2889360"/>
              <a:ext cx="88416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41"/>
            <p:cNvSpPr/>
            <p:nvPr/>
          </p:nvSpPr>
          <p:spPr>
            <a:xfrm>
              <a:off x="6024600" y="215748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Художествен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42"/>
            <p:cNvSpPr/>
            <p:nvPr/>
          </p:nvSpPr>
          <p:spPr>
            <a:xfrm flipV="1">
              <a:off x="4935600" y="1989000"/>
              <a:ext cx="57780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43"/>
            <p:cNvSpPr/>
            <p:nvPr/>
          </p:nvSpPr>
          <p:spPr>
            <a:xfrm>
              <a:off x="5291280" y="88740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дминистрац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оро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лобод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44"/>
            <p:cNvSpPr/>
            <p:nvPr/>
          </p:nvSpPr>
          <p:spPr>
            <a:xfrm flipV="1">
              <a:off x="4535640" y="1633680"/>
              <a:ext cx="0" cy="89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45"/>
            <p:cNvSpPr/>
            <p:nvPr/>
          </p:nvSpPr>
          <p:spPr>
            <a:xfrm>
              <a:off x="3911760" y="38592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ЦГ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46"/>
            <p:cNvSpPr/>
            <p:nvPr/>
          </p:nvSpPr>
          <p:spPr>
            <a:xfrm>
              <a:off x="3911760" y="2532240"/>
              <a:ext cx="1249200" cy="1249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имназ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615C-D4B8-4321-B128-885433D67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123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а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ат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ор МОУ гимназ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Слободского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god2-2101"/>
          <p:cNvPicPr/>
          <p:nvPr/>
        </p:nvPicPr>
        <p:blipFill>
          <a:blip r:embed="rId1"/>
          <a:stretch/>
        </p:blipFill>
        <p:spPr>
          <a:xfrm>
            <a:off x="6516720" y="33336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эмблема"/>
          <p:cNvPicPr/>
          <p:nvPr/>
        </p:nvPicPr>
        <p:blipFill>
          <a:blip r:embed="rId2"/>
          <a:stretch/>
        </p:blipFill>
        <p:spPr>
          <a:xfrm>
            <a:off x="6588000" y="4508640"/>
            <a:ext cx="2092320" cy="2092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PICT1744(5)"/>
          <p:cNvPicPr/>
          <p:nvPr/>
        </p:nvPicPr>
        <p:blipFill>
          <a:blip r:embed="rId3"/>
          <a:stretch/>
        </p:blipFill>
        <p:spPr>
          <a:xfrm>
            <a:off x="826920" y="1700280"/>
            <a:ext cx="27133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F28D-B917-4A85-A085-813AD25B6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авные задачи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ение выполнения социального заказа на образование на принципах общедоступности, гражданственности, свободного развития личности, предоставление обучающимся на выбор общеобразовательных программ углубленного изучения ряда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оздание условий для развития индивидуальных способностей каждого обучающего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здание условий для самоопределения и саморазвития обучающихся в ходе образовательного процесса, создание основы для осознанного выбора и последующего освоения профессиональных образовательных пр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ормирование навыков самостоятельной учебной деятельности на основе дифференциации обучения, овладения обучающимися знаниями на повышенном уро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Формирование гуманитарного типа мышления обучающихся, навыков творческой и исследовательской деятельности, потребность к саморазвитию и саморе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Формирование у обучающихся навыков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96D9-2CFE-45F5-92EE-63D6412F6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134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началь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начального общего 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ый срок освоения – 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начального общего образования, обеспечивающая дополнительную (углублённую) подготовку обучающихся по предмету иностранный язы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английский, немецкий (2-4 класс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ый срок освоения – 3 года.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эмблема"/>
          <p:cNvPicPr/>
          <p:nvPr/>
        </p:nvPicPr>
        <p:blipFill>
          <a:blip r:embed="rId1"/>
          <a:stretch/>
        </p:blipFill>
        <p:spPr>
          <a:xfrm>
            <a:off x="7308720" y="5300640"/>
            <a:ext cx="151632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CAAD-4BFF-4553-8BEF-BA0720E7D0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ая школа (1-4 клас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ние в начальной школе гимназии осуществляется по развивающей сис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.В. За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SDC10818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эмблема"/>
          <p:cNvPicPr/>
          <p:nvPr/>
        </p:nvPicPr>
        <p:blipFill>
          <a:blip r:embed="rId2"/>
          <a:stretch/>
        </p:blipFill>
        <p:spPr>
          <a:xfrm>
            <a:off x="7308720" y="5229360"/>
            <a:ext cx="1516320" cy="122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D9A4-722A-4F54-8CD1-E740C72385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основ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тивный срок освоения – 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основного общего образования, обеспечивающая дополнительную (углублённую) подготовку обучающихся по предмета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остранный язык: английский, немецкий (5-9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усский язык (5-9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тература (5-9 кла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эмблема"/>
          <p:cNvPicPr/>
          <p:nvPr/>
        </p:nvPicPr>
        <p:blipFill>
          <a:blip r:embed="rId1"/>
          <a:stretch/>
        </p:blipFill>
        <p:spPr>
          <a:xfrm>
            <a:off x="7164360" y="508464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6BA0-751E-4248-BA67-4D2724C96B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среднего (полного)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среднего (полного) общего образования.  Нормативный срок освоения – 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среднего (полного) общего образования, обеспечивающая дополнительную (углублённую) подготовку обучающихся по предметам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остранный язык: английский, немецкий (10-11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усский язык (10-11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тература (10-11 кла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эмблема"/>
          <p:cNvPicPr/>
          <p:nvPr/>
        </p:nvPicPr>
        <p:blipFill>
          <a:blip r:embed="rId1"/>
          <a:stretch/>
        </p:blipFill>
        <p:spPr>
          <a:xfrm>
            <a:off x="7164360" y="508464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EB60-516D-4413-88FF-62344DC8FC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ублённое изучение предметов в 2009-2010 учебном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Diagram 7"/>
          <p:cNvGrpSpPr/>
          <p:nvPr/>
        </p:nvGrpSpPr>
        <p:grpSpPr>
          <a:xfrm>
            <a:off x="2354400" y="1916280"/>
            <a:ext cx="6181560" cy="3868920"/>
            <a:chOff x="2354400" y="1916280"/>
            <a:chExt cx="6181560" cy="3868920"/>
          </a:xfrm>
        </p:grpSpPr>
        <p:sp>
          <p:nvSpPr>
            <p:cNvPr id="155" name="_s2052"/>
            <p:cNvSpPr/>
            <p:nvPr/>
          </p:nvSpPr>
          <p:spPr>
            <a:xfrm flipV="1">
              <a:off x="4017960" y="1943280"/>
              <a:ext cx="1108080" cy="960480"/>
            </a:xfrm>
            <a:custGeom>
              <a:avLst/>
              <a:gdLst>
                <a:gd name="textAreaLeft" fmla="*/ 397440 w 1108080"/>
                <a:gd name="textAreaRight" fmla="*/ 710640 w 1108080"/>
                <a:gd name="textAreaTop" fmla="*/ 344520 h 960480"/>
                <a:gd name="textAreaBottom" fmla="*/ 61596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053"/>
            <p:cNvSpPr/>
            <p:nvPr/>
          </p:nvSpPr>
          <p:spPr>
            <a:xfrm flipV="1">
              <a:off x="3463920" y="2903760"/>
              <a:ext cx="2216160" cy="960480"/>
            </a:xfrm>
            <a:custGeom>
              <a:avLst/>
              <a:gdLst>
                <a:gd name="textAreaLeft" fmla="*/ 487080 w 2216160"/>
                <a:gd name="textAreaRight" fmla="*/ 1729080 w 2216160"/>
                <a:gd name="textAreaTop" fmla="*/ 210960 h 960480"/>
                <a:gd name="textAreaBottom" fmla="*/ 7495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итератур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 чел. (8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2054"/>
            <p:cNvSpPr/>
            <p:nvPr/>
          </p:nvSpPr>
          <p:spPr>
            <a:xfrm flipV="1">
              <a:off x="2908440" y="3864240"/>
              <a:ext cx="3327120" cy="960480"/>
            </a:xfrm>
            <a:custGeom>
              <a:avLst/>
              <a:gdLst>
                <a:gd name="textAreaLeft" fmla="*/ 577440 w 3327120"/>
                <a:gd name="textAreaRight" fmla="*/ 2749680 w 3327120"/>
                <a:gd name="textAreaTop" fmla="*/ 166680 h 960480"/>
                <a:gd name="textAreaBottom" fmla="*/ 79380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усски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1 чел. (13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2055"/>
            <p:cNvSpPr/>
            <p:nvPr/>
          </p:nvSpPr>
          <p:spPr>
            <a:xfrm flipV="1">
              <a:off x="2354400" y="4824720"/>
              <a:ext cx="4435200" cy="960480"/>
            </a:xfrm>
            <a:custGeom>
              <a:avLst/>
              <a:gdLst>
                <a:gd name="textAreaLeft" fmla="*/ 667080 w 4435200"/>
                <a:gd name="textAreaRight" fmla="*/ 3768120 w 4435200"/>
                <a:gd name="textAreaTop" fmla="*/ 144360 h 960480"/>
                <a:gd name="textAreaBottom" fmla="*/ 8161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остранны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27 чел. (61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Picture 20" descr=""/>
            <p:cNvPicPr/>
            <p:nvPr/>
          </p:nvPicPr>
          <p:blipFill>
            <a:blip r:embed="rId1"/>
            <a:stretch/>
          </p:blipFill>
          <p:spPr>
            <a:xfrm>
              <a:off x="7020000" y="1916280"/>
              <a:ext cx="1515960" cy="1227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58D0-A502-420E-9601-25F3A03DC3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бличный доклад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 обеспечения информационной открытости гимназии для участников образовательного процесса, населения города, учредителя (админист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а Слободск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эмблема"/>
          <p:cNvPicPr/>
          <p:nvPr/>
        </p:nvPicPr>
        <p:blipFill>
          <a:blip r:embed="rId1"/>
          <a:stretch/>
        </p:blipFill>
        <p:spPr>
          <a:xfrm>
            <a:off x="6732720" y="4869000"/>
            <a:ext cx="180468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B40B-1B2D-4BA5-B033-E44852597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483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ности програм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ественнонау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-педаг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культурно-спор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ристско-краевед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енно-патрио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дожественно-эсте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j0301252"/>
          <p:cNvPicPr/>
          <p:nvPr/>
        </p:nvPicPr>
        <p:blipFill>
          <a:blip r:embed="rId1"/>
          <a:stretch/>
        </p:blipFill>
        <p:spPr>
          <a:xfrm>
            <a:off x="5867280" y="2952720"/>
            <a:ext cx="280836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3C85-C32C-445D-AAB8-5FA937F3F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ожественно-эстетическая направлен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оформительского дела для обучающихся 1-4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ройка и шитье для обучающихся 5-7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Художественная обработка материалов для обучающихся 5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Учимся играть в театр для обучающихся 5-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j0216516"/>
          <p:cNvPicPr/>
          <p:nvPr/>
        </p:nvPicPr>
        <p:blipFill>
          <a:blip r:embed="rId1"/>
          <a:stretch/>
        </p:blipFill>
        <p:spPr>
          <a:xfrm>
            <a:off x="971640" y="2205000"/>
            <a:ext cx="229392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3EE6-CA80-477F-B259-40ABE6968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 направлен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ир мультимедиа технологий для обучающихся 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информатики для обучающихся 5-6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нформатика в играх и задачах для обучающихся 1 - 4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инженерной графики для обучающихся 8-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Юный радиолюбитель для обучающихся 6-7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j0195384"/>
          <p:cNvPicPr/>
          <p:nvPr/>
        </p:nvPicPr>
        <p:blipFill>
          <a:blip r:embed="rId1"/>
          <a:stretch/>
        </p:blipFill>
        <p:spPr>
          <a:xfrm>
            <a:off x="611280" y="2060640"/>
            <a:ext cx="27352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A335-7744-47B0-A6F5-385F1E5312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ая  образовательная усл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даптация детей дошкольного возраста к условиям школьной жизн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Школа развит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j0216724"/>
          <p:cNvPicPr/>
          <p:nvPr/>
        </p:nvPicPr>
        <p:blipFill>
          <a:blip r:embed="rId1"/>
          <a:stretch/>
        </p:blipFill>
        <p:spPr>
          <a:xfrm>
            <a:off x="1116000" y="2060640"/>
            <a:ext cx="282888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EA62-BB66-4F4A-B43E-11F132F484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Organization Chart 6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178" name="_s3076"/>
            <p:cNvCxnSpPr>
              <a:stCxn id="179" idx="0"/>
              <a:endCxn id="180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3077"/>
            <p:cNvCxnSpPr>
              <a:stCxn id="182" idx="0"/>
              <a:endCxn id="180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3078"/>
            <p:cNvCxnSpPr>
              <a:stCxn id="184" idx="0"/>
              <a:endCxn id="180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3079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циально-психол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лужб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имназ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080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оци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3081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сихол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3082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рганизат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B422-5B5E-467D-B405-B0C9F5F4D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ингент обучающихся в 2009-2010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36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3 класса-комплек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3 мальчика       303 дев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3,5%)                 (56,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5"/>
          <p:cNvSpPr/>
          <p:nvPr/>
        </p:nvSpPr>
        <p:spPr>
          <a:xfrm flipH="1">
            <a:off x="2771280" y="3789360"/>
            <a:ext cx="863640" cy="8636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6"/>
          <p:cNvSpPr/>
          <p:nvPr/>
        </p:nvSpPr>
        <p:spPr>
          <a:xfrm>
            <a:off x="5867280" y="3860640"/>
            <a:ext cx="792360" cy="71928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94C1-350B-4D2B-A1E0-1BF5DFD174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Organization Chart 6"/>
          <p:cNvGrpSpPr/>
          <p:nvPr/>
        </p:nvGrpSpPr>
        <p:grpSpPr>
          <a:xfrm>
            <a:off x="431640" y="239760"/>
            <a:ext cx="8208000" cy="5831640"/>
            <a:chOff x="431640" y="239760"/>
            <a:chExt cx="8208000" cy="5831640"/>
          </a:xfrm>
        </p:grpSpPr>
        <p:cxnSp>
          <p:nvCxnSpPr>
            <p:cNvPr id="192" name="_s4100"/>
            <p:cNvCxnSpPr>
              <a:stCxn id="193" idx="0"/>
              <a:endCxn id="194" idx="2"/>
            </p:cNvCxnSpPr>
            <p:nvPr/>
          </p:nvCxnSpPr>
          <p:spPr>
            <a:xfrm flipV="1">
              <a:off x="6176880" y="1954440"/>
              <a:ext cx="6840" cy="34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4101"/>
            <p:cNvCxnSpPr>
              <a:stCxn id="196" idx="1"/>
              <a:endCxn id="197" idx="2"/>
            </p:cNvCxnSpPr>
            <p:nvPr/>
          </p:nvCxnSpPr>
          <p:spPr>
            <a:xfrm rot="10800000">
              <a:off x="2893320" y="924840"/>
              <a:ext cx="821520" cy="480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4102"/>
            <p:cNvCxnSpPr>
              <a:stCxn id="199" idx="1"/>
              <a:endCxn id="197" idx="2"/>
            </p:cNvCxnSpPr>
            <p:nvPr/>
          </p:nvCxnSpPr>
          <p:spPr>
            <a:xfrm rot="10800000">
              <a:off x="2893320" y="924840"/>
              <a:ext cx="821520" cy="3774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4103"/>
            <p:cNvCxnSpPr>
              <a:stCxn id="201" idx="1"/>
              <a:endCxn id="197" idx="2"/>
            </p:cNvCxnSpPr>
            <p:nvPr/>
          </p:nvCxnSpPr>
          <p:spPr>
            <a:xfrm rot="10800000">
              <a:off x="2893320" y="924840"/>
              <a:ext cx="821520" cy="274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4104"/>
            <p:cNvCxnSpPr>
              <a:stCxn id="194" idx="1"/>
              <a:endCxn id="197" idx="2"/>
            </p:cNvCxnSpPr>
            <p:nvPr/>
          </p:nvCxnSpPr>
          <p:spPr>
            <a:xfrm rot="10800000">
              <a:off x="2893320" y="924840"/>
              <a:ext cx="82152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4105"/>
            <p:cNvSpPr/>
            <p:nvPr/>
          </p:nvSpPr>
          <p:spPr>
            <a:xfrm>
              <a:off x="431640" y="23976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Обучающиеся гимназии из населённы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унктов Слободского район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4106"/>
            <p:cNvSpPr/>
            <p:nvPr/>
          </p:nvSpPr>
          <p:spPr>
            <a:xfrm>
              <a:off x="3714840" y="126864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гт Вахруш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4107"/>
            <p:cNvSpPr/>
            <p:nvPr/>
          </p:nvSpPr>
          <p:spPr>
            <a:xfrm>
              <a:off x="3714840" y="332712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. Центр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4108"/>
            <p:cNvSpPr/>
            <p:nvPr/>
          </p:nvSpPr>
          <p:spPr>
            <a:xfrm>
              <a:off x="3714840" y="435636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. Ильинск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4109"/>
            <p:cNvSpPr/>
            <p:nvPr/>
          </p:nvSpPr>
          <p:spPr>
            <a:xfrm>
              <a:off x="3714840" y="538560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. Салты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4110"/>
            <p:cNvSpPr/>
            <p:nvPr/>
          </p:nvSpPr>
          <p:spPr>
            <a:xfrm>
              <a:off x="3714840" y="229788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. Кари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213E-C29C-4AFE-B3E1-8440C58FFD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жим работы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-дневная учебная нед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 (первая) см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нятия с 8-00, в начальной школе с 8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 классе группа продлённого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ечение учебного года 30 дней каникуля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– 4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мены по 10 минут, для приёма пищи –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9FCF-B183-47F9-9FC9-85E7D37F72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SDC10846 - копия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SDC10844"/>
          <p:cNvPicPr/>
          <p:nvPr/>
        </p:nvPicPr>
        <p:blipFill>
          <a:blip r:embed="rId2"/>
          <a:stretch/>
        </p:blipFill>
        <p:spPr>
          <a:xfrm>
            <a:off x="520524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SDC10842"/>
          <p:cNvPicPr/>
          <p:nvPr/>
        </p:nvPicPr>
        <p:blipFill>
          <a:blip r:embed="rId3"/>
          <a:stretch/>
        </p:blipFill>
        <p:spPr>
          <a:xfrm>
            <a:off x="1042920" y="3933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SDC1084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60F8-7CCD-4403-8567-18D1DE64EF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дицински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SDC1086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DC10863"/>
          <p:cNvPicPr/>
          <p:nvPr/>
        </p:nvPicPr>
        <p:blipFill>
          <a:blip r:embed="rId2"/>
          <a:stretch/>
        </p:blipFill>
        <p:spPr>
          <a:xfrm>
            <a:off x="1655640" y="39387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SDC10861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6865-D16F-466E-B48B-8218985CC3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55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610920" y="0"/>
            <a:ext cx="72723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я г. Слобо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здана 21 м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99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эмблема"/>
          <p:cNvPicPr/>
          <p:nvPr/>
        </p:nvPicPr>
        <p:blipFill>
          <a:blip r:embed="rId2"/>
          <a:stretch/>
        </p:blipFill>
        <p:spPr>
          <a:xfrm>
            <a:off x="6227640" y="4406760"/>
            <a:ext cx="2524320" cy="2451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МОУ Гимназия г"/>
          <p:cNvPicPr/>
          <p:nvPr/>
        </p:nvPicPr>
        <p:blipFill>
          <a:blip r:embed="rId3"/>
          <a:stretch/>
        </p:blipFill>
        <p:spPr>
          <a:xfrm>
            <a:off x="250920" y="1413000"/>
            <a:ext cx="619272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9719-82E5-44A0-9497-452E4234FA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ебные каби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DC1088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SDC10898"/>
          <p:cNvPicPr/>
          <p:nvPr/>
        </p:nvPicPr>
        <p:blipFill>
          <a:blip r:embed="rId2"/>
          <a:stretch/>
        </p:blipFill>
        <p:spPr>
          <a:xfrm>
            <a:off x="5219640" y="162864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SDC10910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SDC10909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ACCF-3901-4D12-86FB-AE0E47DE6A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ые 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SDC10803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SDC107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SDC10789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SDC10791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257B-BAFD-4083-8D95-B734DF4DFE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SDC10885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SDC10890"/>
          <p:cNvPicPr/>
          <p:nvPr/>
        </p:nvPicPr>
        <p:blipFill>
          <a:blip r:embed="rId2"/>
          <a:stretch/>
        </p:blipFill>
        <p:spPr>
          <a:xfrm>
            <a:off x="1655640" y="39387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SDC10903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SDC10875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1B50-8C73-4F26-8773-7A11F57CB9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блиот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SDC1086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SDC10870"/>
          <p:cNvPicPr/>
          <p:nvPr/>
        </p:nvPicPr>
        <p:blipFill>
          <a:blip r:embed="rId2"/>
          <a:stretch/>
        </p:blipFill>
        <p:spPr>
          <a:xfrm>
            <a:off x="5846760" y="16002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SDC10866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SDC10874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6E2E-FAE1-4237-9F52-150230AD6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5"/>
          <p:cNvGraphicFramePr/>
          <p:nvPr/>
        </p:nvGraphicFramePr>
        <p:xfrm>
          <a:off x="1619280" y="18446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446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4BC5-AC4B-4208-BEC2-9A3EE85E0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нятость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468360" y="1773360"/>
          <a:ext cx="867564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67564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EC87-7E4E-4976-98AE-5692E2752F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нятость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и – 107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льцы собственного бизнеса – 107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ники социальной сферы – 187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е – 263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нсионеры – 15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работные – 3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4C87-D8F4-4458-82D3-0BAFC91FF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уктура управл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Organization Chart 5"/>
          <p:cNvGrpSpPr/>
          <p:nvPr/>
        </p:nvGrpSpPr>
        <p:grpSpPr>
          <a:xfrm>
            <a:off x="457200" y="1600200"/>
            <a:ext cx="8229240" cy="4524480"/>
            <a:chOff x="457200" y="1600200"/>
            <a:chExt cx="8229240" cy="4524480"/>
          </a:xfrm>
        </p:grpSpPr>
        <p:cxnSp>
          <p:nvCxnSpPr>
            <p:cNvPr id="255" name="_s7172"/>
            <p:cNvCxnSpPr>
              <a:stCxn id="256" idx="0"/>
              <a:endCxn id="257" idx="2"/>
            </p:cNvCxnSpPr>
            <p:nvPr/>
          </p:nvCxnSpPr>
          <p:spPr>
            <a:xfrm flipV="1" rot="16200000">
              <a:off x="5813280" y="2167920"/>
              <a:ext cx="905400" cy="33879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7173"/>
            <p:cNvCxnSpPr>
              <a:stCxn id="259" idx="0"/>
              <a:endCxn id="257" idx="2"/>
            </p:cNvCxnSpPr>
            <p:nvPr/>
          </p:nvCxnSpPr>
          <p:spPr>
            <a:xfrm flipV="1" rot="16200000">
              <a:off x="4967640" y="3013560"/>
              <a:ext cx="905400" cy="169668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_s7174"/>
            <p:cNvCxnSpPr>
              <a:stCxn id="261" idx="0"/>
              <a:endCxn id="257" idx="2"/>
            </p:cNvCxnSpPr>
            <p:nvPr/>
          </p:nvCxnSpPr>
          <p:spPr>
            <a:xfrm flipV="1" rot="16200000">
              <a:off x="4120560" y="3860640"/>
              <a:ext cx="905400" cy="21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_s7175"/>
            <p:cNvCxnSpPr>
              <a:stCxn id="263" idx="0"/>
              <a:endCxn id="257" idx="2"/>
            </p:cNvCxnSpPr>
            <p:nvPr/>
          </p:nvCxnSpPr>
          <p:spPr>
            <a:xfrm flipH="1" flipV="1" rot="5400000">
              <a:off x="3273480" y="3015000"/>
              <a:ext cx="905400" cy="16938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_s7176"/>
            <p:cNvCxnSpPr>
              <a:stCxn id="265" idx="0"/>
              <a:endCxn id="257" idx="2"/>
            </p:cNvCxnSpPr>
            <p:nvPr/>
          </p:nvCxnSpPr>
          <p:spPr>
            <a:xfrm flipH="1" flipV="1" rot="5400000">
              <a:off x="2425320" y="2166840"/>
              <a:ext cx="905400" cy="3390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7" name="_s7177"/>
            <p:cNvSpPr/>
            <p:nvPr/>
          </p:nvSpPr>
          <p:spPr>
            <a:xfrm>
              <a:off x="3844440" y="160020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иректо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7178"/>
            <p:cNvSpPr/>
            <p:nvPr/>
          </p:nvSpPr>
          <p:spPr>
            <a:xfrm>
              <a:off x="45720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щегимнази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онферен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7179"/>
            <p:cNvSpPr/>
            <p:nvPr/>
          </p:nvSpPr>
          <p:spPr>
            <a:xfrm>
              <a:off x="215172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печительск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7180"/>
            <p:cNvSpPr/>
            <p:nvPr/>
          </p:nvSpPr>
          <p:spPr>
            <a:xfrm>
              <a:off x="384660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бр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рудов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ллекти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7181"/>
            <p:cNvSpPr/>
            <p:nvPr/>
          </p:nvSpPr>
          <p:spPr>
            <a:xfrm>
              <a:off x="554112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едагогическ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7182"/>
            <p:cNvSpPr/>
            <p:nvPr/>
          </p:nvSpPr>
          <p:spPr>
            <a:xfrm>
              <a:off x="7236000" y="4314960"/>
              <a:ext cx="1450440" cy="1809720"/>
            </a:xfrm>
            <a:custGeom>
              <a:avLst/>
              <a:gdLst>
                <a:gd name="textAreaLeft" fmla="*/ 70560 w 1450440"/>
                <a:gd name="textAreaRight" fmla="*/ 1379880 w 1450440"/>
                <a:gd name="textAreaTop" fmla="*/ 70560 h 1809720"/>
                <a:gd name="textAreaBottom" fmla="*/ 1739160 h 1809720"/>
              </a:gdLst>
              <a:ahLst/>
              <a:rect l="textAreaLeft" t="textAreaTop" r="textAreaRight" b="textAreaBottom"/>
              <a:pathLst>
                <a:path w="21600" h="26949">
                  <a:moveTo>
                    <a:pt x="3600" y="0"/>
                  </a:moveTo>
                  <a:arcTo wR="3600" hR="3600" stAng="16200000" swAng="-5400000"/>
                  <a:lnTo>
                    <a:pt x="0" y="23349"/>
                  </a:lnTo>
                  <a:arcTo wR="3600" hR="3600" stAng="10800000" swAng="-5400000"/>
                  <a:lnTo>
                    <a:pt x="18000" y="26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уч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етод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5429-93F5-4BA7-AC1A-EF00714194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печительский со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едатель со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хаил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учих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SDC1001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SDC10015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C25D-DF9E-4EF9-9D1B-EC45999D2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73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педагогических советов в 2009-2010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едагогическое мастерство как средство управления качеством образования гимназиста на основе компетентностно-ориентированного подх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god2-2101"/>
          <p:cNvPicPr/>
          <p:nvPr/>
        </p:nvPicPr>
        <p:blipFill>
          <a:blip r:embed="rId1"/>
          <a:stretch/>
        </p:blipFill>
        <p:spPr>
          <a:xfrm>
            <a:off x="7667640" y="9079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SDC10570"/>
          <p:cNvPicPr/>
          <p:nvPr/>
        </p:nvPicPr>
        <p:blipFill>
          <a:blip r:embed="rId3"/>
          <a:stretch/>
        </p:blipFill>
        <p:spPr>
          <a:xfrm>
            <a:off x="4572000" y="2133720"/>
            <a:ext cx="403848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FC07-67C2-40C0-986D-B994C4B7B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63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468360" y="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и г. Слобод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ят педагогическим со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мназии 27 января 2010 г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окол № 1, утверждена распоряжением администрации города Слободского от 26 февра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 №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эмблема"/>
          <p:cNvPicPr/>
          <p:nvPr/>
        </p:nvPicPr>
        <p:blipFill>
          <a:blip r:embed="rId2"/>
          <a:stretch/>
        </p:blipFill>
        <p:spPr>
          <a:xfrm>
            <a:off x="6372360" y="4406760"/>
            <a:ext cx="2307960" cy="2046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god2-2101"/>
          <p:cNvPicPr/>
          <p:nvPr/>
        </p:nvPicPr>
        <p:blipFill>
          <a:blip r:embed="rId3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эмблема"/>
          <p:cNvPicPr/>
          <p:nvPr/>
        </p:nvPicPr>
        <p:blipFill>
          <a:blip r:embed="rId4"/>
          <a:stretch/>
        </p:blipFill>
        <p:spPr>
          <a:xfrm>
            <a:off x="6372360" y="4437000"/>
            <a:ext cx="230796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C5AE-02EB-4372-8181-AF7F1EF1AA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82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тема заседания педагогического совета (апрель 2010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Гуманистическая направленность личности учителя и его готовность к инновациям как компоненты педагогического мастер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SDC10643"/>
          <p:cNvPicPr/>
          <p:nvPr/>
        </p:nvPicPr>
        <p:blipFill>
          <a:blip r:embed="rId3"/>
          <a:stretch/>
        </p:blipFill>
        <p:spPr>
          <a:xfrm>
            <a:off x="4643280" y="2205000"/>
            <a:ext cx="40388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01DB-4125-4E87-B88C-9A29F4EB3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91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68120"/>
            <a:ext cx="6419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эмблема"/>
          <p:cNvPicPr/>
          <p:nvPr/>
        </p:nvPicPr>
        <p:blipFill>
          <a:blip r:embed="rId2"/>
          <a:stretch/>
        </p:blipFill>
        <p:spPr>
          <a:xfrm>
            <a:off x="250920" y="404640"/>
            <a:ext cx="1515960" cy="1227240"/>
          </a:xfrm>
          <a:prstGeom prst="rect">
            <a:avLst/>
          </a:prstGeom>
          <a:ln w="0">
            <a:noFill/>
          </a:ln>
        </p:spPr>
      </p:pic>
      <p:grpSp>
        <p:nvGrpSpPr>
          <p:cNvPr id="296" name="Organization Chart 8"/>
          <p:cNvGrpSpPr/>
          <p:nvPr/>
        </p:nvGrpSpPr>
        <p:grpSpPr>
          <a:xfrm>
            <a:off x="442800" y="1614600"/>
            <a:ext cx="8208360" cy="4463640"/>
            <a:chOff x="442800" y="1614600"/>
            <a:chExt cx="8208360" cy="4463640"/>
          </a:xfrm>
        </p:grpSpPr>
        <p:cxnSp>
          <p:nvCxnSpPr>
            <p:cNvPr id="297" name="_s8196"/>
            <p:cNvCxnSpPr>
              <a:stCxn id="298" idx="1"/>
              <a:endCxn id="299" idx="2"/>
            </p:cNvCxnSpPr>
            <p:nvPr/>
          </p:nvCxnSpPr>
          <p:spPr>
            <a:xfrm rot="10800000">
              <a:off x="4546080" y="2251440"/>
              <a:ext cx="586800" cy="350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8197"/>
            <p:cNvCxnSpPr>
              <a:stCxn id="301" idx="3"/>
              <a:endCxn id="299" idx="2"/>
            </p:cNvCxnSpPr>
            <p:nvPr/>
          </p:nvCxnSpPr>
          <p:spPr>
            <a:xfrm flipV="1">
              <a:off x="3960720" y="2251800"/>
              <a:ext cx="586800" cy="350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8198"/>
            <p:cNvCxnSpPr>
              <a:stCxn id="303" idx="1"/>
              <a:endCxn id="299" idx="2"/>
            </p:cNvCxnSpPr>
            <p:nvPr/>
          </p:nvCxnSpPr>
          <p:spPr>
            <a:xfrm rot="10800000">
              <a:off x="4546080" y="2251440"/>
              <a:ext cx="586800" cy="255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4" name="_s8199"/>
            <p:cNvCxnSpPr>
              <a:stCxn id="305" idx="3"/>
              <a:endCxn id="299" idx="2"/>
            </p:cNvCxnSpPr>
            <p:nvPr/>
          </p:nvCxnSpPr>
          <p:spPr>
            <a:xfrm flipV="1">
              <a:off x="3960720" y="2251440"/>
              <a:ext cx="586800" cy="255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6" name="_s8200"/>
            <p:cNvCxnSpPr>
              <a:stCxn id="307" idx="1"/>
              <a:endCxn id="299" idx="2"/>
            </p:cNvCxnSpPr>
            <p:nvPr/>
          </p:nvCxnSpPr>
          <p:spPr>
            <a:xfrm rot="10800000">
              <a:off x="4546080" y="2251440"/>
              <a:ext cx="586800" cy="159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8" name="_s8201"/>
            <p:cNvCxnSpPr>
              <a:stCxn id="309" idx="3"/>
              <a:endCxn id="299" idx="2"/>
            </p:cNvCxnSpPr>
            <p:nvPr/>
          </p:nvCxnSpPr>
          <p:spPr>
            <a:xfrm flipV="1">
              <a:off x="3960720" y="2251800"/>
              <a:ext cx="586800" cy="159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0" name="_s8202"/>
            <p:cNvCxnSpPr>
              <a:stCxn id="311" idx="1"/>
              <a:endCxn id="299" idx="2"/>
            </p:cNvCxnSpPr>
            <p:nvPr/>
          </p:nvCxnSpPr>
          <p:spPr>
            <a:xfrm rot="10800000">
              <a:off x="4546080" y="2251440"/>
              <a:ext cx="58680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2" name="_s8203"/>
            <p:cNvCxnSpPr>
              <a:stCxn id="313" idx="3"/>
              <a:endCxn id="299" idx="2"/>
            </p:cNvCxnSpPr>
            <p:nvPr/>
          </p:nvCxnSpPr>
          <p:spPr>
            <a:xfrm flipV="1">
              <a:off x="3960720" y="2251440"/>
              <a:ext cx="58680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8204"/>
            <p:cNvSpPr/>
            <p:nvPr/>
          </p:nvSpPr>
          <p:spPr>
            <a:xfrm>
              <a:off x="2787840" y="161460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Научно-методический сове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_s8205"/>
            <p:cNvSpPr/>
            <p:nvPr/>
          </p:nvSpPr>
          <p:spPr>
            <a:xfrm>
              <a:off x="442800" y="257112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словес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8206"/>
            <p:cNvSpPr/>
            <p:nvPr/>
          </p:nvSpPr>
          <p:spPr>
            <a:xfrm>
              <a:off x="5133240" y="257112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точных нау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8207"/>
            <p:cNvSpPr/>
            <p:nvPr/>
          </p:nvSpPr>
          <p:spPr>
            <a:xfrm>
              <a:off x="442800" y="352764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иностранных язы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_s8208"/>
            <p:cNvSpPr/>
            <p:nvPr/>
          </p:nvSpPr>
          <p:spPr>
            <a:xfrm>
              <a:off x="5133240" y="352764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афедра предметов обществен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эстетического цик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8209"/>
            <p:cNvSpPr/>
            <p:nvPr/>
          </p:nvSpPr>
          <p:spPr>
            <a:xfrm>
              <a:off x="442800" y="448416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естественных нау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_s8210"/>
            <p:cNvSpPr/>
            <p:nvPr/>
          </p:nvSpPr>
          <p:spPr>
            <a:xfrm>
              <a:off x="5133240" y="4484160"/>
              <a:ext cx="35139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афедра начальных класс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_s8211"/>
            <p:cNvSpPr/>
            <p:nvPr/>
          </p:nvSpPr>
          <p:spPr>
            <a:xfrm>
              <a:off x="447120" y="5440680"/>
              <a:ext cx="351324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воспитания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сихоло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8212"/>
            <p:cNvSpPr/>
            <p:nvPr/>
          </p:nvSpPr>
          <p:spPr>
            <a:xfrm>
              <a:off x="5133240" y="5440680"/>
              <a:ext cx="35139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О учителей физическ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8A18-9CE4-41F5-BDFF-0CFEBDFBDB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316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одская инновационная площ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азвитие одарённости гимназиста средствами современного урока в условиях компетентностно-ориентированного 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аучный консультант О.Г. Селиванова, к.п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63076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1" descr="Изображение 010"/>
          <p:cNvPicPr/>
          <p:nvPr/>
        </p:nvPicPr>
        <p:blipFill>
          <a:blip r:embed="rId3"/>
          <a:stretch/>
        </p:blipFill>
        <p:spPr>
          <a:xfrm>
            <a:off x="4648320" y="1989000"/>
            <a:ext cx="417168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98BB-C9C2-445B-A311-D505AB42C6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25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учно-исследовательская лаборатория гимназ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учебно-исследовательской культуры гимназиста как фактор развития его одарён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P5060040"/>
          <p:cNvPicPr/>
          <p:nvPr/>
        </p:nvPicPr>
        <p:blipFill>
          <a:blip r:embed="rId1"/>
          <a:stretch/>
        </p:blipFill>
        <p:spPr>
          <a:xfrm>
            <a:off x="1042920" y="3933720"/>
            <a:ext cx="4033800" cy="2664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0" descr="god2-2101"/>
          <p:cNvPicPr/>
          <p:nvPr/>
        </p:nvPicPr>
        <p:blipFill>
          <a:blip r:embed="rId2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эмблема"/>
          <p:cNvPicPr/>
          <p:nvPr/>
        </p:nvPicPr>
        <p:blipFill>
          <a:blip r:embed="rId3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P5060003"/>
          <p:cNvPicPr/>
          <p:nvPr/>
        </p:nvPicPr>
        <p:blipFill>
          <a:blip r:embed="rId4"/>
          <a:stretch/>
        </p:blipFill>
        <p:spPr>
          <a:xfrm>
            <a:off x="5003640" y="2060640"/>
            <a:ext cx="3384720" cy="3168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3" descr="эмблема"/>
          <p:cNvPicPr/>
          <p:nvPr/>
        </p:nvPicPr>
        <p:blipFill>
          <a:blip r:embed="rId5"/>
          <a:stretch/>
        </p:blipFill>
        <p:spPr>
          <a:xfrm>
            <a:off x="7308720" y="5373720"/>
            <a:ext cx="151632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972E-1CF4-4E2B-A73A-F1F69D745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ическая тема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Развитие одарённости гимназиста средствами современного учебного занятия в условия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етентностно-ориентирован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х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эмблема"/>
          <p:cNvPicPr/>
          <p:nvPr/>
        </p:nvPicPr>
        <p:blipFill>
          <a:blip r:embed="rId1"/>
          <a:stretch/>
        </p:blipFill>
        <p:spPr>
          <a:xfrm>
            <a:off x="7020000" y="4941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2937-0E0D-402E-9F62-D3282FA70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42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й менеджмен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, функц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струмент для производств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ей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god2-2101"/>
          <p:cNvPicPr/>
          <p:nvPr/>
        </p:nvPicPr>
        <p:blipFill>
          <a:blip r:embed="rId1"/>
          <a:stretch/>
        </p:blipFill>
        <p:spPr>
          <a:xfrm>
            <a:off x="6227640" y="333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эмблема"/>
          <p:cNvPicPr/>
          <p:nvPr/>
        </p:nvPicPr>
        <p:blipFill>
          <a:blip r:embed="rId2"/>
          <a:stretch/>
        </p:blipFill>
        <p:spPr>
          <a:xfrm>
            <a:off x="6156360" y="4149720"/>
            <a:ext cx="252396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DDD7-9BC0-406B-BC64-51862374BF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49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7" descr="god2-2101"/>
          <p:cNvPicPr/>
          <p:nvPr/>
        </p:nvPicPr>
        <p:blipFill>
          <a:blip r:embed="rId1"/>
          <a:stretch/>
        </p:blipFill>
        <p:spPr>
          <a:xfrm>
            <a:off x="6443640" y="33336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эмблема"/>
          <p:cNvPicPr/>
          <p:nvPr/>
        </p:nvPicPr>
        <p:blipFill>
          <a:blip r:embed="rId2"/>
          <a:stretch/>
        </p:blipFill>
        <p:spPr>
          <a:xfrm>
            <a:off x="250920" y="260280"/>
            <a:ext cx="1728720" cy="172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Organization Chart 9"/>
          <p:cNvGrpSpPr/>
          <p:nvPr/>
        </p:nvGrpSpPr>
        <p:grpSpPr>
          <a:xfrm>
            <a:off x="539640" y="333360"/>
            <a:ext cx="8135640" cy="5973480"/>
            <a:chOff x="539640" y="333360"/>
            <a:chExt cx="8135640" cy="5973480"/>
          </a:xfrm>
        </p:grpSpPr>
        <p:cxnSp>
          <p:nvCxnSpPr>
            <p:cNvPr id="356" name="_s9220"/>
            <p:cNvCxnSpPr>
              <a:stCxn id="357" idx="0"/>
              <a:endCxn id="358" idx="2"/>
            </p:cNvCxnSpPr>
            <p:nvPr/>
          </p:nvCxnSpPr>
          <p:spPr>
            <a:xfrm flipV="1" rot="16200000">
              <a:off x="5686200" y="1643760"/>
              <a:ext cx="1195200" cy="335160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9" name="_s9221"/>
            <p:cNvCxnSpPr>
              <a:stCxn id="360" idx="0"/>
              <a:endCxn id="358" idx="2"/>
            </p:cNvCxnSpPr>
            <p:nvPr/>
          </p:nvCxnSpPr>
          <p:spPr>
            <a:xfrm flipV="1" rot="16200000">
              <a:off x="4848480" y="2481480"/>
              <a:ext cx="1195200" cy="1676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1" name="_s9222"/>
            <p:cNvCxnSpPr>
              <a:stCxn id="362" idx="0"/>
              <a:endCxn id="358" idx="2"/>
            </p:cNvCxnSpPr>
            <p:nvPr/>
          </p:nvCxnSpPr>
          <p:spPr>
            <a:xfrm flipV="1" rot="16200000">
              <a:off x="4011480" y="3318480"/>
              <a:ext cx="1195200" cy="2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3" name="_s9223"/>
            <p:cNvCxnSpPr>
              <a:stCxn id="364" idx="0"/>
              <a:endCxn id="358" idx="2"/>
            </p:cNvCxnSpPr>
            <p:nvPr/>
          </p:nvCxnSpPr>
          <p:spPr>
            <a:xfrm flipH="1" flipV="1" rot="5400000">
              <a:off x="3173040" y="2481840"/>
              <a:ext cx="1195200" cy="1676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5" name="_s9224"/>
            <p:cNvCxnSpPr>
              <a:stCxn id="366" idx="0"/>
              <a:endCxn id="358" idx="2"/>
            </p:cNvCxnSpPr>
            <p:nvPr/>
          </p:nvCxnSpPr>
          <p:spPr>
            <a:xfrm flipH="1" flipV="1" rot="5400000">
              <a:off x="2335320" y="1644120"/>
              <a:ext cx="1195200" cy="335160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8" name="_s9225"/>
            <p:cNvSpPr/>
            <p:nvPr/>
          </p:nvSpPr>
          <p:spPr>
            <a:xfrm>
              <a:off x="3888360" y="33336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сур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9226"/>
            <p:cNvSpPr/>
            <p:nvPr/>
          </p:nvSpPr>
          <p:spPr>
            <a:xfrm>
              <a:off x="53964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рматив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авов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9227"/>
            <p:cNvSpPr/>
            <p:nvPr/>
          </p:nvSpPr>
          <p:spPr>
            <a:xfrm>
              <a:off x="221508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др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9228"/>
            <p:cNvSpPr/>
            <p:nvPr/>
          </p:nvSpPr>
          <p:spPr>
            <a:xfrm>
              <a:off x="389052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тивацион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9229"/>
            <p:cNvSpPr/>
            <p:nvPr/>
          </p:nvSpPr>
          <p:spPr>
            <a:xfrm>
              <a:off x="556596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инанс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9230"/>
            <p:cNvSpPr/>
            <p:nvPr/>
          </p:nvSpPr>
          <p:spPr>
            <a:xfrm>
              <a:off x="7241400" y="3917520"/>
              <a:ext cx="1433880" cy="2389320"/>
            </a:xfrm>
            <a:custGeom>
              <a:avLst/>
              <a:gdLst>
                <a:gd name="textAreaLeft" fmla="*/ 69840 w 1433880"/>
                <a:gd name="textAreaRight" fmla="*/ 1364040 w 143388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89">
                  <a:moveTo>
                    <a:pt x="3600" y="0"/>
                  </a:moveTo>
                  <a:arcTo wR="3600" hR="3600" stAng="16200000" swAng="-5400000"/>
                  <a:lnTo>
                    <a:pt x="0" y="32389"/>
                  </a:lnTo>
                  <a:arcTo wR="3600" hR="3600" stAng="10800000" swAng="-5400000"/>
                  <a:lnTo>
                    <a:pt x="18000" y="359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уч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тодическ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6D91-AD65-4B4D-88AF-569284A1C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69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468000" y="259920"/>
            <a:ext cx="8064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е прав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педагогическом 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научно-методическом 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методической кафед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научно-исследовательско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б учебном каби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б оплате труда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остные инстру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god2-2101"/>
          <p:cNvPicPr/>
          <p:nvPr/>
        </p:nvPicPr>
        <p:blipFill>
          <a:blip r:embed="rId1"/>
          <a:stretch/>
        </p:blipFill>
        <p:spPr>
          <a:xfrm>
            <a:off x="6443640" y="333360"/>
            <a:ext cx="2160720" cy="1727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0C3C-3DA9-4C79-B107-D5B4FB0854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дровы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сурс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ий коллектив – 61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 % имеют высше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вое учатся в педагогическом вузе заочно, высшее образование по специальности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рь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god2-2101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4806-7105-45E3-980B-53FC8E8E10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лификац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дагогов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god2-2101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1727280"/>
          </a:xfrm>
          <a:prstGeom prst="rect">
            <a:avLst/>
          </a:prstGeom>
          <a:ln w="0">
            <a:noFill/>
          </a:ln>
        </p:spPr>
      </p:pic>
      <p:grpSp>
        <p:nvGrpSpPr>
          <p:cNvPr id="382" name="Organization Chart 10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383" name="_s10244"/>
            <p:cNvCxnSpPr>
              <a:stCxn id="384" idx="0"/>
              <a:endCxn id="385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_s10245"/>
            <p:cNvCxnSpPr>
              <a:stCxn id="387" idx="0"/>
              <a:endCxn id="385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8" name="_s10246"/>
            <p:cNvCxnSpPr>
              <a:stCxn id="389" idx="0"/>
              <a:endCxn id="385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5" name="_s10247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едагог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90%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10248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сш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0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55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10249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рв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31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_s10250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тор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14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EB9F-C060-423E-85F5-D3C2C8660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менения и дополнения в устав гимназии, утверждены постановлением администрации города Слободского от 22 июля 2010 года №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god2-2101"/>
          <p:cNvPicPr/>
          <p:nvPr/>
        </p:nvPicPr>
        <p:blipFill>
          <a:blip r:embed="rId2"/>
          <a:stretch/>
        </p:blipFill>
        <p:spPr>
          <a:xfrm>
            <a:off x="7164360" y="54936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god2-2101"/>
          <p:cNvPicPr/>
          <p:nvPr/>
        </p:nvPicPr>
        <p:blipFill>
          <a:blip r:embed="rId3"/>
          <a:stretch/>
        </p:blipFill>
        <p:spPr>
          <a:xfrm>
            <a:off x="7093080" y="620640"/>
            <a:ext cx="165564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god2-2101"/>
          <p:cNvPicPr/>
          <p:nvPr/>
        </p:nvPicPr>
        <p:blipFill>
          <a:blip r:embed="rId4"/>
          <a:stretch/>
        </p:blipFill>
        <p:spPr>
          <a:xfrm>
            <a:off x="7020000" y="69228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эмблема"/>
          <p:cNvPicPr/>
          <p:nvPr/>
        </p:nvPicPr>
        <p:blipFill>
          <a:blip r:embed="rId5"/>
          <a:stretch/>
        </p:blipFill>
        <p:spPr>
          <a:xfrm>
            <a:off x="6372360" y="4437000"/>
            <a:ext cx="230796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A058-C092-4237-BB8E-2D175EE28A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ж работы педагого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5"/>
          <p:cNvGraphicFramePr/>
          <p:nvPr/>
        </p:nvGraphicFramePr>
        <p:xfrm>
          <a:off x="479520" y="162864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62864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40BA-1DD1-4D81-AC19-16C8491765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96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служенные учите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god2-2101"/>
          <p:cNvPicPr/>
          <p:nvPr/>
        </p:nvPicPr>
        <p:blipFill>
          <a:blip r:embed="rId1"/>
          <a:stretch/>
        </p:blipFill>
        <p:spPr>
          <a:xfrm>
            <a:off x="7020000" y="33336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Сергеева"/>
          <p:cNvPicPr/>
          <p:nvPr/>
        </p:nvPicPr>
        <p:blipFill>
          <a:blip r:embed="rId3"/>
          <a:stretch/>
        </p:blipFill>
        <p:spPr>
          <a:xfrm>
            <a:off x="826920" y="1700280"/>
            <a:ext cx="1524240" cy="2031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Копысова - копия"/>
          <p:cNvPicPr/>
          <p:nvPr/>
        </p:nvPicPr>
        <p:blipFill>
          <a:blip r:embed="rId4"/>
          <a:stretch/>
        </p:blipFill>
        <p:spPr>
          <a:xfrm>
            <a:off x="3276720" y="1700280"/>
            <a:ext cx="1582560" cy="20160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2" descr="IMG 043"/>
          <p:cNvPicPr/>
          <p:nvPr/>
        </p:nvPicPr>
        <p:blipFill>
          <a:blip r:embed="rId5"/>
          <a:stretch/>
        </p:blipFill>
        <p:spPr>
          <a:xfrm>
            <a:off x="5292720" y="162864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" descr="1Двоеглазова ТЛ"/>
          <p:cNvPicPr/>
          <p:nvPr/>
        </p:nvPicPr>
        <p:blipFill>
          <a:blip r:embed="rId6"/>
          <a:stretch/>
        </p:blipFill>
        <p:spPr>
          <a:xfrm>
            <a:off x="1476360" y="4365720"/>
            <a:ext cx="1584360" cy="2016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Фото Мурина"/>
          <p:cNvPicPr/>
          <p:nvPr/>
        </p:nvPicPr>
        <p:blipFill>
          <a:blip r:embed="rId7"/>
          <a:stretch/>
        </p:blipFill>
        <p:spPr>
          <a:xfrm>
            <a:off x="4643280" y="436572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8"/>
          <p:cNvSpPr/>
          <p:nvPr/>
        </p:nvSpPr>
        <p:spPr>
          <a:xfrm>
            <a:off x="755640" y="39337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.П. Сергеева           Л.А. Копысова       Н.А. Сит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0"/>
          <p:cNvSpPr/>
          <p:nvPr/>
        </p:nvSpPr>
        <p:spPr>
          <a:xfrm flipH="1" flipV="1" rot="10800000">
            <a:off x="1114920" y="6307560"/>
            <a:ext cx="532764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Л. Двоеглазова                 Т. Л. Му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D5DE-6359-4E0A-A154-E350B71BB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411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НПО-2010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курс уч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никова Ни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2" descr="IMG 043"/>
          <p:cNvPicPr/>
          <p:nvPr/>
        </p:nvPicPr>
        <p:blipFill>
          <a:blip r:embed="rId3"/>
          <a:stretch/>
        </p:blipFill>
        <p:spPr>
          <a:xfrm>
            <a:off x="5430960" y="1557360"/>
            <a:ext cx="2957400" cy="3672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символика ПНПО"/>
          <p:cNvPicPr/>
          <p:nvPr/>
        </p:nvPicPr>
        <p:blipFill>
          <a:blip r:embed="rId4"/>
          <a:stretch/>
        </p:blipFill>
        <p:spPr>
          <a:xfrm>
            <a:off x="1763640" y="333360"/>
            <a:ext cx="1441440" cy="102060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D4C2-B1B9-4798-81D7-65F6640956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курс школьных учителей Фонда Дмитрия Зимина – 201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минация  «Наставник будущих учёны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слов Анатолий Дмитри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5" descr="P9010061"/>
          <p:cNvPicPr/>
          <p:nvPr/>
        </p:nvPicPr>
        <p:blipFill>
          <a:blip r:embed="rId1"/>
          <a:stretch/>
        </p:blipFill>
        <p:spPr>
          <a:xfrm>
            <a:off x="663480" y="1600200"/>
            <a:ext cx="3624480" cy="4525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god2-2101"/>
          <p:cNvPicPr/>
          <p:nvPr/>
        </p:nvPicPr>
        <p:blipFill>
          <a:blip r:embed="rId2"/>
          <a:stretch/>
        </p:blipFill>
        <p:spPr>
          <a:xfrm>
            <a:off x="7093080" y="5013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272E-6D9B-4835-A337-30EF72AB5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ластная премия для учителей начальных классо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. А.Н. Тепляшиной -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сникова Татьяна Александро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PC120057"/>
          <p:cNvPicPr/>
          <p:nvPr/>
        </p:nvPicPr>
        <p:blipFill>
          <a:blip r:embed="rId1"/>
          <a:stretch/>
        </p:blipFill>
        <p:spPr>
          <a:xfrm>
            <a:off x="755640" y="2060640"/>
            <a:ext cx="3168720" cy="4093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god2-2101"/>
          <p:cNvPicPr/>
          <p:nvPr/>
        </p:nvPicPr>
        <p:blipFill>
          <a:blip r:embed="rId2"/>
          <a:stretch/>
        </p:blipFill>
        <p:spPr>
          <a:xfrm>
            <a:off x="7164360" y="4797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5EBF-9CE1-4B11-A537-AEA3A746DD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ой конкур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ои инновации» -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плома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еп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одкина В.Б, Колесникова Т.А., учителя начальных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оусова Т.В., учитель иностранн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SDC10793"/>
          <p:cNvPicPr/>
          <p:nvPr/>
        </p:nvPicPr>
        <p:blipFill>
          <a:blip r:embed="rId1"/>
          <a:stretch/>
        </p:blipFill>
        <p:spPr>
          <a:xfrm>
            <a:off x="1692360" y="1628640"/>
            <a:ext cx="1655640" cy="2186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god2-2101"/>
          <p:cNvPicPr/>
          <p:nvPr/>
        </p:nvPicPr>
        <p:blipFill>
          <a:blip r:embed="rId2"/>
          <a:stretch/>
        </p:blipFill>
        <p:spPr>
          <a:xfrm>
            <a:off x="0" y="563400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эмблема"/>
          <p:cNvPicPr/>
          <p:nvPr/>
        </p:nvPicPr>
        <p:blipFill>
          <a:blip r:embed="rId3"/>
          <a:stretch/>
        </p:blipFill>
        <p:spPr>
          <a:xfrm>
            <a:off x="7628040" y="563076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"/>
          <p:cNvPicPr/>
          <p:nvPr/>
        </p:nvPicPr>
        <p:blipFill>
          <a:blip r:embed="rId4"/>
          <a:stretch/>
        </p:blipFill>
        <p:spPr>
          <a:xfrm>
            <a:off x="1763640" y="4005360"/>
            <a:ext cx="15843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E622-F790-4331-9D19-8126CDA585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ой конкурс «Лучший по профессии-2010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Лучший педагог общего образов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еглазова Тамара Леонидовна, учитель хи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Рисунок 1" descr="1Двоеглазова ТЛ"/>
          <p:cNvPicPr/>
          <p:nvPr/>
        </p:nvPicPr>
        <p:blipFill>
          <a:blip r:embed="rId1"/>
          <a:stretch/>
        </p:blipFill>
        <p:spPr>
          <a:xfrm>
            <a:off x="1487520" y="2379600"/>
            <a:ext cx="1977840" cy="2967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god2-2101"/>
          <p:cNvPicPr/>
          <p:nvPr/>
        </p:nvPicPr>
        <p:blipFill>
          <a:blip r:embed="rId2"/>
          <a:stretch/>
        </p:blipFill>
        <p:spPr>
          <a:xfrm>
            <a:off x="324000" y="563400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эмблема"/>
          <p:cNvPicPr/>
          <p:nvPr/>
        </p:nvPicPr>
        <p:blipFill>
          <a:blip r:embed="rId3"/>
          <a:stretch/>
        </p:blipFill>
        <p:spPr>
          <a:xfrm>
            <a:off x="762804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8386-14A0-44FD-B940-780EFB03A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ководители городских методических объедин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банова Н.Л. – учителей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.П.- учителей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.Ф. – учителей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шкарёва Т.Ю. – заместителей директоров по воспитате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анова З.А. – директоров школ и УД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6630-DD52-48CB-BA5C-A6F24B3C1D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47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ружные методические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9280" y="155736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8360" y="3933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математи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льга Фёд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русского языка и литератур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оя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9" descr="god2-2101"/>
          <p:cNvPicPr/>
          <p:nvPr/>
        </p:nvPicPr>
        <p:blipFill>
          <a:blip r:embed="rId1"/>
          <a:stretch/>
        </p:blipFill>
        <p:spPr>
          <a:xfrm>
            <a:off x="7667640" y="9079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0" descr="эмблема"/>
          <p:cNvPicPr/>
          <p:nvPr/>
        </p:nvPicPr>
        <p:blipFill>
          <a:blip r:embed="rId2"/>
          <a:stretch/>
        </p:blipFill>
        <p:spPr>
          <a:xfrm>
            <a:off x="716436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DSC_4325"/>
          <p:cNvPicPr/>
          <p:nvPr/>
        </p:nvPicPr>
        <p:blipFill>
          <a:blip r:embed="rId3"/>
          <a:stretch/>
        </p:blipFill>
        <p:spPr>
          <a:xfrm rot="719400">
            <a:off x="611280" y="1341000"/>
            <a:ext cx="2089080" cy="2303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2" descr="Сергеева"/>
          <p:cNvPicPr/>
          <p:nvPr/>
        </p:nvPicPr>
        <p:blipFill>
          <a:blip r:embed="rId4"/>
          <a:stretch/>
        </p:blipFill>
        <p:spPr>
          <a:xfrm rot="1130400">
            <a:off x="1076040" y="4081320"/>
            <a:ext cx="1882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9707-BDBB-4B5F-A14B-51A407196E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стные семинары для  учителей иностранн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7" descr="DSCN6202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DSCN6209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CFC1-4494-4307-9995-5233441F3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цензия на право осуществления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лицензия новая"/>
          <p:cNvPicPr/>
          <p:nvPr/>
        </p:nvPicPr>
        <p:blipFill>
          <a:blip r:embed="rId1"/>
          <a:stretch/>
        </p:blipFill>
        <p:spPr>
          <a:xfrm>
            <a:off x="920880" y="1600200"/>
            <a:ext cx="311148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к  действия лицензии – до 21 июня 2016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8E63-2303-4069-BDFB-48B1A1BD6F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ие семинары по работе начальн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P128005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P1280050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88F3-D6A3-458A-9244-6DC21B96EF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региональная научно-практическая конференция учителей иностранн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ипина Елена Пав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информационной компетентности обучающихся посредством перекодирования информа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6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1811520" cy="2790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god2-2101"/>
          <p:cNvPicPr/>
          <p:nvPr/>
        </p:nvPicPr>
        <p:blipFill>
          <a:blip r:embed="rId2"/>
          <a:stretch/>
        </p:blipFill>
        <p:spPr>
          <a:xfrm>
            <a:off x="539640" y="5229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201F-104C-4243-B4B5-584E7E53A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региональная научно-практическая конференция учителей иностранн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сева Анжелик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Игра как форма организации познавательной деятельности младших школьников на уроках английского язы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god2-2101"/>
          <p:cNvPicPr/>
          <p:nvPr/>
        </p:nvPicPr>
        <p:blipFill>
          <a:blip r:embed="rId1"/>
          <a:stretch/>
        </p:blipFill>
        <p:spPr>
          <a:xfrm>
            <a:off x="250920" y="53737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7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2735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2275-F15C-4D49-9A32-2A2A7843D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дународн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аучно-практическая конфере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ина Тамар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спитание чувств школьников через применение авторского песенного репертуара на уроках музы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god2-2101"/>
          <p:cNvPicPr/>
          <p:nvPr/>
        </p:nvPicPr>
        <p:blipFill>
          <a:blip r:embed="rId1"/>
          <a:stretch/>
        </p:blipFill>
        <p:spPr>
          <a:xfrm>
            <a:off x="3995640" y="53737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Фото Мурина"/>
          <p:cNvPicPr/>
          <p:nvPr/>
        </p:nvPicPr>
        <p:blipFill>
          <a:blip r:embed="rId2"/>
          <a:stretch/>
        </p:blipFill>
        <p:spPr>
          <a:xfrm>
            <a:off x="900000" y="1628640"/>
            <a:ext cx="3106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EADA-5482-4DBD-91DF-E7D6E86A12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о-коммуникацион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7" descr="SDC10789 - копия"/>
          <p:cNvPicPr/>
          <p:nvPr/>
        </p:nvPicPr>
        <p:blipFill>
          <a:blip r:embed="rId1"/>
          <a:stretch/>
        </p:blipFill>
        <p:spPr>
          <a:xfrm>
            <a:off x="714240" y="1600200"/>
            <a:ext cx="3522960" cy="21859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SDC10895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SDC10910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0C1F-E5A3-4D40-A8CA-0F3BB8796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gmz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mslob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айт).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494172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D5E2-5B41-434C-BC20-F63F60AF99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дминистрация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5" descr="P9010079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37D9-DF68-4AA2-A557-EAC45E867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ллектив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5" descr="Новый рисунок"/>
          <p:cNvPicPr/>
          <p:nvPr/>
        </p:nvPicPr>
        <p:blipFill>
          <a:blip r:embed="rId1"/>
          <a:stretch/>
        </p:blipFill>
        <p:spPr>
          <a:xfrm>
            <a:off x="1281240" y="1604880"/>
            <a:ext cx="658008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A52F-90AA-47BE-84B6-8AAEBE63F7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зультаты учебной 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ваемость – 1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чество знаний (на «4» и «5»)- 69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2EFF-A9DB-40BF-92AF-E7A25DB0D8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48 выпускников получили аттестаты, 2 из них – особого образ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 отличие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 – только с отметками «4» и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42C4-3784-43E3-91D0-A21432A544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идетельство о государственной аккреди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свидеьельство"/>
          <p:cNvPicPr/>
          <p:nvPr/>
        </p:nvPicPr>
        <p:blipFill>
          <a:blip r:embed="rId1"/>
          <a:stretch/>
        </p:blipFill>
        <p:spPr>
          <a:xfrm>
            <a:off x="905040" y="1628640"/>
            <a:ext cx="31654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свидеьельство2"/>
          <p:cNvPicPr/>
          <p:nvPr/>
        </p:nvPicPr>
        <p:blipFill>
          <a:blip r:embed="rId2"/>
          <a:stretch/>
        </p:blipFill>
        <p:spPr>
          <a:xfrm>
            <a:off x="5068800" y="1628640"/>
            <a:ext cx="3186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5F10-3620-48D0-AC7B-15FD791B3B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 класс – единый государственный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о – математика, 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CF8F-40F5-4A38-B46A-7D7E912CC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востребованы как предметы по выбо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знание – 24 чел. (6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ка – 14 чел. (3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 – 9 чел. (23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ADC0-8C37-4F97-A078-A43CA38156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Object 4"/>
          <p:cNvGraphicFramePr/>
          <p:nvPr/>
        </p:nvGraphicFramePr>
        <p:xfrm>
          <a:off x="395280" y="233208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3208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9A38-FCE4-49EB-ABD8-268566424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5"/>
          <p:cNvGraphicFramePr/>
          <p:nvPr/>
        </p:nvGraphicFramePr>
        <p:xfrm>
          <a:off x="468360" y="233208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3208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D020-F52C-4779-84A8-BF1EB8AF0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алисты – 2010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выпускников (30%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- золо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- серебря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4"/>
          <p:cNvGraphicFramePr/>
          <p:nvPr/>
        </p:nvGraphicFramePr>
        <p:xfrm>
          <a:off x="468360" y="2332080"/>
          <a:ext cx="8205840" cy="41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32080"/>
                    <a:ext cx="8205840" cy="4192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DBBA-04C0-44CF-AE48-6371B7AF2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алисты гимназии с 1995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4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7807-28EF-4A6E-8743-1A1DFAF5F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ольный этап Всероссийской олимпиады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йтинг востребованности предме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а – 136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й язык – 13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глийский язык – 114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– 93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ка – 9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я – 81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 – 7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0E3F-85E3-4558-9A46-9901F4BA97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ональный этап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бедители и призё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логия – Копылов Кири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О.Ю. Михе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Литература – Блин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З.П. Серге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Русский язык – Силин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Копысова Л.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Химия - Копылов Кири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Т.Л. Двоеглаз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E219-741D-4F2E-B720-565FD5A6B5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лючительный этап Всероссийской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пылов Кир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еглазова Т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копылов кирилл"/>
          <p:cNvPicPr/>
          <p:nvPr/>
        </p:nvPicPr>
        <p:blipFill>
          <a:blip r:embed="rId1"/>
          <a:stretch/>
        </p:blipFill>
        <p:spPr>
          <a:xfrm>
            <a:off x="838080" y="1600200"/>
            <a:ext cx="3275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7DED-3CF5-4723-90AE-57FC520F70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бедитель Всероссийской олимпиады по Основам православно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исимов Евг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йсина Л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анисимов евгений"/>
          <p:cNvPicPr/>
          <p:nvPr/>
        </p:nvPicPr>
        <p:blipFill>
          <a:blip r:embed="rId1"/>
          <a:stretch/>
        </p:blipFill>
        <p:spPr>
          <a:xfrm>
            <a:off x="838080" y="1600200"/>
            <a:ext cx="3275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D499-6CC5-4A08-9046-434888765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ный сте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DC10888"/>
          <p:cNvPicPr/>
          <p:nvPr/>
        </p:nvPicPr>
        <p:blipFill>
          <a:blip r:embed="rId1"/>
          <a:stretch/>
        </p:blipFill>
        <p:spPr>
          <a:xfrm>
            <a:off x="2465280" y="1600200"/>
            <a:ext cx="4213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DE42-07C7-4981-9F2A-A4D874B5F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сты-стипендиа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илл Копылов – Стипендиат Правительства Кировской области, Детского фонда, администрации города Слобод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Анисимов Евгений - Стипендиат Правительства Кировской области,  администрации города Слободск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ладимирова Екатерина – Стипендиат Детского фо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F71D-6055-4472-9AAA-A91218A4FB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должение образования выпускников гимназии -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5 % выпускников 2010 года (38 из 4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упили в высшие учебные за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ГУ им. Ломоносова (Карпова Елена), Московский педагогический государственный университет (Силина Екатерина), Московская академия МЧС (Вылегжанин Максим), Санкт-Петербургская государственная медицинская академия им. Мечникова (Волкова Ксения), ГУ – высшая школа экономики (Барышникова Анастасия)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59B8-427E-4F1F-90EA-C76C4950FC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работы  по 6 позици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общест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знан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тр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екрасн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93C0-31E7-4499-AB98-31B897FB62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гимназ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7" descr="DSC01831"/>
          <p:cNvPicPr/>
          <p:nvPr/>
        </p:nvPicPr>
        <p:blipFill>
          <a:blip r:embed="rId1"/>
          <a:stretch/>
        </p:blipFill>
        <p:spPr>
          <a:xfrm>
            <a:off x="324000" y="1268280"/>
            <a:ext cx="3489120" cy="27622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Новый рисунок (7)"/>
          <p:cNvPicPr/>
          <p:nvPr/>
        </p:nvPicPr>
        <p:blipFill>
          <a:blip r:embed="rId2"/>
          <a:stretch/>
        </p:blipFill>
        <p:spPr>
          <a:xfrm>
            <a:off x="1100160" y="3938760"/>
            <a:ext cx="275112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1FF9-EA6F-4968-96C6-981E70AC1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5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беды в В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дравление ветер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6" descr="IMG_0013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78FB-727D-410A-954E-91A62A00D5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IMG_0032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IMG_0030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316B-2E67-4F91-AEA8-5791BF7C6B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7" descr="Новый рисунок (1)"/>
          <p:cNvPicPr/>
          <p:nvPr/>
        </p:nvPicPr>
        <p:blipFill>
          <a:blip r:embed="rId1"/>
          <a:stretch/>
        </p:blipFill>
        <p:spPr>
          <a:xfrm>
            <a:off x="1022400" y="1600200"/>
            <a:ext cx="2908080" cy="2185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Новый рисунок (2)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SDC10901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2" descr="SDC1086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8787-7320-4F36-A124-4FE9FDCB2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Новый рисунок"/>
          <p:cNvPicPr/>
          <p:nvPr/>
        </p:nvPicPr>
        <p:blipFill>
          <a:blip r:embed="rId1"/>
          <a:stretch/>
        </p:blipFill>
        <p:spPr>
          <a:xfrm>
            <a:off x="2340000" y="1773360"/>
            <a:ext cx="511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C9F5-A426-4B70-AD9B-474E3F16D5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7" descr="Новый рисунок (6)"/>
          <p:cNvPicPr/>
          <p:nvPr/>
        </p:nvPicPr>
        <p:blipFill>
          <a:blip r:embed="rId1"/>
          <a:stretch/>
        </p:blipFill>
        <p:spPr>
          <a:xfrm>
            <a:off x="1074600" y="1600200"/>
            <a:ext cx="2803680" cy="2185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8" descr="Новый рисунок (5)"/>
          <p:cNvPicPr/>
          <p:nvPr/>
        </p:nvPicPr>
        <p:blipFill>
          <a:blip r:embed="rId2"/>
          <a:stretch/>
        </p:blipFill>
        <p:spPr>
          <a:xfrm>
            <a:off x="1081080" y="3938760"/>
            <a:ext cx="2790720" cy="2187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9" descr="Новый рисунок (3)"/>
          <p:cNvPicPr/>
          <p:nvPr/>
        </p:nvPicPr>
        <p:blipFill>
          <a:blip r:embed="rId3"/>
          <a:stretch/>
        </p:blipFill>
        <p:spPr>
          <a:xfrm>
            <a:off x="4881600" y="2505240"/>
            <a:ext cx="356220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43A2-0FEF-473E-903E-D4265846A9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ортивная жиз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есто в спартакиаде школьников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есто в Губернаторских состяза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A1CA-0535-4A71-93B2-2338CA115F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а развития МОУ гимназии г. Слобод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ство к действию для педагогического коллектива гимназии на 2005-2010 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стратегические и тактические цели, а также задачи развития гимназии на данный период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основные направления политики гимназии в связи с социальным заказом и прогнозом его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эмблема"/>
          <p:cNvPicPr/>
          <p:nvPr/>
        </p:nvPicPr>
        <p:blipFill>
          <a:blip r:embed="rId1"/>
          <a:stretch/>
        </p:blipFill>
        <p:spPr>
          <a:xfrm>
            <a:off x="7308720" y="5157720"/>
            <a:ext cx="14432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6C49-14C4-4B63-BC55-6BB39C4B2D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 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тей посещают объединения по интересам в гимназ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 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тей посещают городские учреждения дополнительн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8A85-E3C4-486A-A4A8-1D4A15E975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доровьесбере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Object 4"/>
          <p:cNvGraphicFramePr/>
          <p:nvPr/>
        </p:nvGraphicFramePr>
        <p:xfrm>
          <a:off x="539640" y="1557360"/>
          <a:ext cx="405144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405144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2009-2010 учебном году 64,6 % обучающихся имели отклонения в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0D84-94F2-4AEE-AD0C-4F978B7FA6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циальная активность и внешние связи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мназия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 гимназического союза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 ассоциации инновационных учреждений Киров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F627-E0FB-4DCF-BC16-6DDC4ED06D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международного обмена школьниками по линии Американских советов по образованию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SL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0" descr="SDC1053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1" descr="SDC10139"/>
          <p:cNvPicPr/>
          <p:nvPr/>
        </p:nvPicPr>
        <p:blipFill>
          <a:blip r:embed="rId2"/>
          <a:stretch/>
        </p:blipFill>
        <p:spPr>
          <a:xfrm>
            <a:off x="5846760" y="16002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SDC10180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3" descr="DSC03315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4CAF-06A3-46A9-8BAF-9DE522BC5D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я  в С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174920" cy="2691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5329080" cy="3421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2381040" cy="25207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"/>
          <p:cNvPicPr/>
          <p:nvPr/>
        </p:nvPicPr>
        <p:blipFill>
          <a:blip r:embed="rId5"/>
          <a:stretch/>
        </p:blipFill>
        <p:spPr>
          <a:xfrm>
            <a:off x="1692360" y="2708280"/>
            <a:ext cx="3887640" cy="28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E56D-D417-41CA-9E42-800D39FBD2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С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1" descr=""/>
          <p:cNvPicPr/>
          <p:nvPr/>
        </p:nvPicPr>
        <p:blipFill>
          <a:blip r:embed="rId1"/>
          <a:stretch/>
        </p:blipFill>
        <p:spPr>
          <a:xfrm>
            <a:off x="1494000" y="1600200"/>
            <a:ext cx="6154560" cy="45259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god2-2101"/>
          <p:cNvPicPr/>
          <p:nvPr/>
        </p:nvPicPr>
        <p:blipFill>
          <a:blip r:embed="rId2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3" descr="эмблема"/>
          <p:cNvPicPr/>
          <p:nvPr/>
        </p:nvPicPr>
        <p:blipFill>
          <a:blip r:embed="rId3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4" descr="эмблема"/>
          <p:cNvPicPr/>
          <p:nvPr/>
        </p:nvPicPr>
        <p:blipFill>
          <a:blip r:embed="rId4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5" descr="эмблема"/>
          <p:cNvPicPr/>
          <p:nvPr/>
        </p:nvPicPr>
        <p:blipFill>
          <a:blip r:embed="rId5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4503-0336-466C-949C-77DA1AACE5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юджетная смета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бвенция на                   Муницип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изацию                       составля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дарта об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6"/>
          <p:cNvSpPr/>
          <p:nvPr/>
        </p:nvSpPr>
        <p:spPr>
          <a:xfrm flipH="1">
            <a:off x="2771280" y="1916280"/>
            <a:ext cx="1584360" cy="158580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7"/>
          <p:cNvSpPr/>
          <p:nvPr/>
        </p:nvSpPr>
        <p:spPr>
          <a:xfrm>
            <a:off x="4427640" y="1916280"/>
            <a:ext cx="1584360" cy="14414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CE5B-1D31-4CFD-8B76-C95F257E5D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Organization Chart 7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618" name="_s17412"/>
            <p:cNvCxnSpPr>
              <a:stCxn id="619" idx="0"/>
              <a:endCxn id="620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1" name="_s17413"/>
            <p:cNvCxnSpPr>
              <a:stCxn id="622" idx="0"/>
              <a:endCxn id="620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20" name="_s17414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субвенц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17415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Оплата труд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17416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Учебны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расх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D61C-4E5D-4FCE-B05E-8B52D4EE67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Учебные расходы»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ики, учебные пособия (наглядность), учебное оборудование, в том числе компьютеры, подписка на периодическую печать по отрасли «Образование»,  повышение квалификации педагогов (курсы), канцелярские това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10 году перечень возможных расходов был дополнен учебной мебелью (столы и стуль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83F7-1B41-459E-B215-D2A2AFB068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Organization Chart 8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628" name="_s18436"/>
            <p:cNvCxnSpPr>
              <a:stCxn id="629" idx="0"/>
              <a:endCxn id="630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1" name="_s18437"/>
            <p:cNvCxnSpPr>
              <a:stCxn id="632" idx="0"/>
              <a:endCxn id="630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3" name="_s18438"/>
            <p:cNvCxnSpPr>
              <a:stCxn id="634" idx="0"/>
              <a:endCxn id="630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0" name="_s18439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рмати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нанс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_s18440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чаль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9056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_s18441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нов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4269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18442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редня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752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8:53:03Z</dcterms:created>
  <dc:creator>user1</dc:creator>
  <dc:description/>
  <dc:language>en-US</dc:language>
  <cp:lastModifiedBy>Пользователь Windows</cp:lastModifiedBy>
  <dcterms:modified xsi:type="dcterms:W3CDTF">2013-04-29T11:52:07Z</dcterms:modified>
  <cp:revision>43</cp:revision>
  <dc:subject/>
  <dc:title>Слайд 1</dc:title>
</cp:coreProperties>
</file>