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07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wmf" ContentType="image/x-wmf"/>
  <Override PartName="/ppt/media/image47.jpeg" ContentType="image/jpeg"/>
  <Override PartName="/ppt/media/image90.wmf" ContentType="image/x-wmf"/>
  <Override PartName="/ppt/media/image46.jpeg" ContentType="image/jpeg"/>
  <Override PartName="/ppt/media/image80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48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3.wmf" ContentType="image/x-wmf"/>
  <Override PartName="/ppt/media/image41.jpeg" ContentType="image/jpeg"/>
  <Override PartName="/ppt/media/image120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72.wmf" ContentType="image/x-wmf"/>
  <Override PartName="/ppt/media/image8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7.jpeg" ContentType="image/jpeg"/>
  <Override PartName="/ppt/media/image88.wmf" ContentType="image/x-wmf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89.wmf" ContentType="image/x-wmf"/>
  <Override PartName="/ppt/media/image14.jpeg" ContentType="image/jpeg"/>
  <Override PartName="/ppt/media/image70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6.jpeg" ContentType="image/jpeg"/>
  <Override PartName="/ppt/media/image83.jpeg" ContentType="image/jpeg"/>
  <Override PartName="/ppt/media/image95.png" ContentType="image/png"/>
  <Override PartName="/ppt/media/image110.jpeg" ContentType="image/jpeg"/>
  <Override PartName="/ppt/media/image91.wmf" ContentType="image/x-wmf"/>
  <Override PartName="/ppt/media/image93.jpeg" ContentType="image/jpeg"/>
  <Override PartName="/ppt/media/image121.jpeg" ContentType="image/jpeg"/>
  <Override PartName="/ppt/media/image115.jpeg" ContentType="image/jpeg"/>
  <Override PartName="/ppt/media/image75.jpeg" ContentType="image/jpeg"/>
  <Override PartName="/ppt/media/image105.png" ContentType="image/png"/>
  <Override PartName="/ppt/media/image111.jpeg" ContentType="image/jpeg"/>
  <Override PartName="/ppt/media/image94.jpeg" ContentType="image/jpeg"/>
  <Override PartName="/ppt/media/image59.wmf" ContentType="image/x-wmf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02.jpeg" ContentType="image/jpeg"/>
  <Override PartName="/ppt/media/image82.jpeg" ContentType="image/jpeg"/>
  <Override PartName="/ppt/media/image119.jpeg" ContentType="image/jpeg"/>
  <Override PartName="/ppt/media/image99.png" ContentType="image/png"/>
  <Override PartName="/ppt/media/image104.png" ContentType="image/png"/>
  <Override PartName="/ppt/media/image63.jpeg" ContentType="image/jpeg"/>
  <Override PartName="/ppt/media/image6.jpeg" ContentType="image/jpeg"/>
  <Override PartName="/ppt/media/image103.png" ContentType="image/png"/>
  <Override PartName="/ppt/media/image118.jpeg" ContentType="image/jpeg"/>
  <Override PartName="/ppt/media/image101.jpeg" ContentType="image/jpeg"/>
  <Override PartName="/ppt/media/image65.jpeg" ContentType="image/jpeg"/>
  <Override PartName="/ppt/media/image100.png" ContentType="image/png"/>
  <Override PartName="/ppt/media/image69.jpeg" ContentType="image/jpeg"/>
  <Override PartName="/ppt/media/image68.jpeg" ContentType="image/jpeg"/>
  <Override PartName="/ppt/media/image81.wmf" ContentType="image/x-wmf"/>
  <Override PartName="/ppt/media/image66.jpeg" ContentType="image/jpe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7.png" ContentType="image/png"/>
  <Override PartName="/ppt/media/image24.wmf" ContentType="image/x-wmf"/>
  <Override PartName="/ppt/media/image22.wmf" ContentType="image/x-wmf"/>
  <Override PartName="/ppt/media/image117.jpeg" ContentType="image/jpeg"/>
  <Override PartName="/ppt/media/image20.jpeg" ContentType="image/jpeg"/>
  <Override PartName="/ppt/media/image116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0.jpeg" ContentType="image/jpeg"/>
  <Override PartName="/ppt/media/image77.jpeg" ContentType="image/jpeg"/>
  <Override PartName="/ppt/media/image18.jpeg" ContentType="image/jpeg"/>
  <Override PartName="/ppt/media/image17.jpeg" ContentType="image/jpeg"/>
  <Override PartName="/ppt/media/image106.png" ContentType="image/png"/>
  <Override PartName="/ppt/media/image16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115-CE2A-45EC-ABA9-904952F4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101-366A-4EB6-BD86-4689E68C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522-9A67-404E-B623-A83AAE94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6B1-6C2B-4384-AA28-DD2297F5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F6F-3283-4219-A3F1-8DFB7C6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098-5AAD-4752-BC1B-81EBA459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D42-0BAE-408D-976F-AF7505A1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912-4216-46E6-B140-0266BA8E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A97-1960-48D2-AB55-04E02338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C12-D9CD-4E1E-9E14-0A0B9964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B49-180E-41B4-9572-66FEEE3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D59-F643-4BCC-91C5-EF7D14E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70F5-500C-4B84-B044-62CC1246A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5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8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9585-558D-45DF-93F8-B7587A85D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09-2010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god2-2101"/>
          <p:cNvPicPr/>
          <p:nvPr/>
        </p:nvPicPr>
        <p:blipFill>
          <a:blip r:embed="rId1"/>
          <a:stretch/>
        </p:blipFill>
        <p:spPr>
          <a:xfrm>
            <a:off x="6300720" y="33336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эмблема"/>
          <p:cNvPicPr/>
          <p:nvPr/>
        </p:nvPicPr>
        <p:blipFill>
          <a:blip r:embed="rId3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815-6592-4DC7-8D27-DD2C28453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расположение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Ленина,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Вятская, 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договору помещения МОУ СОШ № 7 для начальных класс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ул. Советская,98 «а» ( по договору спортзал и стадион ДЮС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3613-2295-4CBF-B81B-6F47C0E33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Organization Chart 2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37" name="_s19460"/>
            <p:cNvCxnSpPr>
              <a:stCxn id="638" idx="0"/>
              <a:endCxn id="639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0" name="_s19461"/>
            <p:cNvCxnSpPr>
              <a:stCxn id="641" idx="0"/>
              <a:endCxn id="639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2" name="_s19462"/>
            <p:cNvCxnSpPr>
              <a:stCxn id="643" idx="0"/>
              <a:endCxn id="639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9" name="_s1946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ля 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1946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45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946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50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946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78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22AB-E5AA-4621-B175-CE28DE052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бв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млн.                           15 мл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35 тыс. руб.               224 тыс.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1763640" y="2133720"/>
            <a:ext cx="0" cy="9349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7164360" y="2276640"/>
            <a:ext cx="0" cy="7920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AC9B-05F5-4F30-A2BE-AFCBDAA0B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лн.                                980 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1 тыс.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1692360" y="2205000"/>
            <a:ext cx="0" cy="79236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7308720" y="2276640"/>
            <a:ext cx="0" cy="7207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6CB8-441D-4914-AA50-249397555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Organization Chart 3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57" name="_s20484"/>
            <p:cNvCxnSpPr>
              <a:stCxn id="658" idx="0"/>
              <a:endCxn id="65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0" name="_s20485"/>
            <p:cNvCxnSpPr>
              <a:stCxn id="661" idx="0"/>
              <a:endCxn id="65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9" name="_s20486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родская составляющ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юджетной сметы гимназ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_s20487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009 го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98214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_s20488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010 го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2095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7A1C-75B7-49FA-BB33-A330226D2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овольные пожертв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9-2010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1 тыс.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учебная мебель, ремонтны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8707-1D9D-43A3-B213-36A9DD296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 Обеспечение высокого качества образования, качества предоставления образовательных услуг, реализации образовательных программ в полном объё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Развитие творческой образовательной  среды 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я способностей каждого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я особо одарённых детей и организации их  индивидуальн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ADDD-D5B0-44C3-ABA1-CA1BF2630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Формирование здоровьсберегающей среды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  Информатизация образовательного процесса (в т.ч. введение «Электронного журн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   Обеспечение подготовки введения Федеральных государственных образовательных стандартов начального общего образования в 1-х классах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11B6-746C-4B51-9BEE-1A85918CC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Развитие общественной составляющей в управлении Гимн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  Совершенствование системы руководства и менеджмента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  Профилактика негативных проявлений в детской и подростковой среде, девиантного поведения обучающихся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5011-958D-415E-A335-D8AAE2F88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материально-технической базы гимназии (требуют решения  следующие круп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туал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замена оконных р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одернизация системы оповещения о пожа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 буф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локальной сети для введения «Электронного журнал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ведение системы видеонаблю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условий в кабинете химии – замена вытяжного шкафа, подвод водопровода, специальная ученическая и учительская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стройство кабинета технологии (дев.) для изучения тем по кулина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асадны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формление кабинетов и холлов, в том числе с созданием музейной экспозиции из истории гимн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граждение территории и т.д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32ED-3E2D-4242-8990-44FB772D5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зия г. Слобод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Все 1"/>
          <p:cNvPicPr/>
          <p:nvPr/>
        </p:nvPicPr>
        <p:blipFill>
          <a:blip r:embed="rId1"/>
          <a:stretch/>
        </p:blipFill>
        <p:spPr>
          <a:xfrm rot="20536200">
            <a:off x="390600" y="1915920"/>
            <a:ext cx="3838680" cy="2160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11160001(ed)"/>
          <p:cNvPicPr/>
          <p:nvPr/>
        </p:nvPicPr>
        <p:blipFill>
          <a:blip r:embed="rId2"/>
          <a:stretch/>
        </p:blipFill>
        <p:spPr>
          <a:xfrm>
            <a:off x="50767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IMG_2350"/>
          <p:cNvPicPr/>
          <p:nvPr/>
        </p:nvPicPr>
        <p:blipFill>
          <a:blip r:embed="rId3"/>
          <a:stretch/>
        </p:blipFill>
        <p:spPr>
          <a:xfrm rot="1404000">
            <a:off x="4858920" y="1773360"/>
            <a:ext cx="3278160" cy="2041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IMG_2244"/>
          <p:cNvPicPr/>
          <p:nvPr/>
        </p:nvPicPr>
        <p:blipFill>
          <a:blip r:embed="rId4"/>
          <a:stretch/>
        </p:blipFill>
        <p:spPr>
          <a:xfrm>
            <a:off x="1403280" y="4149720"/>
            <a:ext cx="3281400" cy="218772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4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8" descr="эмблема"/>
          <p:cNvPicPr/>
          <p:nvPr/>
        </p:nvPicPr>
        <p:blipFill>
          <a:blip r:embed="rId5"/>
          <a:stretch/>
        </p:blipFill>
        <p:spPr>
          <a:xfrm>
            <a:off x="468360" y="189000"/>
            <a:ext cx="1187280" cy="12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16BB-BF15-4319-AB58-9AC6E65FB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/факс (883362) 4-28-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D6DF-210F-4208-9C9A-F6DEDFF1A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87" name="Freeform 5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CE6-8E6B-42DC-9F3B-F5C85ACAA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Diagram 6"/>
          <p:cNvGrpSpPr/>
          <p:nvPr/>
        </p:nvGrpSpPr>
        <p:grpSpPr>
          <a:xfrm>
            <a:off x="1798560" y="385920"/>
            <a:ext cx="5475240" cy="5410080"/>
            <a:chOff x="1798560" y="385920"/>
            <a:chExt cx="5475240" cy="541008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3557520" y="1989000"/>
              <a:ext cx="5796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253224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овате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 flipV="1">
              <a:off x="3036960" y="2890800"/>
              <a:ext cx="8856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798560" y="215892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узей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ле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 flipH="1">
              <a:off x="3218040" y="3465360"/>
              <a:ext cx="777600" cy="45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2054160" y="3603600"/>
              <a:ext cx="1249560" cy="1249560"/>
            </a:xfrm>
            <a:prstGeom prst="ellipse">
              <a:avLst/>
            </a:prstGeom>
            <a:solidFill>
              <a:srgbClr val="eaea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втовокз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H="1">
              <a:off x="4016160" y="3740040"/>
              <a:ext cx="30636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317808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ЮС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>
              <a:off x="4749840" y="3740040"/>
              <a:ext cx="30780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464652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м дет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5076720" y="3465360"/>
              <a:ext cx="777960" cy="44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5770440" y="3602160"/>
              <a:ext cx="124956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скус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40"/>
            <p:cNvSpPr/>
            <p:nvPr/>
          </p:nvSpPr>
          <p:spPr>
            <a:xfrm flipV="1">
              <a:off x="5149800" y="2889360"/>
              <a:ext cx="8841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6024600" y="215748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удожеств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2"/>
            <p:cNvSpPr/>
            <p:nvPr/>
          </p:nvSpPr>
          <p:spPr>
            <a:xfrm flipV="1">
              <a:off x="4935600" y="1989000"/>
              <a:ext cx="5778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3"/>
            <p:cNvSpPr/>
            <p:nvPr/>
          </p:nvSpPr>
          <p:spPr>
            <a:xfrm>
              <a:off x="529128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дминистр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лобод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44"/>
            <p:cNvSpPr/>
            <p:nvPr/>
          </p:nvSpPr>
          <p:spPr>
            <a:xfrm flipV="1">
              <a:off x="4535640" y="1633680"/>
              <a:ext cx="0" cy="8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3911760" y="38592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Г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6"/>
            <p:cNvSpPr/>
            <p:nvPr/>
          </p:nvSpPr>
          <p:spPr>
            <a:xfrm>
              <a:off x="3911760" y="2532240"/>
              <a:ext cx="1249200" cy="1249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имназ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41F-AFB9-410E-8839-363C9ABA7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2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т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ор МОУ гимназ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лободского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od2-2101"/>
          <p:cNvPicPr/>
          <p:nvPr/>
        </p:nvPicPr>
        <p:blipFill>
          <a:blip r:embed="rId1"/>
          <a:stretch/>
        </p:blipFill>
        <p:spPr>
          <a:xfrm>
            <a:off x="6516720" y="33336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мблема"/>
          <p:cNvPicPr/>
          <p:nvPr/>
        </p:nvPicPr>
        <p:blipFill>
          <a:blip r:embed="rId2"/>
          <a:stretch/>
        </p:blipFill>
        <p:spPr>
          <a:xfrm>
            <a:off x="6588000" y="4508640"/>
            <a:ext cx="2092320" cy="209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ICT1744(5)"/>
          <p:cNvPicPr/>
          <p:nvPr/>
        </p:nvPicPr>
        <p:blipFill>
          <a:blip r:embed="rId3"/>
          <a:stretch/>
        </p:blipFill>
        <p:spPr>
          <a:xfrm>
            <a:off x="826920" y="1700280"/>
            <a:ext cx="27133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F831-CFE0-4E2B-868D-607DC1257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выполнения социального заказа на образование на принципах общедоступности, гражданственности, свободного развития личности, предоставление обучающимся на выбор общеобразовательных программ углубленного изучения ряда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оздание условий для развития индивидуальных способностей каждого обучаю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ние условий для самоопределения и саморазвития обучающихся в ходе образовательного процесса, создание основы для осознанного выбора и последующего освоения профессиональ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ирование навыков самостоятельной учебной деятельности на основе дифференциации обучения, овладения обучающимися знаниями на повышенн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ормирование гуманитарного типа мышления обучающихся, навыков творческой и исследовательской деятельности, потребность к саморазвитию и само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ормирование у обучающихся навыков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4680-190D-4D94-B0F4-F266BB8FD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34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, обеспечивающая дополнительную (углублённую) подготовку обучающихся по предмету иностранный яз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нглийский, немецкий (2-4 клас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3 года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эмблема"/>
          <p:cNvPicPr/>
          <p:nvPr/>
        </p:nvPicPr>
        <p:blipFill>
          <a:blip r:embed="rId1"/>
          <a:stretch/>
        </p:blipFill>
        <p:spPr>
          <a:xfrm>
            <a:off x="7308720" y="530064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21A1-F81E-4955-BEE9-90FDB4588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ая школа (1-4 клас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в начальной школе гимназии осуществляется по развивающей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В. За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SDC10818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эмблема"/>
          <p:cNvPicPr/>
          <p:nvPr/>
        </p:nvPicPr>
        <p:blipFill>
          <a:blip r:embed="rId2"/>
          <a:stretch/>
        </p:blipFill>
        <p:spPr>
          <a:xfrm>
            <a:off x="7308720" y="5229360"/>
            <a:ext cx="1516320" cy="122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188-5AD4-43E8-9A98-C5BC7E6BC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й срок освоения –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, обеспечивающая дополнительную (углублённую) подготовку обучающихся по предмета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усский язык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5-9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AB65-3673-4425-BF71-16DFC49CE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.  Нормативный срок освоения – 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, обеспечивающая дополнительную (углублённую) подготовку обучающихся по предмета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усский язык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10-11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9F34-FBAE-45EC-BD31-B2DF1721F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в 2009-2010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155" name="_s2052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итератур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 чел. (8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1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27 чел. (61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5137-86DF-4875-8C5A-310703F02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C87-8D95-4882-9697-625D36DA7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483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сти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урно-спор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о-патрио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0301252"/>
          <p:cNvPicPr/>
          <p:nvPr/>
        </p:nvPicPr>
        <p:blipFill>
          <a:blip r:embed="rId1"/>
          <a:stretch/>
        </p:blipFill>
        <p:spPr>
          <a:xfrm>
            <a:off x="5867280" y="2952720"/>
            <a:ext cx="2808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260-BCF1-42C9-AA47-9B706CEB1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о-эстетическая направлен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оформительского дела для обучающихся 1-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ойка и шитье для обучающихся 5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удожественная обработка материалов для обучающихся 5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Учимся играть в театр для обучающихся 5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j0216516"/>
          <p:cNvPicPr/>
          <p:nvPr/>
        </p:nvPicPr>
        <p:blipFill>
          <a:blip r:embed="rId1"/>
          <a:stretch/>
        </p:blipFill>
        <p:spPr>
          <a:xfrm>
            <a:off x="971640" y="2205000"/>
            <a:ext cx="22939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E2E1-18F4-4776-8266-D0A59AE7F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направл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ир мультимедиа технологий для обучающихся 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форматики для обучающихся 5-6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нформатика в играх и задачах для обучающихся 1 - 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женерной графики для обучающихся 8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Юный радиолюбитель для обучающихся 6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195384"/>
          <p:cNvPicPr/>
          <p:nvPr/>
        </p:nvPicPr>
        <p:blipFill>
          <a:blip r:embed="rId1"/>
          <a:stretch/>
        </p:blipFill>
        <p:spPr>
          <a:xfrm>
            <a:off x="611280" y="2060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56F0-4FE9-43F3-A89B-1E9C69B85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ая  образовательная ус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аптация детей дошкольного возраста к условиям школьной жизн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Школа разви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j0216724"/>
          <p:cNvPicPr/>
          <p:nvPr/>
        </p:nvPicPr>
        <p:blipFill>
          <a:blip r:embed="rId1"/>
          <a:stretch/>
        </p:blipFill>
        <p:spPr>
          <a:xfrm>
            <a:off x="1116000" y="2060640"/>
            <a:ext cx="28288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ECF5-B8E0-414B-BFC8-EC6F83E47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78" name="_s3076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3077"/>
            <p:cNvCxnSpPr>
              <a:stCxn id="182" idx="0"/>
              <a:endCxn id="18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3078"/>
            <p:cNvCxnSpPr>
              <a:stCxn id="184" idx="0"/>
              <a:endCxn id="18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307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лужб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8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8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08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рганиз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86DE-7CAF-4A79-801F-E17430C69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3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3 мальчика       303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,5%)                 (56,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70B3-AFD5-43F6-BF8E-AF9F20565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rganization Chart 6"/>
          <p:cNvGrpSpPr/>
          <p:nvPr/>
        </p:nvGrpSpPr>
        <p:grpSpPr>
          <a:xfrm>
            <a:off x="431640" y="239760"/>
            <a:ext cx="8208000" cy="5831640"/>
            <a:chOff x="431640" y="239760"/>
            <a:chExt cx="8208000" cy="5831640"/>
          </a:xfrm>
        </p:grpSpPr>
        <p:cxnSp>
          <p:nvCxnSpPr>
            <p:cNvPr id="192" name="_s4100"/>
            <p:cNvCxnSpPr>
              <a:stCxn id="193" idx="0"/>
              <a:endCxn id="194" idx="2"/>
            </p:cNvCxnSpPr>
            <p:nvPr/>
          </p:nvCxnSpPr>
          <p:spPr>
            <a:xfrm flipV="1">
              <a:off x="6176880" y="1954440"/>
              <a:ext cx="6840" cy="3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4101"/>
            <p:cNvCxnSpPr>
              <a:stCxn id="196" idx="1"/>
              <a:endCxn id="197" idx="2"/>
            </p:cNvCxnSpPr>
            <p:nvPr/>
          </p:nvCxnSpPr>
          <p:spPr>
            <a:xfrm rot="10800000">
              <a:off x="2893320" y="924840"/>
              <a:ext cx="821520" cy="48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4102"/>
            <p:cNvCxnSpPr>
              <a:stCxn id="199" idx="1"/>
              <a:endCxn id="197" idx="2"/>
            </p:cNvCxnSpPr>
            <p:nvPr/>
          </p:nvCxnSpPr>
          <p:spPr>
            <a:xfrm rot="10800000">
              <a:off x="2893320" y="924840"/>
              <a:ext cx="821520" cy="377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4103"/>
            <p:cNvCxnSpPr>
              <a:stCxn id="201" idx="1"/>
              <a:endCxn id="197" idx="2"/>
            </p:cNvCxnSpPr>
            <p:nvPr/>
          </p:nvCxnSpPr>
          <p:spPr>
            <a:xfrm rot="10800000">
              <a:off x="2893320" y="924840"/>
              <a:ext cx="821520" cy="274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4104"/>
            <p:cNvCxnSpPr>
              <a:stCxn id="194" idx="1"/>
              <a:endCxn id="197" idx="2"/>
            </p:cNvCxnSpPr>
            <p:nvPr/>
          </p:nvCxnSpPr>
          <p:spPr>
            <a:xfrm rot="10800000">
              <a:off x="2893320" y="924840"/>
              <a:ext cx="82152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4105"/>
            <p:cNvSpPr/>
            <p:nvPr/>
          </p:nvSpPr>
          <p:spPr>
            <a:xfrm>
              <a:off x="431640" y="2397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учающиеся гимназии из населён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нктов Слободского райо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6"/>
            <p:cNvSpPr/>
            <p:nvPr/>
          </p:nvSpPr>
          <p:spPr>
            <a:xfrm>
              <a:off x="3714840" y="126864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гт Вахруш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4107"/>
            <p:cNvSpPr/>
            <p:nvPr/>
          </p:nvSpPr>
          <p:spPr>
            <a:xfrm>
              <a:off x="3714840" y="332712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. Цент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08"/>
            <p:cNvSpPr/>
            <p:nvPr/>
          </p:nvSpPr>
          <p:spPr>
            <a:xfrm>
              <a:off x="3714840" y="43563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Ильин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09"/>
            <p:cNvSpPr/>
            <p:nvPr/>
          </p:nvSpPr>
          <p:spPr>
            <a:xfrm>
              <a:off x="3714840" y="538560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. Салты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10"/>
            <p:cNvSpPr/>
            <p:nvPr/>
          </p:nvSpPr>
          <p:spPr>
            <a:xfrm>
              <a:off x="3714840" y="229788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Кари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921F-318C-401A-9D2D-FE5096853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жим работы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-дневная учебная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(первая) с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нятия с 8-00, в начальной школе с 8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 классе группа продлённого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учебного года 30 дней каник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– 4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по 10 минут, для приёма пищи –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1F7F-30A7-41F9-B14F-587242248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SDC10842"/>
          <p:cNvPicPr/>
          <p:nvPr/>
        </p:nvPicPr>
        <p:blipFill>
          <a:blip r:embed="rId3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SDC1084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3687-92F3-4787-8ACB-882011B0D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ицински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SDC1086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DC10863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SDC10861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098F-CDFE-44A5-9312-464CA55BD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здана 21 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эмблема"/>
          <p:cNvPicPr/>
          <p:nvPr/>
        </p:nvPicPr>
        <p:blipFill>
          <a:blip r:embed="rId2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МОУ Гимназия г"/>
          <p:cNvPicPr/>
          <p:nvPr/>
        </p:nvPicPr>
        <p:blipFill>
          <a:blip r:embed="rId3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3053-D543-4936-AB61-D18EC3723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бные каби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DC1088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SDC10898"/>
          <p:cNvPicPr/>
          <p:nvPr/>
        </p:nvPicPr>
        <p:blipFill>
          <a:blip r:embed="rId2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DC1091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SDC10909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DF2C-9AEC-447C-B8DD-AD4A8930A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2A9-17AD-4C29-84BF-1DC67B93E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SDC1088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SDC10890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SDC1090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SDC10875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373B-7C2C-4FD3-8FB9-432746B6D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SDC1086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SDC10870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SDC10866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SDC10874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B05B-258A-4991-8B2F-089DB3CEF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1619280" y="18446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F481-C248-4276-A467-810C884C2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468360" y="1773360"/>
          <a:ext cx="867564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6756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F6DD-550B-4EB4-B7A0-3DB9DC5D1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и – 107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ьцы собственного бизнеса – 107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ники социальной сферы – 187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– 26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еры – 15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ботные – 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8909-F886-4C59-BFE6-CDA7BC97B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управл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Organization Chart 5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255" name="_s717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813280" y="2167920"/>
              <a:ext cx="905400" cy="33879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7173"/>
            <p:cNvCxnSpPr>
              <a:stCxn id="259" idx="0"/>
              <a:endCxn id="257" idx="2"/>
            </p:cNvCxnSpPr>
            <p:nvPr/>
          </p:nvCxnSpPr>
          <p:spPr>
            <a:xfrm flipV="1" rot="16200000">
              <a:off x="4967640" y="3013560"/>
              <a:ext cx="905400" cy="169668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7174"/>
            <p:cNvCxnSpPr>
              <a:stCxn id="261" idx="0"/>
              <a:endCxn id="257" idx="2"/>
            </p:cNvCxnSpPr>
            <p:nvPr/>
          </p:nvCxnSpPr>
          <p:spPr>
            <a:xfrm flipV="1" rot="16200000">
              <a:off x="4120560" y="3860640"/>
              <a:ext cx="905400" cy="2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7175"/>
            <p:cNvCxnSpPr>
              <a:stCxn id="263" idx="0"/>
              <a:endCxn id="257" idx="2"/>
            </p:cNvCxnSpPr>
            <p:nvPr/>
          </p:nvCxnSpPr>
          <p:spPr>
            <a:xfrm flipH="1" flipV="1" rot="5400000">
              <a:off x="3273480" y="3015000"/>
              <a:ext cx="905400" cy="16938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7176"/>
            <p:cNvCxnSpPr>
              <a:stCxn id="265" idx="0"/>
              <a:endCxn id="257" idx="2"/>
            </p:cNvCxnSpPr>
            <p:nvPr/>
          </p:nvCxnSpPr>
          <p:spPr>
            <a:xfrm flipH="1" flipV="1" rot="5400000">
              <a:off x="2425320" y="2166840"/>
              <a:ext cx="905400" cy="3390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7177"/>
            <p:cNvSpPr/>
            <p:nvPr/>
          </p:nvSpPr>
          <p:spPr>
            <a:xfrm>
              <a:off x="3844440" y="160020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7178"/>
            <p:cNvSpPr/>
            <p:nvPr/>
          </p:nvSpPr>
          <p:spPr>
            <a:xfrm>
              <a:off x="4572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щегимназ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ферен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7179"/>
            <p:cNvSpPr/>
            <p:nvPr/>
          </p:nvSpPr>
          <p:spPr>
            <a:xfrm>
              <a:off x="21517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печитель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7180"/>
            <p:cNvSpPr/>
            <p:nvPr/>
          </p:nvSpPr>
          <p:spPr>
            <a:xfrm>
              <a:off x="38466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б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удо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ллекти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7181"/>
            <p:cNvSpPr/>
            <p:nvPr/>
          </p:nvSpPr>
          <p:spPr>
            <a:xfrm>
              <a:off x="55411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дагогиче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7182"/>
            <p:cNvSpPr/>
            <p:nvPr/>
          </p:nvSpPr>
          <p:spPr>
            <a:xfrm>
              <a:off x="7236000" y="4314960"/>
              <a:ext cx="1450440" cy="1809720"/>
            </a:xfrm>
            <a:custGeom>
              <a:avLst/>
              <a:gdLst>
                <a:gd name="textAreaLeft" fmla="*/ 70560 w 1450440"/>
                <a:gd name="textAreaRight" fmla="*/ 1379880 w 1450440"/>
                <a:gd name="textAreaTop" fmla="*/ 70560 h 1809720"/>
                <a:gd name="textAreaBottom" fmla="*/ 1739160 h 1809720"/>
              </a:gdLst>
              <a:ahLst/>
              <a:rect l="textAreaLeft" t="textAreaTop" r="textAreaRight" b="textAreaBottom"/>
              <a:pathLst>
                <a:path w="21600" h="26949">
                  <a:moveTo>
                    <a:pt x="3600" y="0"/>
                  </a:moveTo>
                  <a:arcTo wR="3600" hR="3600" stAng="16200000" swAng="-5400000"/>
                  <a:lnTo>
                    <a:pt x="0" y="23349"/>
                  </a:lnTo>
                  <a:arcTo wR="3600" hR="3600" stAng="10800000" swAng="-5400000"/>
                  <a:lnTo>
                    <a:pt x="18000" y="26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ч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5170-4FAE-4E2B-8510-DC64111C2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печительский 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едатель со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ил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их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DC1001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SDC1001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37E4-4CAC-4F4E-8795-EFD0D3A71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73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педагогических советов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дагогическое мастерство как средство управления качеством образования гимназиста на основе компетентностно-ориентированного подх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SDC10570"/>
          <p:cNvPicPr/>
          <p:nvPr/>
        </p:nvPicPr>
        <p:blipFill>
          <a:blip r:embed="rId3"/>
          <a:stretch/>
        </p:blipFill>
        <p:spPr>
          <a:xfrm>
            <a:off x="4572000" y="2133720"/>
            <a:ext cx="403848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D6E5-F682-4AFC-8F5A-B29C51A65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46836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и г.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 педагогическим со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азии 27 января 2010 г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№ 1, утверждена распоряжением администрации города Слободского от 26 февра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эмблема"/>
          <p:cNvPicPr/>
          <p:nvPr/>
        </p:nvPicPr>
        <p:blipFill>
          <a:blip r:embed="rId2"/>
          <a:stretch/>
        </p:blipFill>
        <p:spPr>
          <a:xfrm>
            <a:off x="6372360" y="4406760"/>
            <a:ext cx="2307960" cy="204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od2-2101"/>
          <p:cNvPicPr/>
          <p:nvPr/>
        </p:nvPicPr>
        <p:blipFill>
          <a:blip r:embed="rId3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эмблема"/>
          <p:cNvPicPr/>
          <p:nvPr/>
        </p:nvPicPr>
        <p:blipFill>
          <a:blip r:embed="rId4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DDB4-5ECC-42FE-8915-E16ABCBD8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82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тема заседания педагогического совета (апрель 2010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уманистическая направленность личности учителя и его готовность к инновациям как компоненты педагогического мастер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SDC10643"/>
          <p:cNvPicPr/>
          <p:nvPr/>
        </p:nvPicPr>
        <p:blipFill>
          <a:blip r:embed="rId3"/>
          <a:stretch/>
        </p:blipFill>
        <p:spPr>
          <a:xfrm>
            <a:off x="4643280" y="2205000"/>
            <a:ext cx="40388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9172-83C8-445D-AF6B-D41648467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9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641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эмблема"/>
          <p:cNvPicPr/>
          <p:nvPr/>
        </p:nvPicPr>
        <p:blipFill>
          <a:blip r:embed="rId2"/>
          <a:stretch/>
        </p:blipFill>
        <p:spPr>
          <a:xfrm>
            <a:off x="250920" y="404640"/>
            <a:ext cx="151596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96" name="Organization Chart 8"/>
          <p:cNvGrpSpPr/>
          <p:nvPr/>
        </p:nvGrpSpPr>
        <p:grpSpPr>
          <a:xfrm>
            <a:off x="442800" y="1614600"/>
            <a:ext cx="8208360" cy="4463640"/>
            <a:chOff x="442800" y="1614600"/>
            <a:chExt cx="8208360" cy="4463640"/>
          </a:xfrm>
        </p:grpSpPr>
        <p:cxnSp>
          <p:nvCxnSpPr>
            <p:cNvPr id="297" name="_s8196"/>
            <p:cNvCxnSpPr>
              <a:stCxn id="298" idx="1"/>
              <a:endCxn id="299" idx="2"/>
            </p:cNvCxnSpPr>
            <p:nvPr/>
          </p:nvCxnSpPr>
          <p:spPr>
            <a:xfrm rot="10800000">
              <a:off x="4546080" y="225144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8197"/>
            <p:cNvCxnSpPr>
              <a:stCxn id="301" idx="3"/>
              <a:endCxn id="299" idx="2"/>
            </p:cNvCxnSpPr>
            <p:nvPr/>
          </p:nvCxnSpPr>
          <p:spPr>
            <a:xfrm flipV="1">
              <a:off x="3960720" y="225180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8198"/>
            <p:cNvCxnSpPr>
              <a:stCxn id="303" idx="1"/>
              <a:endCxn id="299" idx="2"/>
            </p:cNvCxnSpPr>
            <p:nvPr/>
          </p:nvCxnSpPr>
          <p:spPr>
            <a:xfrm rot="10800000">
              <a:off x="454608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8199"/>
            <p:cNvCxnSpPr>
              <a:stCxn id="305" idx="3"/>
              <a:endCxn id="299" idx="2"/>
            </p:cNvCxnSpPr>
            <p:nvPr/>
          </p:nvCxnSpPr>
          <p:spPr>
            <a:xfrm flipV="1">
              <a:off x="396072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8200"/>
            <p:cNvCxnSpPr>
              <a:stCxn id="307" idx="1"/>
              <a:endCxn id="299" idx="2"/>
            </p:cNvCxnSpPr>
            <p:nvPr/>
          </p:nvCxnSpPr>
          <p:spPr>
            <a:xfrm rot="10800000">
              <a:off x="4546080" y="225144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8201"/>
            <p:cNvCxnSpPr>
              <a:stCxn id="309" idx="3"/>
              <a:endCxn id="299" idx="2"/>
            </p:cNvCxnSpPr>
            <p:nvPr/>
          </p:nvCxnSpPr>
          <p:spPr>
            <a:xfrm flipV="1">
              <a:off x="3960720" y="225180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8202"/>
            <p:cNvCxnSpPr>
              <a:stCxn id="311" idx="1"/>
              <a:endCxn id="299" idx="2"/>
            </p:cNvCxnSpPr>
            <p:nvPr/>
          </p:nvCxnSpPr>
          <p:spPr>
            <a:xfrm rot="10800000">
              <a:off x="454608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2" name="_s8203"/>
            <p:cNvCxnSpPr>
              <a:stCxn id="313" idx="3"/>
              <a:endCxn id="299" idx="2"/>
            </p:cNvCxnSpPr>
            <p:nvPr/>
          </p:nvCxnSpPr>
          <p:spPr>
            <a:xfrm flipV="1">
              <a:off x="396072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8204"/>
            <p:cNvSpPr/>
            <p:nvPr/>
          </p:nvSpPr>
          <p:spPr>
            <a:xfrm>
              <a:off x="2787840" y="161460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учно-методический сов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8205"/>
            <p:cNvSpPr/>
            <p:nvPr/>
          </p:nvSpPr>
          <p:spPr>
            <a:xfrm>
              <a:off x="44280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словес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8206"/>
            <p:cNvSpPr/>
            <p:nvPr/>
          </p:nvSpPr>
          <p:spPr>
            <a:xfrm>
              <a:off x="513324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точ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8207"/>
            <p:cNvSpPr/>
            <p:nvPr/>
          </p:nvSpPr>
          <p:spPr>
            <a:xfrm>
              <a:off x="44280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иностранных язы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8208"/>
            <p:cNvSpPr/>
            <p:nvPr/>
          </p:nvSpPr>
          <p:spPr>
            <a:xfrm>
              <a:off x="513324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федра предметов обществен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эстетического цик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8209"/>
            <p:cNvSpPr/>
            <p:nvPr/>
          </p:nvSpPr>
          <p:spPr>
            <a:xfrm>
              <a:off x="442800" y="448416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естествен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8210"/>
            <p:cNvSpPr/>
            <p:nvPr/>
          </p:nvSpPr>
          <p:spPr>
            <a:xfrm>
              <a:off x="5133240" y="448416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афедра начальных клас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8211"/>
            <p:cNvSpPr/>
            <p:nvPr/>
          </p:nvSpPr>
          <p:spPr>
            <a:xfrm>
              <a:off x="447120" y="5440680"/>
              <a:ext cx="351324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воспитания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8212"/>
            <p:cNvSpPr/>
            <p:nvPr/>
          </p:nvSpPr>
          <p:spPr>
            <a:xfrm>
              <a:off x="5133240" y="544068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 учителей физ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060D-CE22-468D-85FA-B8A10AB24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316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ская инновационная площ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рока в условиях компетентностно-ориентированно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учный консультант О.Г. Селиванова, к.п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" descr="Изображение 010"/>
          <p:cNvPicPr/>
          <p:nvPr/>
        </p:nvPicPr>
        <p:blipFill>
          <a:blip r:embed="rId3"/>
          <a:stretch/>
        </p:blipFill>
        <p:spPr>
          <a:xfrm>
            <a:off x="4648320" y="1989000"/>
            <a:ext cx="417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32FC-19C2-4DA4-BA02-03C0E352C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2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чно-исследовательская лаборатория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учебно-исследовательской культуры гимназиста как фактор развития его одарён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P5060040"/>
          <p:cNvPicPr/>
          <p:nvPr/>
        </p:nvPicPr>
        <p:blipFill>
          <a:blip r:embed="rId1"/>
          <a:stretch/>
        </p:blipFill>
        <p:spPr>
          <a:xfrm>
            <a:off x="1042920" y="3933720"/>
            <a:ext cx="4033800" cy="2664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эмблема"/>
          <p:cNvPicPr/>
          <p:nvPr/>
        </p:nvPicPr>
        <p:blipFill>
          <a:blip r:embed="rId3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P5060003"/>
          <p:cNvPicPr/>
          <p:nvPr/>
        </p:nvPicPr>
        <p:blipFill>
          <a:blip r:embed="rId4"/>
          <a:stretch/>
        </p:blipFill>
        <p:spPr>
          <a:xfrm>
            <a:off x="5003640" y="2060640"/>
            <a:ext cx="3384720" cy="3168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эмблема"/>
          <p:cNvPicPr/>
          <p:nvPr/>
        </p:nvPicPr>
        <p:blipFill>
          <a:blip r:embed="rId5"/>
          <a:stretch/>
        </p:blipFill>
        <p:spPr>
          <a:xfrm>
            <a:off x="7308720" y="537372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D629-7DC8-4250-BEFF-8E15F0C35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ическая тема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чебного занятия в условия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етентностно-ориентирован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х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эмблема"/>
          <p:cNvPicPr/>
          <p:nvPr/>
        </p:nvPicPr>
        <p:blipFill>
          <a:blip r:embed="rId1"/>
          <a:stretch/>
        </p:blipFill>
        <p:spPr>
          <a:xfrm>
            <a:off x="7020000" y="4941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1C8-9081-462C-A1D0-980A8D119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2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менеджмен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, функ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 для производств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ей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od2-2101"/>
          <p:cNvPicPr/>
          <p:nvPr/>
        </p:nvPicPr>
        <p:blipFill>
          <a:blip r:embed="rId1"/>
          <a:stretch/>
        </p:blipFill>
        <p:spPr>
          <a:xfrm>
            <a:off x="6227640" y="333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эмблема"/>
          <p:cNvPicPr/>
          <p:nvPr/>
        </p:nvPicPr>
        <p:blipFill>
          <a:blip r:embed="rId2"/>
          <a:stretch/>
        </p:blipFill>
        <p:spPr>
          <a:xfrm>
            <a:off x="6156360" y="4149720"/>
            <a:ext cx="25239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E8F-5E33-4B1A-B8A2-6F3347EE6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эмблема"/>
          <p:cNvPicPr/>
          <p:nvPr/>
        </p:nvPicPr>
        <p:blipFill>
          <a:blip r:embed="rId2"/>
          <a:stretch/>
        </p:blipFill>
        <p:spPr>
          <a:xfrm>
            <a:off x="250920" y="260280"/>
            <a:ext cx="17287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Organization Chart 9"/>
          <p:cNvGrpSpPr/>
          <p:nvPr/>
        </p:nvGrpSpPr>
        <p:grpSpPr>
          <a:xfrm>
            <a:off x="539640" y="333360"/>
            <a:ext cx="8135640" cy="5973480"/>
            <a:chOff x="539640" y="333360"/>
            <a:chExt cx="8135640" cy="5973480"/>
          </a:xfrm>
        </p:grpSpPr>
        <p:cxnSp>
          <p:nvCxnSpPr>
            <p:cNvPr id="356" name="_s9220"/>
            <p:cNvCxnSpPr>
              <a:stCxn id="357" idx="0"/>
              <a:endCxn id="358" idx="2"/>
            </p:cNvCxnSpPr>
            <p:nvPr/>
          </p:nvCxnSpPr>
          <p:spPr>
            <a:xfrm flipV="1" rot="16200000">
              <a:off x="5686200" y="164376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9221"/>
            <p:cNvCxnSpPr>
              <a:stCxn id="360" idx="0"/>
              <a:endCxn id="358" idx="2"/>
            </p:cNvCxnSpPr>
            <p:nvPr/>
          </p:nvCxnSpPr>
          <p:spPr>
            <a:xfrm flipV="1" rot="16200000">
              <a:off x="4848480" y="248148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1" name="_s9222"/>
            <p:cNvCxnSpPr>
              <a:stCxn id="362" idx="0"/>
              <a:endCxn id="358" idx="2"/>
            </p:cNvCxnSpPr>
            <p:nvPr/>
          </p:nvCxnSpPr>
          <p:spPr>
            <a:xfrm flipV="1" rot="16200000">
              <a:off x="4011480" y="3318480"/>
              <a:ext cx="1195200" cy="2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3" name="_s9223"/>
            <p:cNvCxnSpPr>
              <a:stCxn id="364" idx="0"/>
              <a:endCxn id="358" idx="2"/>
            </p:cNvCxnSpPr>
            <p:nvPr/>
          </p:nvCxnSpPr>
          <p:spPr>
            <a:xfrm flipH="1" flipV="1" rot="5400000">
              <a:off x="3173040" y="248184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9224"/>
            <p:cNvCxnSpPr>
              <a:stCxn id="366" idx="0"/>
              <a:endCxn id="358" idx="2"/>
            </p:cNvCxnSpPr>
            <p:nvPr/>
          </p:nvCxnSpPr>
          <p:spPr>
            <a:xfrm flipH="1" flipV="1" rot="5400000">
              <a:off x="2335320" y="164412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8" name="_s9225"/>
            <p:cNvSpPr/>
            <p:nvPr/>
          </p:nvSpPr>
          <p:spPr>
            <a:xfrm>
              <a:off x="3888360" y="33336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9226"/>
            <p:cNvSpPr/>
            <p:nvPr/>
          </p:nvSpPr>
          <p:spPr>
            <a:xfrm>
              <a:off x="53964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тив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ов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9227"/>
            <p:cNvSpPr/>
            <p:nvPr/>
          </p:nvSpPr>
          <p:spPr>
            <a:xfrm>
              <a:off x="221508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др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9228"/>
            <p:cNvSpPr/>
            <p:nvPr/>
          </p:nvSpPr>
          <p:spPr>
            <a:xfrm>
              <a:off x="389052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тивацион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9229"/>
            <p:cNvSpPr/>
            <p:nvPr/>
          </p:nvSpPr>
          <p:spPr>
            <a:xfrm>
              <a:off x="556596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нанс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9230"/>
            <p:cNvSpPr/>
            <p:nvPr/>
          </p:nvSpPr>
          <p:spPr>
            <a:xfrm>
              <a:off x="7241400" y="3917520"/>
              <a:ext cx="1433880" cy="2389320"/>
            </a:xfrm>
            <a:custGeom>
              <a:avLst/>
              <a:gdLst>
                <a:gd name="textAreaLeft" fmla="*/ 69840 w 1433880"/>
                <a:gd name="textAreaRight" fmla="*/ 1364040 w 143388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89">
                  <a:moveTo>
                    <a:pt x="3600" y="0"/>
                  </a:moveTo>
                  <a:arcTo wR="3600" hR="3600" stAng="16200000" swAng="-5400000"/>
                  <a:lnTo>
                    <a:pt x="0" y="32389"/>
                  </a:lnTo>
                  <a:arcTo wR="3600" hR="3600" stAng="10800000" swAng="-5400000"/>
                  <a:lnTo>
                    <a:pt x="18000" y="35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уч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тодиче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F88C-CF07-4650-B916-73FB1F609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6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468000" y="259920"/>
            <a:ext cx="806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прав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педагог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метод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методической кафед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исследовательско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учебном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оплате труда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инстр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160720" cy="172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1F8C-6F7C-437F-AD46-55C1A89AA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god2-2101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BAAF-2942-4364-AC67-42A4F07C8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god2-2101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  <p:grpSp>
        <p:nvGrpSpPr>
          <p:cNvPr id="382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83" name="_s10244"/>
            <p:cNvCxnSpPr>
              <a:stCxn id="384" idx="0"/>
              <a:endCxn id="385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_s10245"/>
            <p:cNvCxnSpPr>
              <a:stCxn id="387" idx="0"/>
              <a:endCxn id="385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_s10246"/>
            <p:cNvCxnSpPr>
              <a:stCxn id="389" idx="0"/>
              <a:endCxn id="385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5" name="_s1024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1024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24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25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4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25C8-2D42-43BC-8AFB-BBBFC4685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ения и дополнения в устав гимназии, утверждены постановлением администрации города Слободского от 22 июля 2010 года №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god2-2101"/>
          <p:cNvPicPr/>
          <p:nvPr/>
        </p:nvPicPr>
        <p:blipFill>
          <a:blip r:embed="rId2"/>
          <a:stretch/>
        </p:blipFill>
        <p:spPr>
          <a:xfrm>
            <a:off x="7164360" y="54936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god2-2101"/>
          <p:cNvPicPr/>
          <p:nvPr/>
        </p:nvPicPr>
        <p:blipFill>
          <a:blip r:embed="rId3"/>
          <a:stretch/>
        </p:blipFill>
        <p:spPr>
          <a:xfrm>
            <a:off x="7093080" y="62064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god2-2101"/>
          <p:cNvPicPr/>
          <p:nvPr/>
        </p:nvPicPr>
        <p:blipFill>
          <a:blip r:embed="rId4"/>
          <a:stretch/>
        </p:blipFill>
        <p:spPr>
          <a:xfrm>
            <a:off x="7020000" y="69228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эмблема"/>
          <p:cNvPicPr/>
          <p:nvPr/>
        </p:nvPicPr>
        <p:blipFill>
          <a:blip r:embed="rId5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6A57-C425-4114-9517-4222EC6CD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47952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619B-5896-43C9-A707-FE83BC496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96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god2-2101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Сергеева"/>
          <p:cNvPicPr/>
          <p:nvPr/>
        </p:nvPicPr>
        <p:blipFill>
          <a:blip r:embed="rId3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Копысова - копия"/>
          <p:cNvPicPr/>
          <p:nvPr/>
        </p:nvPicPr>
        <p:blipFill>
          <a:blip r:embed="rId4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IMG 043"/>
          <p:cNvPicPr/>
          <p:nvPr/>
        </p:nvPicPr>
        <p:blipFill>
          <a:blip r:embed="rId5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" descr="1Двоеглазова ТЛ"/>
          <p:cNvPicPr/>
          <p:nvPr/>
        </p:nvPicPr>
        <p:blipFill>
          <a:blip r:embed="rId6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Фото Мурина"/>
          <p:cNvPicPr/>
          <p:nvPr/>
        </p:nvPicPr>
        <p:blipFill>
          <a:blip r:embed="rId7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295D-7DCC-48F2-80B6-E7F97B521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41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НПО-2010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курс уч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IMG 043"/>
          <p:cNvPicPr/>
          <p:nvPr/>
        </p:nvPicPr>
        <p:blipFill>
          <a:blip r:embed="rId3"/>
          <a:stretch/>
        </p:blipFill>
        <p:spPr>
          <a:xfrm>
            <a:off x="5430960" y="1557360"/>
            <a:ext cx="2957400" cy="367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символика ПНПО"/>
          <p:cNvPicPr/>
          <p:nvPr/>
        </p:nvPicPr>
        <p:blipFill>
          <a:blip r:embed="rId4"/>
          <a:stretch/>
        </p:blipFill>
        <p:spPr>
          <a:xfrm>
            <a:off x="1763640" y="333360"/>
            <a:ext cx="1441440" cy="10206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19BF-7C86-43E1-9C28-947DA3613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школьных учителей Фонда Дмитрия Зимина – 20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 «Наставник будущих учё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слов Анатолий Дмитри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P9010061"/>
          <p:cNvPicPr/>
          <p:nvPr/>
        </p:nvPicPr>
        <p:blipFill>
          <a:blip r:embed="rId1"/>
          <a:stretch/>
        </p:blipFill>
        <p:spPr>
          <a:xfrm>
            <a:off x="663480" y="1600200"/>
            <a:ext cx="362448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god2-2101"/>
          <p:cNvPicPr/>
          <p:nvPr/>
        </p:nvPicPr>
        <p:blipFill>
          <a:blip r:embed="rId2"/>
          <a:stretch/>
        </p:blipFill>
        <p:spPr>
          <a:xfrm>
            <a:off x="7093080" y="5013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0491-B89B-4F31-ACFF-0458CE9D6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стная премия для учителей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. А.Н. Тепляшиной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PC120057"/>
          <p:cNvPicPr/>
          <p:nvPr/>
        </p:nvPicPr>
        <p:blipFill>
          <a:blip r:embed="rId1"/>
          <a:stretch/>
        </p:blipFill>
        <p:spPr>
          <a:xfrm>
            <a:off x="755640" y="2060640"/>
            <a:ext cx="3168720" cy="4093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god2-2101"/>
          <p:cNvPicPr/>
          <p:nvPr/>
        </p:nvPicPr>
        <p:blipFill>
          <a:blip r:embed="rId2"/>
          <a:stretch/>
        </p:blipFill>
        <p:spPr>
          <a:xfrm>
            <a:off x="7164360" y="4797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C8C1-032A-4964-BE18-A830D5148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ои инновации» -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плом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дкина В.Б, Колесникова Т.А., учителя начальны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оусова Т.В., учитель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SDC10793"/>
          <p:cNvPicPr/>
          <p:nvPr/>
        </p:nvPicPr>
        <p:blipFill>
          <a:blip r:embed="rId1"/>
          <a:stretch/>
        </p:blipFill>
        <p:spPr>
          <a:xfrm>
            <a:off x="1692360" y="1628640"/>
            <a:ext cx="1655640" cy="2186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god2-2101"/>
          <p:cNvPicPr/>
          <p:nvPr/>
        </p:nvPicPr>
        <p:blipFill>
          <a:blip r:embed="rId2"/>
          <a:stretch/>
        </p:blipFill>
        <p:spPr>
          <a:xfrm>
            <a:off x="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эмблема"/>
          <p:cNvPicPr/>
          <p:nvPr/>
        </p:nvPicPr>
        <p:blipFill>
          <a:blip r:embed="rId3"/>
          <a:stretch/>
        </p:blipFill>
        <p:spPr>
          <a:xfrm>
            <a:off x="762804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"/>
          <p:cNvPicPr/>
          <p:nvPr/>
        </p:nvPicPr>
        <p:blipFill>
          <a:blip r:embed="rId4"/>
          <a:stretch/>
        </p:blipFill>
        <p:spPr>
          <a:xfrm>
            <a:off x="1763640" y="4005360"/>
            <a:ext cx="15843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E25A-8C4F-4C4A-82DB-A61F35F0A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«Лучший по профессии-201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учший педагог общего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амара Леонидовна, учитель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1487520" y="2379600"/>
            <a:ext cx="1977840" cy="2967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god2-2101"/>
          <p:cNvPicPr/>
          <p:nvPr/>
        </p:nvPicPr>
        <p:blipFill>
          <a:blip r:embed="rId2"/>
          <a:stretch/>
        </p:blipFill>
        <p:spPr>
          <a:xfrm>
            <a:off x="32400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эмблема"/>
          <p:cNvPicPr/>
          <p:nvPr/>
        </p:nvPicPr>
        <p:blipFill>
          <a:blip r:embed="rId3"/>
          <a:stretch/>
        </p:blipFill>
        <p:spPr>
          <a:xfrm>
            <a:off x="762804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EC0-1E32-42CF-9E3C-F30F4FCD6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учи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учителей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.Ф. – учителе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491C-0566-4B16-91A2-7D83D6BA4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47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эмблема"/>
          <p:cNvPicPr/>
          <p:nvPr/>
        </p:nvPicPr>
        <p:blipFill>
          <a:blip r:embed="rId2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DSC_4325"/>
          <p:cNvPicPr/>
          <p:nvPr/>
        </p:nvPicPr>
        <p:blipFill>
          <a:blip r:embed="rId3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2" descr="Сергеева"/>
          <p:cNvPicPr/>
          <p:nvPr/>
        </p:nvPicPr>
        <p:blipFill>
          <a:blip r:embed="rId4"/>
          <a:stretch/>
        </p:blipFill>
        <p:spPr>
          <a:xfrm rot="1130400">
            <a:off x="1076040" y="4081320"/>
            <a:ext cx="1882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676F-ACDF-4E4E-989F-7F5704975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ные семинары для  учителей иностран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DSCN620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DSCN6209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EF67-1C31-4869-A431-3F7E5E8F6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8F8C-E006-4F1F-911A-0D2FC1B13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ие семинары по работе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P128005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P128005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052-B45D-458A-B719-4C5D52008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пина Елен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нформационной компетентности обучающихся посредством перекодирования информа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1811520" cy="2790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god2-2101"/>
          <p:cNvPicPr/>
          <p:nvPr/>
        </p:nvPicPr>
        <p:blipFill>
          <a:blip r:embed="rId2"/>
          <a:stretch/>
        </p:blipFill>
        <p:spPr>
          <a:xfrm>
            <a:off x="539640" y="5229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4C1-CE2A-4151-8AB4-7D2213CC1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сева Анжелик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гра как форма организации познавательной деятельности младших школьников на уроках английского язы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god2-2101"/>
          <p:cNvPicPr/>
          <p:nvPr/>
        </p:nvPicPr>
        <p:blipFill>
          <a:blip r:embed="rId1"/>
          <a:stretch/>
        </p:blipFill>
        <p:spPr>
          <a:xfrm>
            <a:off x="25092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AE0E-0FBB-4A68-B860-33F8DA9FC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ународ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учно-практиче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спитание чувств школьников через применение авторского песенного репертуара на уроках муз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god2-2101"/>
          <p:cNvPicPr/>
          <p:nvPr/>
        </p:nvPicPr>
        <p:blipFill>
          <a:blip r:embed="rId1"/>
          <a:stretch/>
        </p:blipFill>
        <p:spPr>
          <a:xfrm>
            <a:off x="399564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Фото Мурина"/>
          <p:cNvPicPr/>
          <p:nvPr/>
        </p:nvPicPr>
        <p:blipFill>
          <a:blip r:embed="rId2"/>
          <a:stretch/>
        </p:blipFill>
        <p:spPr>
          <a:xfrm>
            <a:off x="900000" y="1628640"/>
            <a:ext cx="310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6E48-E71B-4D2F-8FC1-063BBCA43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SDC10789 - копия"/>
          <p:cNvPicPr/>
          <p:nvPr/>
        </p:nvPicPr>
        <p:blipFill>
          <a:blip r:embed="rId1"/>
          <a:stretch/>
        </p:blipFill>
        <p:spPr>
          <a:xfrm>
            <a:off x="714240" y="1600200"/>
            <a:ext cx="3522960" cy="2185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DC1089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SDC10910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8DB2-FF33-4FEA-96AD-2661AE07E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5F23-FC9B-4FF6-B681-F277A0F9B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министрация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5" descr="P9010079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72F1-A184-41B3-97F9-933DF0398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ллекти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Новый рисунок"/>
          <p:cNvPicPr/>
          <p:nvPr/>
        </p:nvPicPr>
        <p:blipFill>
          <a:blip r:embed="rId1"/>
          <a:stretch/>
        </p:blipFill>
        <p:spPr>
          <a:xfrm>
            <a:off x="1281240" y="1604880"/>
            <a:ext cx="65800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8702-D365-4143-959F-52A44CB0A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69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25EC-8F92-49AB-A255-9A68F10AC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8 выпускников получили аттестаты, 2 из них – особого образ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 отличие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1654-DF8F-4C77-B62C-AD0531503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D443-E192-496D-8CE8-A7AC412E4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D23A-92B8-443B-B081-5F17E2079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 – 24 чел.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а – 14 чел.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– 9 чел. (2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C494-B9BD-483D-B6ED-0121F07FF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39528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4F51-96AA-4914-A54C-1BCC73191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5"/>
          <p:cNvGraphicFramePr/>
          <p:nvPr/>
        </p:nvGraphicFramePr>
        <p:xfrm>
          <a:off x="46836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2769-044B-40A8-A7EF-AF2892C8F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30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4"/>
          <p:cNvGraphicFramePr/>
          <p:nvPr/>
        </p:nvGraphicFramePr>
        <p:xfrm>
          <a:off x="468360" y="2332080"/>
          <a:ext cx="820584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192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0401-C7F7-4DE0-91DB-CB8601C8A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алисты гимназии с 1995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4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1516-81DC-4AC9-88EA-34DD5D2A5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этап Всероссийской олимпиады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йтинг востребованности предм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– 136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 – 1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– 114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– 9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ка – 9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– 8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– 7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FD5D-5787-4BA7-A6DD-791D8801B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ители и призё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О.Ю. Мих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Литература – Блин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З.П. Серг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усский язык – Сил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Копысова Л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Химия -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Т.Л. Двоеглаз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AED3-94EC-4D8A-B2F8-B7F1ED447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Всероссийской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ылов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копылов кирилл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2CD3-1764-4BCD-AF52-EB00B2A56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бедитель Всероссийской олимпиады по Основам православн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исимов Евг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сина Л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анисимов евгений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36CB-EC18-4D62-A032-82FBE9A27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ный сте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DC10888"/>
          <p:cNvPicPr/>
          <p:nvPr/>
        </p:nvPicPr>
        <p:blipFill>
          <a:blip r:embed="rId1"/>
          <a:stretch/>
        </p:blipFill>
        <p:spPr>
          <a:xfrm>
            <a:off x="2465280" y="1600200"/>
            <a:ext cx="421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86F9-C61A-4414-8F83-656C4F6A5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сты-стипенди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илл Копылов – Стипендиат Правительства Кировской области, Детского фонда, администрации города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нисимов Евгений - Стипендиат Правительства Кировской области,  администрации города Слобод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ладимирова Екатерина – Стипендиат Детского 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18BB-2796-424C-A6A6-9D8B4B1E4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олжение образования выпускников гимназии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 % выпускников 2010 года (38 из 4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упили в высшие учебные за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ГУ им. Ломоносова (Карпова Елена), Московский педагогический государственный университет (Силина Екатерина), Московская академия МЧС (Вылегжанин Максим), Санкт-Петербургская государственная медицинская академия им. Мечникова (Волкова Ксения), ГУ – высшая школа экономики (Барышникова Анастасия)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641D-3040-4BB2-9666-DD43AF55A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7926-339E-4700-813F-9387C040A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гимназ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DSC01831"/>
          <p:cNvPicPr/>
          <p:nvPr/>
        </p:nvPicPr>
        <p:blipFill>
          <a:blip r:embed="rId1"/>
          <a:stretch/>
        </p:blipFill>
        <p:spPr>
          <a:xfrm>
            <a:off x="324000" y="1268280"/>
            <a:ext cx="3489120" cy="2762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Новый рисунок (7)"/>
          <p:cNvPicPr/>
          <p:nvPr/>
        </p:nvPicPr>
        <p:blipFill>
          <a:blip r:embed="rId2"/>
          <a:stretch/>
        </p:blipFill>
        <p:spPr>
          <a:xfrm>
            <a:off x="1100160" y="3938760"/>
            <a:ext cx="27511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03AA-23D5-4233-83E5-C5F5FC5A3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ы в В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дравление ветер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IMG_0013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C425-EE02-4243-A61F-DC71ECFB29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IMG_003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IMG_003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2AA1-0CFA-4B14-B9AD-C68648361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Новый рисунок (1)"/>
          <p:cNvPicPr/>
          <p:nvPr/>
        </p:nvPicPr>
        <p:blipFill>
          <a:blip r:embed="rId1"/>
          <a:stretch/>
        </p:blipFill>
        <p:spPr>
          <a:xfrm>
            <a:off x="1022400" y="1600200"/>
            <a:ext cx="2908080" cy="2185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Новый рисунок (2)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SDC1090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2" descr="SDC108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7FBD-E915-49B5-A66E-E0F1A0978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Новый рисунок"/>
          <p:cNvPicPr/>
          <p:nvPr/>
        </p:nvPicPr>
        <p:blipFill>
          <a:blip r:embed="rId1"/>
          <a:stretch/>
        </p:blipFill>
        <p:spPr>
          <a:xfrm>
            <a:off x="2340000" y="177336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E4F2-C89F-46E8-8E10-4C18FC974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Новый рисунок (6)"/>
          <p:cNvPicPr/>
          <p:nvPr/>
        </p:nvPicPr>
        <p:blipFill>
          <a:blip r:embed="rId1"/>
          <a:stretch/>
        </p:blipFill>
        <p:spPr>
          <a:xfrm>
            <a:off x="1074600" y="1600200"/>
            <a:ext cx="2803680" cy="2185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Новый рисунок (5)"/>
          <p:cNvPicPr/>
          <p:nvPr/>
        </p:nvPicPr>
        <p:blipFill>
          <a:blip r:embed="rId2"/>
          <a:stretch/>
        </p:blipFill>
        <p:spPr>
          <a:xfrm>
            <a:off x="1081080" y="3938760"/>
            <a:ext cx="2790720" cy="2187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Новый рисунок (3)"/>
          <p:cNvPicPr/>
          <p:nvPr/>
        </p:nvPicPr>
        <p:blipFill>
          <a:blip r:embed="rId3"/>
          <a:stretch/>
        </p:blipFill>
        <p:spPr>
          <a:xfrm>
            <a:off x="4881600" y="2505240"/>
            <a:ext cx="35622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8AA-25EE-4BB1-8444-1117542CB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ртив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спартакиаде школьников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Губернаторских состяз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3CAF-EB37-43E1-9572-B7889252B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05-2010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0598-E77A-4A95-BE9F-94237794E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объединения по интересам в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городские учреждения дополните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EFB9-06D0-42F4-A9A4-DE9741F0D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оровьесбере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4"/>
          <p:cNvGraphicFramePr/>
          <p:nvPr/>
        </p:nvGraphicFramePr>
        <p:xfrm>
          <a:off x="539640" y="1557360"/>
          <a:ext cx="405144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05144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2009-2010 учебном году 64,6 % обучающихся имели отклонения в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F861-83A2-43E4-819B-EB12C4015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ая активность и внешние связи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зи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гимназического союза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ассоциации инновационных учреждений Кир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CE5E-B009-43C0-BB3C-82135C20F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международного обмена школьниками по линии Американских советов по образованию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L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SDC1053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SDC10139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SDC1018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DSC0331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5DE8-36EE-42A7-B755-2DBFD7BDB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  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174920" cy="2691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5329080" cy="342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381040" cy="2520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5"/>
          <a:stretch/>
        </p:blipFill>
        <p:spPr>
          <a:xfrm>
            <a:off x="1692360" y="2708280"/>
            <a:ext cx="3887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76D8-D676-40D1-851C-90CBCABA0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1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525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эмблема"/>
          <p:cNvPicPr/>
          <p:nvPr/>
        </p:nvPicPr>
        <p:blipFill>
          <a:blip r:embed="rId3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4" descr="эмблема"/>
          <p:cNvPicPr/>
          <p:nvPr/>
        </p:nvPicPr>
        <p:blipFill>
          <a:blip r:embed="rId4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5" descr="эмблема"/>
          <p:cNvPicPr/>
          <p:nvPr/>
        </p:nvPicPr>
        <p:blipFill>
          <a:blip r:embed="rId5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6AC-94E0-4E5B-9598-5CD0C91AD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юджетная смета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венция на                   Муницип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ю                       составля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а об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 flipH="1">
            <a:off x="2771280" y="1916280"/>
            <a:ext cx="1584360" cy="15858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4427640" y="1916280"/>
            <a:ext cx="1584360" cy="14414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7880-303A-48A4-9B29-F5ACB6234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18" name="_s17412"/>
            <p:cNvCxnSpPr>
              <a:stCxn id="619" idx="0"/>
              <a:endCxn id="620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1" name="_s17413"/>
            <p:cNvCxnSpPr>
              <a:stCxn id="622" idx="0"/>
              <a:endCxn id="620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0" name="_s17414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убвен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17415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17416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Учеб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асх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0765-E43D-4477-BBD3-63E009AFD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ики, учебные пособия (наглядность), учебное оборудование, в том числе компьютеры, подписка на периодическую печать по отрасли «Образование»,  повышение квалификации педагогов (курсы), канцелярские тов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0 году перечень возможных расходов был дополнен учебной мебелью (столы и стуль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CFBB-F0CD-470E-92E1-96CF46EC6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Organization Chart 8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28" name="_s18436"/>
            <p:cNvCxnSpPr>
              <a:stCxn id="629" idx="0"/>
              <a:endCxn id="63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1" name="_s18437"/>
            <p:cNvCxnSpPr>
              <a:stCxn id="632" idx="0"/>
              <a:endCxn id="63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3" name="_s18438"/>
            <p:cNvCxnSpPr>
              <a:stCxn id="634" idx="0"/>
              <a:endCxn id="63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0" name="_s1843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844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05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_s1844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269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1844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52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Пользователь Windows</cp:lastModifiedBy>
  <dcterms:modified xsi:type="dcterms:W3CDTF">2013-04-29T11:52:07Z</dcterms:modified>
  <cp:revision>43</cp:revision>
  <dc:subject/>
  <dc:title>Слайд 1</dc:title>
</cp:coreProperties>
</file>