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-18955080" y="-13464000"/>
            <a:ext cx="37912680" cy="28435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8954720" y="-13463640"/>
            <a:ext cx="37912680" cy="2843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994200" y="9570960"/>
            <a:ext cx="305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8E293D-7749-4F9E-92D7-C16F189F8652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01A-0AAA-452B-A731-B4D3849E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1F6-3FFF-4B87-A65A-E609D09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DCF-8C9A-42D8-9D93-391928CF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27F-3C3C-4461-BF1A-E08E6A63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CE25-8B8D-4443-A769-5B48C08D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C717-1C26-487D-93F2-2CEB3CFE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9297-2103-439F-BDEF-465E9D9E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4AEB-0FBA-41ED-A123-537254F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7B99-BE99-4D45-A086-2DA1F1EC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388-8CFA-4919-B681-C2F4FDD8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C1A2-C2D7-461F-88B5-CC21D60D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96C-D1A1-4A7B-A30E-BBCFBC67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9150-462E-4A0E-BA17-47D0A8A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EA15-1ED3-485C-9922-2481FE4B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3EFB-F677-4DFA-AD5B-A786C9A3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AB62-6397-4AA9-8C33-EE46BD82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7026-C99F-43BD-A543-A921C80E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710-557D-4EB2-ADD9-E922D534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EE1-699A-42CE-83D3-E7A52BBC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311-C146-44E8-B8DC-D87A7C83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6FA-DD3B-400F-933D-EFD08541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122-A205-448B-A1E9-95CB896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D44-D284-4160-B240-A93FB2DB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99E-708C-43E7-9CFD-4FCBD32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7480E7-03B1-487D-BE13-4BECB8559CC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08CC47-1C17-44E7-9028-2DE4F70C694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ge.43edu.ru/" TargetMode="External"/><Relationship Id="rId2" Type="http://schemas.openxmlformats.org/officeDocument/2006/relationships/hyperlink" Target="http://www.ege.43edu.ru/" TargetMode="External"/><Relationship Id="rId3" Type="http://schemas.openxmlformats.org/officeDocument/2006/relationships/hyperlink" Target="http://www.ege.43edu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Рисунок2"/>
          <p:cNvPicPr/>
          <p:nvPr/>
        </p:nvPicPr>
        <p:blipFill>
          <a:blip r:embed="rId1">
            <a:lum bright="12000"/>
          </a:blip>
          <a:srcRect l="0" t="592" r="0" b="0"/>
          <a:stretch/>
        </p:blipFill>
        <p:spPr>
          <a:xfrm>
            <a:off x="4286160" y="642960"/>
            <a:ext cx="4415040" cy="562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497800" cy="508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660033"/>
                </a:solidFill>
                <a:latin typeface="Arial"/>
              </a:rPr>
              <a:t>Организация 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государственной итоговой аттестации обучающихся за курс 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реднего общего образования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 в  2016 году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209196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Минимальная граница по русскому языку для получения аттестата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 балла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, для поступления в вуз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6 баллов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2.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атематике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разделен на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базов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офильн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уровни. Результаты базового ЕГЭ по математике выдаются в отметках по пятибалльной шкале, не переводятся в стобалльную шкалу и не дают возможности участия в конкурсе на поступление в вузы. Результаты профильного ЕГЭ по математике оцениваются в стобалльной системе, и могут быть представлены абитуриентом на конкурс для поступления в вуз. Для школьников сохраняется возможность сдачи математики и на базовом и (или)  на профильном уров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3. Раздел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«Говорение»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в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ностранным языкам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(устная часть) проводится в штатном режиме второй год. Устный экзамен остается доброволь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47B9AB-F5DD-4923-A560-87FFBD8B686F}" type="slidenum">
              <a:rPr b="0" lang="en-US" sz="14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0" y="189000"/>
            <a:ext cx="914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Особенности ЕГЭ по предмет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Расписание экзаме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2600" y="2017800"/>
          <a:ext cx="7566120" cy="4079880"/>
        </p:xfrm>
        <a:graphic>
          <a:graphicData uri="http://schemas.openxmlformats.org/drawingml/2006/table">
            <a:tbl>
              <a:tblPr/>
              <a:tblGrid>
                <a:gridCol w="2165400"/>
                <a:gridCol w="5400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ИА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7 мая (п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еография,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30 ма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усский язы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июня 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8 июн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1 июня (с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остранные языки (уст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4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Биология, иностранные 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6 июня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форматика и ИКТ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0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Физика,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2 - 30 ию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езе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8480" y="620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зервный ден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 совпадении экзаменов в основной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сдавшие ЕГЭ по уважительной причине в основной день (незавершившие или неявившиеся по болезни, удовлетворенная апелляция о нарушении порядка проведения ЕГЭ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должительность экзамен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8920" y="1052640"/>
          <a:ext cx="7772400" cy="5430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форматика и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ст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Иностранные 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Говорение» 1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бществоз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итера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7929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 рабочем столе экзаменуемого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аспорт. В случае отсутствия личность подтверждает сопровождающ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Экзаменационные 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2 черные гелиевые руч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екарства и питание (при необходимос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Доп. материалы по утвержденному перечн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Форма для направления в ГЭК замечаний о нарушениях процедуры проведения ГИ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ополнительные средства, разрешенные к использованию на ЕГЭ (2015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3569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Математика – линей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Физика – линейка и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Химия -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География – линейка, транспортир, непрограммируемый калькулято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о время проведения экзамен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 ППЭ обучающимся запрещаетс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2600" y="201744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меть при себе средства связи, электронно-вычислительную технику, фото, аудио, и видеоаппаратуру, справочные материалы, письменные заметки и иные средства хранения и передачи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Выносить из аудитории ППЭ экз.материалы на бумажных или электронных носителях, фотографировать экз.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ица, нарушившие правила, удаляются с экзам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роки объявления результатов ЕГ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981000"/>
            <a:ext cx="8199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гион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Русский язык – 6 календарных дн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профиль)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базовый) – 3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редметы по выбору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ер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5 рабочих дней с момента получения результатов обработки бланков ЕГЭ из всех субъектов Р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84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1915920"/>
            <a:ext cx="8199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арушении установленного поряд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дается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день проведения экзамена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уполномоченному представителю ГЭК, не покидая ППЭ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не боле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рабочих дн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есогласии с выставленными баллам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подае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течение 2 рабочих дней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о дня объявления результатов ЕГЭ по соответствующему общеобразовательному предмет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более 4 рабочих дней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 момента ее подачи участником ЕГЭ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2285640"/>
            <a:ext cx="8429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.fipi.ru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www.ege.edu.ru</a:t>
            </a:r>
            <a:br>
              <a:rPr sz="32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obrnadzor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gov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ru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ge.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43edu.ru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Телефон для справок 58-41-73 (Наталья Борисовна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1500120" y="8571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  <a:ea typeface="Lucida Sans Unicode"/>
              </a:rPr>
              <a:t>Сайты для раб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трелка вниз 17"/>
          <p:cNvSpPr/>
          <p:nvPr/>
        </p:nvSpPr>
        <p:spPr>
          <a:xfrm rot="506400">
            <a:off x="5084640" y="1919160"/>
            <a:ext cx="642960" cy="20512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трелка вниз 12"/>
          <p:cNvSpPr/>
          <p:nvPr/>
        </p:nvSpPr>
        <p:spPr>
          <a:xfrm rot="20133600">
            <a:off x="2529000" y="2773080"/>
            <a:ext cx="642960" cy="16556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23"/>
          <p:cNvSpPr/>
          <p:nvPr/>
        </p:nvSpPr>
        <p:spPr>
          <a:xfrm rot="2395200">
            <a:off x="6714720" y="4402080"/>
            <a:ext cx="785880" cy="73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трелка вниз 24"/>
          <p:cNvSpPr/>
          <p:nvPr/>
        </p:nvSpPr>
        <p:spPr>
          <a:xfrm rot="21033600">
            <a:off x="3448080" y="1957320"/>
            <a:ext cx="785880" cy="20113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е арифметическо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круглением по правилам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Овал 5"/>
          <p:cNvSpPr/>
          <p:nvPr/>
        </p:nvSpPr>
        <p:spPr>
          <a:xfrm>
            <a:off x="0" y="35002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4572000" y="64296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Овал 9"/>
          <p:cNvSpPr/>
          <p:nvPr/>
        </p:nvSpPr>
        <p:spPr>
          <a:xfrm>
            <a:off x="6786720" y="19288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Овал 10"/>
          <p:cNvSpPr/>
          <p:nvPr/>
        </p:nvSpPr>
        <p:spPr>
          <a:xfrm>
            <a:off x="714240" y="1857240"/>
            <a:ext cx="235764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трелка вниз 13"/>
          <p:cNvSpPr/>
          <p:nvPr/>
        </p:nvSpPr>
        <p:spPr>
          <a:xfrm rot="18945600">
            <a:off x="1522440" y="4278240"/>
            <a:ext cx="642960" cy="9129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трелка вниз 16"/>
          <p:cNvSpPr/>
          <p:nvPr/>
        </p:nvSpPr>
        <p:spPr>
          <a:xfrm rot="1908600">
            <a:off x="6103440" y="2491920"/>
            <a:ext cx="642960" cy="19605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25"/>
          <p:cNvSpPr/>
          <p:nvPr/>
        </p:nvSpPr>
        <p:spPr>
          <a:xfrm>
            <a:off x="2428920" y="5429160"/>
            <a:ext cx="4286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Отметки в аттеста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Овал 18"/>
          <p:cNvSpPr/>
          <p:nvPr/>
        </p:nvSpPr>
        <p:spPr>
          <a:xfrm>
            <a:off x="6786720" y="357192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Овал 20"/>
          <p:cNvSpPr/>
          <p:nvPr/>
        </p:nvSpPr>
        <p:spPr>
          <a:xfrm>
            <a:off x="2071800" y="71424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504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Объект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8565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Медали: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91628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ттестат с отличием и Золотая меда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только «5» в аттеста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еребряная меда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егионального уровня): не более двух «4» за каждое полугодие и год за 10 - 11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1714680"/>
            <a:ext cx="77724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К государственной итоговой аттестации допускается обучающийся, не имеющие академической задолженности, в том числе з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тоговое сочинение (изложение),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 в полном объеме выполнившие учебный план или индивидуальный учебный план (имеющ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довые отметки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о всем  учебным предметам учебного плана за каждый год обучения по образовательной программе среднего общ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ниже удовлетворительных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ИА-11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нормативные правовые 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казы Минобрнауки 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.12.2013 № 1400 «Об утверждении Порядка проведения ГИА по образовательным программам СОО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6.2013 № 491 «Об утверждении Порядка  аккредитации граждан в качестве общественных наблюдателей при проведении ГИА по образовательным программам ООО и СОО, всероссийской олимпиады школьников и олимпиад школьников» (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ред. от 19.05.2014 № 55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24963" t="9641" r="24652" b="12357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  <p:sp>
        <p:nvSpPr>
          <p:cNvPr id="128" name="Овал 2"/>
          <p:cNvSpPr/>
          <p:nvPr/>
        </p:nvSpPr>
        <p:spPr>
          <a:xfrm>
            <a:off x="900000" y="3232080"/>
            <a:ext cx="12240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86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ЕГЭ в мае-июне 2016 год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основной пери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язательная ГИА, завершающая освоение имеющих государственную аккредитацию основных образовательных программ средне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658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ЕГЭ в сентябре 2016 года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дополнительный срок для пересдач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4200" y="1857240"/>
            <a:ext cx="8740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удет разрешена сдача ЕГЭ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пециализированных центрах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ентябре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не более 1 раза обучающимся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на ЕГЭ неудовлетворительные результаты более чем по 1 обязательному предмету (русский яз. 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повторно неудовлетворительный результат по 1 из обязательных предметов (русский яз. ил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еодолевшим минимальный порог по предметам по выбор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ошедшим ГИА по уважительной причин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699920"/>
            <a:ext cx="8199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февраля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заявление с указанием перечня общеобразовательных предметов, по которым планируют сдавать ЕГЭ в текущем го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Сдаваемые предмет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Обязательные – русский язык, матема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 выбору – литература, физика, химия, биология, география, история, обществознание, иностранные языки, информатика и ИК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Борисовна Дубовцева</dc:creator>
  <dc:description/>
  <dc:language>en-US</dc:language>
  <cp:lastModifiedBy>Наталья Борисовна Дубовцева</cp:lastModifiedBy>
  <cp:lastPrinted>2016-02-11T11:17:51Z</cp:lastPrinted>
  <dcterms:modified xsi:type="dcterms:W3CDTF">2016-02-11T14:00:24Z</dcterms:modified>
  <cp:revision>1021</cp:revision>
  <dc:subject/>
  <dc:title>Государственная (итоговая) аттестация выпускников IX классов общеобразовательных учреждений Российской Федерации</dc:title>
</cp:coreProperties>
</file>