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3"/>
          <p:cNvSpPr/>
          <p:nvPr/>
        </p:nvSpPr>
        <p:spPr>
          <a:xfrm>
            <a:off x="0" y="0"/>
            <a:ext cx="6858000" cy="99471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47160"/>
              <a:gd name="textAreaBottom" fmla="*/ 9946800 h 9947160"/>
            </a:gdLst>
            <a:ahLst/>
            <a:rect l="textAreaLeft" t="textAreaTop" r="textAreaRight" b="textAreaBottom"/>
            <a:pathLst>
              <a:path w="21600" h="31329">
                <a:moveTo>
                  <a:pt x="5" y="0"/>
                </a:moveTo>
                <a:arcTo wR="5" hR="5" stAng="16200000" swAng="-5400000"/>
                <a:lnTo>
                  <a:pt x="0" y="31324"/>
                </a:lnTo>
                <a:arcTo wR="5" hR="5" stAng="10800000" swAng="-5400000"/>
                <a:lnTo>
                  <a:pt x="21595" y="3132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noAutofit/>
          </a:bodyPr>
          <a:p>
            <a:pPr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-18955080" y="-13464000"/>
            <a:ext cx="37912680" cy="28435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79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-18954720" y="-13463640"/>
            <a:ext cx="37912680" cy="284353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799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994200" y="9570960"/>
            <a:ext cx="3056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BBA8C2-24F3-4D2B-9034-7C607C882208}" type="slidenum"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CE5A-9F49-4688-B6EB-49DB18BB5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C237-FCED-48EF-A1F3-4C9318EF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06BB-26F6-4849-BD55-C035C77E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39E8-9790-4878-9BA4-221E9EB52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2558-F18A-4398-B9C7-501F0A06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13A7-A100-4074-A80E-13E37ACC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9E77-2BA9-4193-8375-8D363154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94C3-0C9A-4477-92BF-A26997DAA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C1F5-8C88-48F9-B872-89261067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AD70-3918-49A3-8BEC-295D286C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83FF-3EF1-4C5C-9490-57AD75D5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0C74-BB7D-4BC3-8D8D-C41AE5CB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6B00-5AE9-4372-B364-CA688C6B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4E42-2666-454D-A560-55E5A7F91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BC15-F18D-4DAC-A3BB-128EABBB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FC3DE-F45C-488D-8A95-C6BC8CFA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BE23-CFDB-45EC-BC1A-0F859D3E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2A10-F44D-4792-9771-9769B8C5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28F2-F7CD-4B28-8E51-832067A6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6FFA-D848-4B80-A072-B451433D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A340-3443-4895-BD5E-71497ECD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33B0-805B-44D3-92C0-AE550468F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4D22-08D2-4A32-B050-9E7B3555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0726-64D6-492F-99B6-A645245C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F5236E9-B599-4377-A421-62732817141F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5043E32-562B-4470-8093-AE2BEC4B11E5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ge.43edu.ru/" TargetMode="External"/><Relationship Id="rId2" Type="http://schemas.openxmlformats.org/officeDocument/2006/relationships/hyperlink" Target="http://www.ege.43edu.ru/" TargetMode="External"/><Relationship Id="rId3" Type="http://schemas.openxmlformats.org/officeDocument/2006/relationships/hyperlink" Target="http://www.ege.43edu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Рисунок2"/>
          <p:cNvPicPr/>
          <p:nvPr/>
        </p:nvPicPr>
        <p:blipFill>
          <a:blip r:embed="rId1">
            <a:lum bright="12000"/>
          </a:blip>
          <a:srcRect l="0" t="592" r="0" b="0"/>
          <a:stretch/>
        </p:blipFill>
        <p:spPr>
          <a:xfrm>
            <a:off x="4286160" y="642960"/>
            <a:ext cx="4415040" cy="5626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4920" y="1341000"/>
            <a:ext cx="8497800" cy="5087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1" lang="ru-RU" sz="3800" spc="-1" strike="noStrike">
                <a:solidFill>
                  <a:srgbClr val="660033"/>
                </a:solidFill>
                <a:latin typeface="Arial"/>
              </a:rPr>
              <a:t>Организация </a:t>
            </a: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государственной итоговой аттестации обучающихся за курс </a:t>
            </a:r>
            <a:br>
              <a:rPr sz="4000"/>
            </a:b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среднего общего образования</a:t>
            </a:r>
            <a:br>
              <a:rPr sz="4000"/>
            </a:b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 в  2016 году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24000" y="2091960"/>
            <a:ext cx="849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Cambria"/>
              </a:rPr>
              <a:t>.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Минимальная граница по русскому языку для получения аттестата –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24 балла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, для поступления в вуз –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36 баллов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2. ЕГЭ по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математике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 разделен на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базовый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 и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профильный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 уровни. Результаты базового ЕГЭ по математике выдаются в отметках по пятибалльной шкале, не переводятся в стобалльную шкалу и не дают возможности участия в конкурсе на поступление в вузы. Результаты профильного ЕГЭ по математике оцениваются в стобалльной системе, и могут быть представлены абитуриентом на конкурс для поступления в вуз. Для школьников сохраняется возможность сдачи математики и на базовом и (или)  на профильном уровн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3. Раздел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«Говорение»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в ЕГЭ по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иностранным языкам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(устная часть) проводится в штатном режиме второй год. Устный экзамен остается добровольны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0F78CE-6D40-41FB-A9CA-C31EA85A6C6C}" type="slidenum">
              <a:rPr b="0" lang="en-US" sz="14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Скругленный прямоугольник 4"/>
          <p:cNvSpPr/>
          <p:nvPr/>
        </p:nvSpPr>
        <p:spPr>
          <a:xfrm>
            <a:off x="0" y="189000"/>
            <a:ext cx="9144000" cy="863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Особенности ЕГЭ по предмета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Расписание экзаменов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82600" y="2017800"/>
          <a:ext cx="7566120" cy="4079880"/>
        </p:xfrm>
        <a:graphic>
          <a:graphicData uri="http://schemas.openxmlformats.org/drawingml/2006/table">
            <a:tbl>
              <a:tblPr/>
              <a:tblGrid>
                <a:gridCol w="2165400"/>
                <a:gridCol w="540072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Да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ГИА 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7 мая (п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География, литерату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30 мая (с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Русский язык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 июня  (ч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Математика  (базов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69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6 июня (пн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Математика (профильный уровен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8 июня (ср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Обществозн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11 июня (с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Иностранные языки (устная част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14 июня (пн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Биология, иностранные язы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16 июня (чт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Информатика и ИКТ, исто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0 июня (пн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Физика, хим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22 - 30 июн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Резер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8480" y="62028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Резервный день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ри совпадении экзаменов в основной ден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е сдавшие ЕГЭ по уважительной причине в основной день (незавершившие или неявившиеся по болезни, удовлетворенная апелляция о нарушении порядка проведения ЕГЭ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Продолжительность экзамен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58920" y="1052640"/>
          <a:ext cx="7772400" cy="5430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1 клас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Русский язы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30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тематика 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Математика 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Физ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Хим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30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Информатика и И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Биолог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Истор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Географ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70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Calibri"/>
                        </a:rPr>
                        <a:t>Иностранные язы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«Говорение» 1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Обществознани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98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  <a:ea typeface="Times New Roman"/>
                        </a:rPr>
                        <a:t>Литератур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 ч 55 м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9720" y="428760"/>
            <a:ext cx="7792920" cy="78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На рабочем столе экзаменуемого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Паспорт. В случае отсутствия личность подтверждает сопровождающ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Экзаменационные материал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2 черные гелиевые руч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Лекарства и питание (при необходимости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Доп. материалы по утвержденному перечн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Форма для направления в ГЭК замечаний о нарушениях процедуры проведения ГИ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Дополнительные средства, разрешенные к использованию на ЕГЭ (2015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2600" y="2356920"/>
            <a:ext cx="7772400" cy="37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ahoma"/>
              </a:rPr>
              <a:t>Математика – линей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ahoma"/>
              </a:rPr>
              <a:t>Физика – линейка и непрограммируемый калькулятор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ahoma"/>
              </a:rPr>
              <a:t>Химия - непрограммируемый калькулятор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ahoma"/>
              </a:rPr>
              <a:t>География – линейка, транспортир, непрограммируемый калькулято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Во время проведения экзамена </a:t>
            </a:r>
            <a:br>
              <a:rPr sz="2800"/>
            </a:b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в ППЭ обучающимся запрещается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82600" y="2017440"/>
            <a:ext cx="777240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Иметь при себе средства связи, электронно-вычислительную технику, фото, аудио, и видеоаппаратуру, справочные материалы, письменные заметки и иные средства хранения и передачи информ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Выносить из аудитории ППЭ экз.материалы на бумажных или электронных носителях, фотографировать экз.материал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Лица, нарушившие правила, удаляются с экзаме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Сроки объявления результатов ЕГЭ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55640" y="981000"/>
            <a:ext cx="8199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62673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гиональный уров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Русский язык – 6 календарных дн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Математика (профиль) – 4 календарных д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Математика (базовый) – 3 календарных д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Предметы по выбору – 4 календарных дн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Федеральный уровен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Не позднее 5 рабочих дней с момента получения результатов обработки бланков ЕГЭ из всех субъектов РФ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68492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Единый государственный экзамен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755640" y="1915920"/>
            <a:ext cx="8199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пелляция о нарушении установленного порядк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-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подается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день проведения экзамена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уполномоченному представителю ГЭК, не покидая ППЭ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- рассматривается конфликтной комиссией не более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2 рабочих дн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пелляция о несогласии с выставленными баллами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- подается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течение 2 рабочих дней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со дня объявления результатов ЕГЭ по соответствующему общеобразовательному предмету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- рассматривается конфликтной комиссией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 более 4 рабочих дней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с момента ее подачи участником ЕГЭ</a:t>
            </a: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.</a:t>
            </a: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 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8400" y="2285640"/>
            <a:ext cx="8429400" cy="26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3399"/>
                </a:solidFill>
                <a:latin typeface="Tahoma"/>
              </a:rPr>
              <a:t> 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www.fipi.ru</a:t>
            </a: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www.ege.edu.ru</a:t>
            </a:r>
            <a:br>
              <a:rPr sz="3200"/>
            </a:b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www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obrnadzor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gov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.</a:t>
            </a:r>
            <a:r>
              <a:rPr b="1" lang="en-US" sz="3200" spc="-1" strike="noStrike">
                <a:solidFill>
                  <a:srgbClr val="262673"/>
                </a:solidFill>
                <a:latin typeface="Tahoma"/>
              </a:rPr>
              <a:t>ru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ege.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43edu.ru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Телефон для справок 58-41-73 (Наталья Борисовна)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Прямоугольник 2"/>
          <p:cNvSpPr/>
          <p:nvPr/>
        </p:nvSpPr>
        <p:spPr>
          <a:xfrm>
            <a:off x="1500120" y="85716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ahoma"/>
                <a:ea typeface="Lucida Sans Unicode"/>
              </a:rPr>
              <a:t>Сайты для работ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Стрелка вниз 17"/>
          <p:cNvSpPr/>
          <p:nvPr/>
        </p:nvSpPr>
        <p:spPr>
          <a:xfrm rot="506400">
            <a:off x="5084640" y="1919160"/>
            <a:ext cx="642960" cy="205128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Стрелка вниз 12"/>
          <p:cNvSpPr/>
          <p:nvPr/>
        </p:nvSpPr>
        <p:spPr>
          <a:xfrm rot="20133600">
            <a:off x="2529000" y="2773080"/>
            <a:ext cx="642960" cy="165564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Стрелка вниз 23"/>
          <p:cNvSpPr/>
          <p:nvPr/>
        </p:nvSpPr>
        <p:spPr>
          <a:xfrm rot="2395200">
            <a:off x="6714720" y="4402080"/>
            <a:ext cx="785880" cy="731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Стрелка вниз 24"/>
          <p:cNvSpPr/>
          <p:nvPr/>
        </p:nvSpPr>
        <p:spPr>
          <a:xfrm rot="21033600">
            <a:off x="3448080" y="1957320"/>
            <a:ext cx="785880" cy="2011320"/>
          </a:xfrm>
          <a:prstGeom prst="downArrow">
            <a:avLst>
              <a:gd name="adj1" fmla="val 50000"/>
              <a:gd name="adj2" fmla="val 49990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еднее арифметическо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 округлением по правилам математи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Овал 5"/>
          <p:cNvSpPr/>
          <p:nvPr/>
        </p:nvSpPr>
        <p:spPr>
          <a:xfrm>
            <a:off x="0" y="350028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 полугод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0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Овал 8"/>
          <p:cNvSpPr/>
          <p:nvPr/>
        </p:nvSpPr>
        <p:spPr>
          <a:xfrm>
            <a:off x="4572000" y="64296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 полугод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1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Овал 9"/>
          <p:cNvSpPr/>
          <p:nvPr/>
        </p:nvSpPr>
        <p:spPr>
          <a:xfrm>
            <a:off x="6786720" y="192888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2 полугод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1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Овал 10"/>
          <p:cNvSpPr/>
          <p:nvPr/>
        </p:nvSpPr>
        <p:spPr>
          <a:xfrm>
            <a:off x="714240" y="1857240"/>
            <a:ext cx="235764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2 полугодие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0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Стрелка вниз 13"/>
          <p:cNvSpPr/>
          <p:nvPr/>
        </p:nvSpPr>
        <p:spPr>
          <a:xfrm rot="18945600">
            <a:off x="1522440" y="4278240"/>
            <a:ext cx="642960" cy="91296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Стрелка вниз 16"/>
          <p:cNvSpPr/>
          <p:nvPr/>
        </p:nvSpPr>
        <p:spPr>
          <a:xfrm rot="1908600">
            <a:off x="6103440" y="2491920"/>
            <a:ext cx="642960" cy="196056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Скругленный прямоугольник 25"/>
          <p:cNvSpPr/>
          <p:nvPr/>
        </p:nvSpPr>
        <p:spPr>
          <a:xfrm>
            <a:off x="2428920" y="5429160"/>
            <a:ext cx="4286160" cy="1143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Отметки в аттестат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Овал 18"/>
          <p:cNvSpPr/>
          <p:nvPr/>
        </p:nvSpPr>
        <p:spPr>
          <a:xfrm>
            <a:off x="6786720" y="357192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1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Овал 20"/>
          <p:cNvSpPr/>
          <p:nvPr/>
        </p:nvSpPr>
        <p:spPr>
          <a:xfrm>
            <a:off x="2071800" y="714240"/>
            <a:ext cx="2357280" cy="785880"/>
          </a:xfrm>
          <a:prstGeom prst="ellipse">
            <a:avLst/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ad8c01"/>
                </a:solidFill>
                <a:latin typeface="Tahoma"/>
              </a:rPr>
              <a:t>10 клас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-504000"/>
            <a:ext cx="7792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7" name="Объект 3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82803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79640" y="620640"/>
            <a:ext cx="685656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99"/>
                </a:solidFill>
                <a:latin typeface="Tahoma"/>
              </a:rPr>
              <a:t>Медали: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82600" y="1916280"/>
            <a:ext cx="77724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ттестат с отличием и Золотая медаль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: только «5» в аттестат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еребряная медаль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регионального уровня): не более двух «4» за каждое полугодие и год за 10 - 11 клас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660033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2600" y="1714680"/>
            <a:ext cx="7772400" cy="44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К государственной итоговой аттестации допускается обучающийся, не имеющие академической задолженности, в том числе за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тоговое сочинение (изложение), 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и в полном объеме выполнившие учебный план или индивидуальный учебный план (имеющи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одовые отметки 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по всем  учебным предметам учебного плана за каждый год обучения по образовательной программе среднего общего образовани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 ниже удовлетворительных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ГИА-11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Tahoma"/>
              </a:rPr>
              <a:t>нормативные правовые акт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казы Минобрнауки Росс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6.12.2013 № 1400 «Об утверждении Порядка проведения ГИА по образовательным программам СОО»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28.06.2013 № 491 «Об утверждении Порядка  аккредитации граждан в качестве общественных наблюдателей при проведении ГИА по образовательным программам ООО и СОО, всероссийской олимпиады школьников и олимпиад школьников» (</a:t>
            </a:r>
            <a:r>
              <a:rPr b="0" lang="ru-RU" sz="24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в ред. от 19.05.2014 № 55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Рисунок 1" descr=""/>
          <p:cNvPicPr/>
          <p:nvPr/>
        </p:nvPicPr>
        <p:blipFill>
          <a:blip r:embed="rId1"/>
          <a:srcRect l="24963" t="9641" r="24652" b="12357"/>
          <a:stretch/>
        </p:blipFill>
        <p:spPr>
          <a:xfrm>
            <a:off x="324000" y="260280"/>
            <a:ext cx="8496000" cy="6193080"/>
          </a:xfrm>
          <a:prstGeom prst="rect">
            <a:avLst/>
          </a:prstGeom>
          <a:ln w="0">
            <a:noFill/>
          </a:ln>
        </p:spPr>
      </p:pic>
      <p:sp>
        <p:nvSpPr>
          <p:cNvPr id="128" name="Овал 2"/>
          <p:cNvSpPr/>
          <p:nvPr/>
        </p:nvSpPr>
        <p:spPr>
          <a:xfrm>
            <a:off x="900000" y="3232080"/>
            <a:ext cx="122400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5867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ЕГЭ в мае-июне 2016 года</a:t>
            </a:r>
            <a:br>
              <a:rPr sz="4400"/>
            </a:br>
            <a:r>
              <a:rPr b="1" lang="ru-RU" sz="4400" spc="-1" strike="noStrike">
                <a:solidFill>
                  <a:srgbClr val="00b050"/>
                </a:solidFill>
                <a:latin typeface="Tahoma"/>
              </a:rPr>
              <a:t>основной период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Обязательная ГИА, завершающая освоение имеющих государственную аккредитацию основных образовательных программ среднего общего образов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86580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ЕГЭ в сентябре 2016 года</a:t>
            </a:r>
            <a:br>
              <a:rPr sz="3600"/>
            </a:br>
            <a:r>
              <a:rPr b="1" lang="ru-RU" sz="3600" spc="-1" strike="noStrike">
                <a:solidFill>
                  <a:srgbClr val="00b050"/>
                </a:solidFill>
                <a:latin typeface="Tahoma"/>
              </a:rPr>
              <a:t>дополнительный срок для пересдач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14200" y="1857240"/>
            <a:ext cx="874080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Будет разрешена сдача ЕГЭ </a:t>
            </a:r>
            <a:r>
              <a:rPr b="1" lang="ru-RU" sz="2200" spc="-1" strike="noStrike">
                <a:solidFill>
                  <a:srgbClr val="ff0000"/>
                </a:solidFill>
                <a:latin typeface="Tahoma"/>
              </a:rPr>
              <a:t>в специализированных центрах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Tahoma"/>
              </a:rPr>
              <a:t>в сентябре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 не более 1 раза обучающимся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получившим на ЕГЭ неудовлетворительные результаты более чем по 1 обязательному предмету (русский яз. и математика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получившим повторно неудовлетворительный результат по 1 из обязательных предметов (русский яз. или математика)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не преодолевшим минимальный порог по предметам по выбору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не прошедшим ГИА по уважительной причине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ahoma"/>
              </a:rPr>
              <a:t>Единый государственный экзамен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11280" y="1699920"/>
            <a:ext cx="8199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не позднее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 февраля </a:t>
            </a:r>
            <a:r>
              <a:rPr b="1" lang="ru-RU" sz="2400" spc="-1" strike="noStrike">
                <a:solidFill>
                  <a:srgbClr val="262673"/>
                </a:solidFill>
                <a:latin typeface="Tahoma"/>
              </a:rPr>
              <a:t>- заявление с указанием перечня общеобразовательных предметов, по которым планируют сдавать ЕГЭ в текущем год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Tahoma"/>
              </a:rPr>
              <a:t>Сдаваемые предмет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Обязательные – русский язык, математи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62673"/>
                </a:solidFill>
                <a:latin typeface="Tahoma"/>
              </a:rPr>
              <a:t>По выбору – литература, физика, химия, биология, география, история, обществознание, иностранные языки, информатика и ИК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талья Борисовна Дубовцева</dc:creator>
  <dc:description/>
  <dc:language>en-US</dc:language>
  <cp:lastModifiedBy>Наталья Борисовна Дубовцева</cp:lastModifiedBy>
  <cp:lastPrinted>2016-02-11T11:17:51Z</cp:lastPrinted>
  <dcterms:modified xsi:type="dcterms:W3CDTF">2016-02-11T14:00:24Z</dcterms:modified>
  <cp:revision>1021</cp:revision>
  <dc:subject/>
  <dc:title>Государственная (итоговая) аттестация выпускников IX классов общеобразовательных учреждений Российской Федерации</dc:title>
</cp:coreProperties>
</file>